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D10-38AF-4EC1-A225-C26B501C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614-5277-47DE-B337-785C23F0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46E-1A17-4A23-8417-83C8DA08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A1C5-C94B-4A84-8522-F2519AF7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7B9-42B1-42C2-B721-229ED709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783-9937-4B7A-AB5F-54BB69FF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02E-D44D-4A4C-AE19-7D3C2573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148-7511-4371-B1C6-790D5BC9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9E2-8C67-485F-80D5-A5685A4D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48A-9D11-4499-BCF0-9294AEB0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7247-C2F8-40D7-A4EF-4E997E17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3F2-A1E8-4AD6-B50D-6E30179A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3EAC-B129-4B8C-AEF1-64E0ED143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619280" y="206064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加法交换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3514320" y="49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学四年级下册数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42784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5DAF-DF9C-4C14-917E-B9A850F48D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981000"/>
            <a:ext cx="3132000" cy="1440000"/>
          </a:xfrm>
          <a:prstGeom prst="cloudCallout">
            <a:avLst>
              <a:gd name="adj1" fmla="val -15634"/>
              <a:gd name="adj2" fmla="val 33680"/>
            </a:avLst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7+2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2771640" y="907920"/>
            <a:ext cx="3095640" cy="1584360"/>
          </a:xfrm>
          <a:prstGeom prst="cloudCallout">
            <a:avLst>
              <a:gd name="adj1" fmla="val -1078"/>
              <a:gd name="adj2" fmla="val 25351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44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56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5867280" y="981000"/>
            <a:ext cx="3276720" cy="1440000"/>
          </a:xfrm>
          <a:prstGeom prst="cloudCallout">
            <a:avLst>
              <a:gd name="adj1" fmla="val -44236"/>
              <a:gd name="adj2" fmla="val 69953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180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20=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3357720"/>
            <a:ext cx="3025800" cy="1726920"/>
          </a:xfrm>
          <a:prstGeom prst="cloudCallout">
            <a:avLst>
              <a:gd name="adj1" fmla="val 43231"/>
              <a:gd name="adj2" fmla="val -2068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1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2700360" y="3429000"/>
            <a:ext cx="3529080" cy="1655640"/>
          </a:xfrm>
          <a:prstGeom prst="cloudCallout">
            <a:avLst>
              <a:gd name="adj1" fmla="val 44199"/>
              <a:gd name="adj2" fmla="val -23731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23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5867280" y="3573360"/>
            <a:ext cx="3276720" cy="1584360"/>
          </a:xfrm>
          <a:prstGeom prst="cloudCallout">
            <a:avLst>
              <a:gd name="adj1" fmla="val 31736"/>
              <a:gd name="adj2" fmla="val -271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185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15=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0920" y="40464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李叔叔骑自行车去旅行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上午行驶了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下午行驶了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56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李叔叔一天一共行驶了多少千米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299736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40+56=96(</a:t>
            </a:r>
            <a:r>
              <a:rPr b="0" lang="zh-CN" sz="4800" spc="-1" strike="noStrike">
                <a:solidFill>
                  <a:srgbClr val="009900"/>
                </a:solidFill>
                <a:latin typeface="Arial"/>
              </a:rPr>
              <a:t>千米</a:t>
            </a: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572000" y="2997360"/>
            <a:ext cx="43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宋体"/>
              </a:rPr>
              <a:t>56+40=96(</a:t>
            </a:r>
            <a:r>
              <a:rPr b="1" lang="zh-CN" sz="4800" spc="-1" strike="noStrike">
                <a:solidFill>
                  <a:srgbClr val="009900"/>
                </a:solidFill>
                <a:latin typeface="宋体"/>
              </a:rPr>
              <a:t>千米</a:t>
            </a:r>
            <a:r>
              <a:rPr b="1" lang="en-US" sz="4800" spc="-1" strike="noStrike">
                <a:solidFill>
                  <a:srgbClr val="009900"/>
                </a:solidFill>
                <a:latin typeface="宋体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411280" y="472428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40+5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003640" y="472428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56+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4284720" y="4797360"/>
            <a:ext cx="647640" cy="647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356000" y="472428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50920" y="1268280"/>
            <a:ext cx="863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加法交换律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个数相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交换加数的位置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和不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332360" y="3068640"/>
            <a:ext cx="557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 + 56 = 56 +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187640" y="4191120"/>
            <a:ext cx="557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8 + 60 = 60 + 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7093080" y="314172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4800" spc="-1" strike="noStrike">
                <a:solidFill>
                  <a:srgbClr val="ff6600"/>
                </a:solidFill>
                <a:latin typeface="宋体"/>
              </a:rPr>
              <a:t>(</a:t>
            </a:r>
            <a:r>
              <a:rPr b="0" lang="zh-CN" sz="4800" spc="-1" strike="noStrike">
                <a:solidFill>
                  <a:srgbClr val="ff6600"/>
                </a:solidFill>
                <a:latin typeface="宋体"/>
              </a:rPr>
              <a:t>对</a:t>
            </a:r>
            <a:r>
              <a:rPr b="0" lang="en-US" sz="4800" spc="-1" strike="noStrike">
                <a:solidFill>
                  <a:srgbClr val="ff6600"/>
                </a:solidFill>
                <a:latin typeface="宋体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7597080" y="4211640"/>
            <a:ext cx="11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宋体"/>
              </a:rPr>
              <a:t>(</a:t>
            </a:r>
            <a:r>
              <a:rPr b="1" lang="zh-CN" sz="4400" spc="-1" strike="noStrike">
                <a:solidFill>
                  <a:srgbClr val="ff6600"/>
                </a:solidFill>
                <a:latin typeface="宋体"/>
              </a:rPr>
              <a:t>错</a:t>
            </a:r>
            <a:r>
              <a:rPr b="1" lang="en-US" sz="4400" spc="-1" strike="noStrike">
                <a:solidFill>
                  <a:srgbClr val="ff6600"/>
                </a:solidFill>
                <a:latin typeface="宋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68360" y="126828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加法交换律</a:t>
            </a: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两个数相加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交        换加数的位置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和不变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124000" y="3429000"/>
            <a:ext cx="55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00"/>
                </a:solidFill>
                <a:latin typeface="Arial"/>
              </a:rPr>
              <a:t>a+b=b+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905480" y="1855440"/>
            <a:ext cx="618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766+589=589+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      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201320" y="3800160"/>
            <a:ext cx="67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00+600=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     ）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    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168280" y="4736520"/>
            <a:ext cx="591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15=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     ）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     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257120" y="5673240"/>
            <a:ext cx="609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     ）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65=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     ）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680840" y="2780640"/>
            <a:ext cx="528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     ）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55=55+4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6516720" y="1844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76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2050920" y="2852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4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4140360" y="3789360"/>
            <a:ext cx="12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6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6588000" y="38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6948360" y="47242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4211640" y="4797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4932360" y="57340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692360" y="57340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7"/>
          <p:cNvSpPr/>
          <p:nvPr/>
        </p:nvSpPr>
        <p:spPr>
          <a:xfrm>
            <a:off x="395280" y="564120"/>
            <a:ext cx="83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6600"/>
                </a:solidFill>
                <a:latin typeface="宋体"/>
              </a:rPr>
              <a:t>运用加法交换律在括号里填上合适的数</a:t>
            </a:r>
            <a:r>
              <a:rPr b="1" lang="en-US" sz="4000" spc="-1" strike="noStrike">
                <a:solidFill>
                  <a:srgbClr val="ff66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31920" y="631440"/>
            <a:ext cx="88120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判断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下面的算式符合加法交换律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70+380=380+2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400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971640" y="400536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5 + 56 = 56 + 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26000" y="4952520"/>
            <a:ext cx="50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 + 10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00 + 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978840" y="2824200"/>
            <a:ext cx="480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 800= 800 +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11280" y="1557360"/>
          <a:ext cx="7848360" cy="4695840"/>
        </p:xfrm>
        <a:graphic>
          <a:graphicData uri="http://schemas.openxmlformats.org/drawingml/2006/table">
            <a:tbl>
              <a:tblPr/>
              <a:tblGrid>
                <a:gridCol w="1569600"/>
                <a:gridCol w="1569960"/>
                <a:gridCol w="1568520"/>
                <a:gridCol w="1569960"/>
                <a:gridCol w="15703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7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9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7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9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50"/>
          <p:cNvSpPr/>
          <p:nvPr/>
        </p:nvSpPr>
        <p:spPr>
          <a:xfrm>
            <a:off x="2487240" y="22766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1"/>
          <p:cNvSpPr/>
          <p:nvPr/>
        </p:nvSpPr>
        <p:spPr>
          <a:xfrm>
            <a:off x="3924360" y="227664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1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2"/>
          <p:cNvSpPr/>
          <p:nvPr/>
        </p:nvSpPr>
        <p:spPr>
          <a:xfrm>
            <a:off x="2268360" y="328464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1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3"/>
          <p:cNvSpPr/>
          <p:nvPr/>
        </p:nvSpPr>
        <p:spPr>
          <a:xfrm>
            <a:off x="324000" y="4762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宋体"/>
              </a:rPr>
              <a:t>填表</a:t>
            </a:r>
            <a:r>
              <a:rPr b="1" lang="en-US" sz="4000" spc="-1" strike="noStrike">
                <a:solidFill>
                  <a:srgbClr val="ff66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宋体"/>
              </a:rPr>
              <a:t>你能发现表中的数有什么特点</a:t>
            </a:r>
            <a:r>
              <a:rPr b="1" lang="en-US" sz="4000" spc="-1" strike="noStrike">
                <a:solidFill>
                  <a:srgbClr val="ff6600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4"/>
          <p:cNvSpPr/>
          <p:nvPr/>
        </p:nvSpPr>
        <p:spPr>
          <a:xfrm>
            <a:off x="5435640" y="227664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1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5"/>
          <p:cNvSpPr/>
          <p:nvPr/>
        </p:nvSpPr>
        <p:spPr>
          <a:xfrm>
            <a:off x="6948360" y="227664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3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53120" y="1094760"/>
            <a:ext cx="739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25+49+75=</a:t>
            </a: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（ ）</a:t>
            </a: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（ ）</a:t>
            </a: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（ 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048320" y="4724280"/>
            <a:ext cx="554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+49+75=25+75+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77040" y="3716280"/>
            <a:ext cx="554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+49+75=49+25+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977040" y="2637000"/>
            <a:ext cx="554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+49+75=75+49+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"/>
          <p:cNvSpPr/>
          <p:nvPr/>
        </p:nvSpPr>
        <p:spPr>
          <a:xfrm>
            <a:off x="187200" y="6356520"/>
            <a:ext cx="59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2:46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5:08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