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A540-154D-4553-9082-3F311F663E2C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93E4-D8AA-4AA6-BDC7-AA2124D741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F86-BCC3-4255-B405-E2A71A3C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DEF-D045-4F67-A431-BCEDB31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364-6BCC-4046-BBF9-DB6CC160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DD0-C6E0-4C5D-A343-F468AE73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5E09-5B13-478E-B07F-C20685AF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CAFE-4655-4A99-BF6C-39AD0790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16B4-BEB8-4A41-A18B-A1AD8E9B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51CF-5999-497E-90ED-9D991C8B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36C4-CBDC-422C-9606-10480D94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B406-6B8B-4E87-99E9-28A2CC78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7FE7-5B39-4931-B818-7FDE8DE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9C9-44AC-49A1-8C90-CA1BC827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C120-CCF9-44F2-8790-71C4D106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025D-D566-4C43-A0C2-DB2E97C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8F0D-F23C-457D-96B3-2259E787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2665-2773-4CD9-8A39-552A3950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B7F7-E3AA-4DC4-9530-F15E47F9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5A7-C425-45DD-9F48-532790DC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7D3-5784-4B53-9939-10FA89E7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4CE-B7F3-46B3-AB1C-E32EF0AC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DE2-14BC-4FF2-B3E7-7E0AB300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FE9-ABFC-421D-A5BA-F308C3F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531-8D3D-4332-9EFD-25C98B00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FF9-A977-4A74-B215-5BEAF3A7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417-470A-477F-950B-033E5D6AA6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64B8-E48C-40C7-889B-380726062B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6E83-8F29-41D8-A5CA-2B05D38CF3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4346-F1E1-4328-83BB-E12FCE72FA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3640" y="1412640"/>
            <a:ext cx="504036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加、减法的定义及各部分间的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标题 1"/>
          <p:cNvSpPr/>
          <p:nvPr/>
        </p:nvSpPr>
        <p:spPr>
          <a:xfrm>
            <a:off x="34920" y="333360"/>
            <a:ext cx="5100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一单元　四则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900880" y="6234120"/>
            <a:ext cx="32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0" y="558972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17080" y="5805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32720" y="6021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9"/>
          <p:cNvSpPr/>
          <p:nvPr/>
        </p:nvSpPr>
        <p:spPr>
          <a:xfrm>
            <a:off x="441360" y="2622600"/>
            <a:ext cx="8307360" cy="13827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应用，拓展提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539640" y="2602080"/>
            <a:ext cx="820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滑雪场全天卖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门票，其中上午卖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，下午卖出多少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324000" y="13222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本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324000" y="1879560"/>
            <a:ext cx="72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下面各题应用什么方法计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2673360" y="4417920"/>
            <a:ext cx="410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2581200" y="5283360"/>
            <a:ext cx="5303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滑雪场下午卖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门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10"/>
          <p:cNvSpPr/>
          <p:nvPr/>
        </p:nvSpPr>
        <p:spPr>
          <a:xfrm>
            <a:off x="512640" y="2637000"/>
            <a:ext cx="8307360" cy="1382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应用，拓展提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755640" y="26020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光文具店运来一批练习本，卖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，剩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。运来多少包练习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324000" y="13222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本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24000" y="1879560"/>
            <a:ext cx="72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下面各题应用什么方法计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/>
          <p:cNvSpPr/>
          <p:nvPr/>
        </p:nvSpPr>
        <p:spPr>
          <a:xfrm>
            <a:off x="2673360" y="4417920"/>
            <a:ext cx="410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9"/>
          <p:cNvSpPr/>
          <p:nvPr/>
        </p:nvSpPr>
        <p:spPr>
          <a:xfrm>
            <a:off x="2627280" y="5283360"/>
            <a:ext cx="417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运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练习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10"/>
          <p:cNvSpPr/>
          <p:nvPr/>
        </p:nvSpPr>
        <p:spPr>
          <a:xfrm>
            <a:off x="468360" y="2622600"/>
            <a:ext cx="8305920" cy="13827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应用，拓展提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611280" y="2602080"/>
            <a:ext cx="820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④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兴华小学一共有学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其中男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女生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324000" y="13222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本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324000" y="1879560"/>
            <a:ext cx="72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下面各题应用什么方法计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/>
          <p:cNvSpPr/>
          <p:nvPr/>
        </p:nvSpPr>
        <p:spPr>
          <a:xfrm>
            <a:off x="2673360" y="4417920"/>
            <a:ext cx="410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9"/>
          <p:cNvSpPr/>
          <p:nvPr/>
        </p:nvSpPr>
        <p:spPr>
          <a:xfrm>
            <a:off x="2627280" y="5283360"/>
            <a:ext cx="4824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兴华小学女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应用，拓展提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"/>
          <p:cNvSpPr/>
          <p:nvPr/>
        </p:nvSpPr>
        <p:spPr>
          <a:xfrm>
            <a:off x="324000" y="1197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根据加、减法各部分间的关系，写出另外两个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635280" y="1989000"/>
          <a:ext cx="4897440" cy="2193840"/>
        </p:xfrm>
        <a:graphic>
          <a:graphicData uri="http://schemas.openxmlformats.org/drawingml/2006/table">
            <a:tbl>
              <a:tblPr/>
              <a:tblGrid>
                <a:gridCol w="2406600"/>
                <a:gridCol w="2490840"/>
              </a:tblGrid>
              <a:tr h="549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755640" y="4292640"/>
          <a:ext cx="4886280" cy="2195640"/>
        </p:xfrm>
        <a:graphic>
          <a:graphicData uri="http://schemas.openxmlformats.org/drawingml/2006/table">
            <a:tbl>
              <a:tblPr/>
              <a:tblGrid>
                <a:gridCol w="2443320"/>
                <a:gridCol w="2442960"/>
              </a:tblGrid>
              <a:tr h="549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矩形 6"/>
          <p:cNvSpPr/>
          <p:nvPr/>
        </p:nvSpPr>
        <p:spPr>
          <a:xfrm>
            <a:off x="3487320" y="4700520"/>
            <a:ext cx="18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3484080" y="4197240"/>
            <a:ext cx="18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67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0"/>
          <p:cNvSpPr/>
          <p:nvPr/>
        </p:nvSpPr>
        <p:spPr>
          <a:xfrm>
            <a:off x="3228480" y="565164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39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61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1"/>
          <p:cNvSpPr/>
          <p:nvPr/>
        </p:nvSpPr>
        <p:spPr>
          <a:xfrm>
            <a:off x="3224880" y="514656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85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61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6032880" y="285264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5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0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3"/>
          <p:cNvSpPr/>
          <p:nvPr/>
        </p:nvSpPr>
        <p:spPr>
          <a:xfrm>
            <a:off x="6057000" y="333216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5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47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应用，拓展提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1342800" y="13096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9"/>
          <p:cNvGrpSpPr/>
          <p:nvPr/>
        </p:nvGrpSpPr>
        <p:grpSpPr>
          <a:xfrm>
            <a:off x="3276720" y="1628640"/>
            <a:ext cx="2303640" cy="720720"/>
            <a:chOff x="3276720" y="1628640"/>
            <a:chExt cx="2303640" cy="720720"/>
          </a:xfrm>
        </p:grpSpPr>
        <p:sp>
          <p:nvSpPr>
            <p:cNvPr id="234" name="圆角矩形 11"/>
            <p:cNvSpPr/>
            <p:nvPr/>
          </p:nvSpPr>
          <p:spPr>
            <a:xfrm>
              <a:off x="3276720" y="1628640"/>
              <a:ext cx="2303640" cy="72072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2"/>
            <p:cNvSpPr/>
            <p:nvPr/>
          </p:nvSpPr>
          <p:spPr>
            <a:xfrm>
              <a:off x="3791520" y="1726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猜猜我是几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2"/>
          <p:cNvGrpSpPr/>
          <p:nvPr/>
        </p:nvGrpSpPr>
        <p:grpSpPr>
          <a:xfrm>
            <a:off x="954000" y="2924280"/>
            <a:ext cx="4019400" cy="1241280"/>
            <a:chOff x="954000" y="2924280"/>
            <a:chExt cx="4019400" cy="1241280"/>
          </a:xfrm>
        </p:grpSpPr>
        <p:pic>
          <p:nvPicPr>
            <p:cNvPr id="237" name="图片 6" descr=""/>
            <p:cNvPicPr/>
            <p:nvPr/>
          </p:nvPicPr>
          <p:blipFill>
            <a:blip r:embed="rId1"/>
            <a:stretch/>
          </p:blipFill>
          <p:spPr>
            <a:xfrm>
              <a:off x="954000" y="3140280"/>
              <a:ext cx="102528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圆角矩形标注 8"/>
            <p:cNvSpPr/>
            <p:nvPr/>
          </p:nvSpPr>
          <p:spPr>
            <a:xfrm>
              <a:off x="2195280" y="2924280"/>
              <a:ext cx="2778120" cy="630000"/>
            </a:xfrm>
            <a:prstGeom prst="wedgeRoundRectCallout">
              <a:avLst>
                <a:gd name="adj1" fmla="val -57499"/>
                <a:gd name="adj2" fmla="val 45407"/>
                <a:gd name="adj3" fmla="val 16667"/>
              </a:avLst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0"/>
            <p:cNvSpPr/>
            <p:nvPr/>
          </p:nvSpPr>
          <p:spPr>
            <a:xfrm>
              <a:off x="2410200" y="2959200"/>
              <a:ext cx="256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我减去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6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0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16"/>
          <p:cNvGrpSpPr/>
          <p:nvPr/>
        </p:nvGrpSpPr>
        <p:grpSpPr>
          <a:xfrm>
            <a:off x="2587680" y="4619520"/>
            <a:ext cx="5057640" cy="1360440"/>
            <a:chOff x="2587680" y="4619520"/>
            <a:chExt cx="5057640" cy="1360440"/>
          </a:xfrm>
        </p:grpSpPr>
        <p:pic>
          <p:nvPicPr>
            <p:cNvPr id="241" name="图片 7" descr=""/>
            <p:cNvPicPr/>
            <p:nvPr/>
          </p:nvPicPr>
          <p:blipFill>
            <a:blip r:embed="rId2"/>
            <a:stretch/>
          </p:blipFill>
          <p:spPr>
            <a:xfrm>
              <a:off x="6588000" y="4619520"/>
              <a:ext cx="1057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组合 13"/>
            <p:cNvGrpSpPr/>
            <p:nvPr/>
          </p:nvGrpSpPr>
          <p:grpSpPr>
            <a:xfrm>
              <a:off x="2587680" y="4619520"/>
              <a:ext cx="3681000" cy="629280"/>
              <a:chOff x="2587680" y="4619520"/>
              <a:chExt cx="3681000" cy="629280"/>
            </a:xfrm>
          </p:grpSpPr>
          <p:sp>
            <p:nvSpPr>
              <p:cNvPr id="243" name="圆角矩形标注 14"/>
              <p:cNvSpPr/>
              <p:nvPr/>
            </p:nvSpPr>
            <p:spPr>
              <a:xfrm>
                <a:off x="2587680" y="4619520"/>
                <a:ext cx="3681000" cy="629280"/>
              </a:xfrm>
              <a:prstGeom prst="wedgeRoundRectCallout">
                <a:avLst>
                  <a:gd name="adj1" fmla="val 57203"/>
                  <a:gd name="adj2" fmla="val 34513"/>
                  <a:gd name="adj3" fmla="val 16667"/>
                </a:avLst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矩形 15"/>
              <p:cNvSpPr/>
              <p:nvPr/>
            </p:nvSpPr>
            <p:spPr>
              <a:xfrm>
                <a:off x="3003840" y="4633560"/>
                <a:ext cx="310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48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加上我得数是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79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矩形 18"/>
          <p:cNvSpPr/>
          <p:nvPr/>
        </p:nvSpPr>
        <p:spPr>
          <a:xfrm>
            <a:off x="3116880" y="3670200"/>
            <a:ext cx="2570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9"/>
          <p:cNvSpPr/>
          <p:nvPr/>
        </p:nvSpPr>
        <p:spPr>
          <a:xfrm>
            <a:off x="3229920" y="5454720"/>
            <a:ext cx="277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9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8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1080" y="558972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217080" y="5805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432720" y="6021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0327-65ED-4610-85CF-D924697AB7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创设情境，提出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9"/>
          <p:cNvGrpSpPr/>
          <p:nvPr/>
        </p:nvGrpSpPr>
        <p:grpSpPr>
          <a:xfrm>
            <a:off x="2556000" y="836640"/>
            <a:ext cx="6237000" cy="1222200"/>
            <a:chOff x="2556000" y="836640"/>
            <a:chExt cx="6237000" cy="1222200"/>
          </a:xfrm>
        </p:grpSpPr>
        <p:grpSp>
          <p:nvGrpSpPr>
            <p:cNvPr id="101" name="Group 49"/>
            <p:cNvGrpSpPr/>
            <p:nvPr/>
          </p:nvGrpSpPr>
          <p:grpSpPr>
            <a:xfrm>
              <a:off x="2556000" y="1111680"/>
              <a:ext cx="5191560" cy="947160"/>
              <a:chOff x="2556000" y="1111680"/>
              <a:chExt cx="5191560" cy="947160"/>
            </a:xfrm>
          </p:grpSpPr>
          <p:pic>
            <p:nvPicPr>
              <p:cNvPr id="102" name="Picture 53" descr="023"/>
              <p:cNvPicPr/>
              <p:nvPr/>
            </p:nvPicPr>
            <p:blipFill>
              <a:blip r:embed="rId1"/>
              <a:stretch/>
            </p:blipFill>
            <p:spPr>
              <a:xfrm>
                <a:off x="2556000" y="1111680"/>
                <a:ext cx="5191560" cy="94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Text Box 51"/>
              <p:cNvSpPr/>
              <p:nvPr/>
            </p:nvSpPr>
            <p:spPr>
              <a:xfrm>
                <a:off x="2945880" y="1322280"/>
                <a:ext cx="429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中国新世纪四大工程之一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Picture 48" descr=""/>
            <p:cNvPicPr/>
            <p:nvPr/>
          </p:nvPicPr>
          <p:blipFill>
            <a:blip r:embed="rId2"/>
            <a:stretch/>
          </p:blipFill>
          <p:spPr>
            <a:xfrm>
              <a:off x="7596360" y="836640"/>
              <a:ext cx="1196640" cy="106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图片 3" descr=""/>
          <p:cNvPicPr/>
          <p:nvPr/>
        </p:nvPicPr>
        <p:blipFill>
          <a:blip r:embed="rId3"/>
          <a:stretch/>
        </p:blipFill>
        <p:spPr>
          <a:xfrm>
            <a:off x="1023840" y="2152800"/>
            <a:ext cx="6446880" cy="3612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1"/>
          <p:cNvSpPr/>
          <p:nvPr/>
        </p:nvSpPr>
        <p:spPr>
          <a:xfrm>
            <a:off x="2100240" y="582300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藏铁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创设情境，提出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IMG_4381"/>
          <p:cNvPicPr/>
          <p:nvPr/>
        </p:nvPicPr>
        <p:blipFill>
          <a:blip r:embed="rId1"/>
          <a:srcRect l="58849" t="20351" r="15132" b="62604"/>
          <a:stretch/>
        </p:blipFill>
        <p:spPr>
          <a:xfrm>
            <a:off x="2170080" y="1341360"/>
            <a:ext cx="3625920" cy="315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0" name="Text Box 32"/>
          <p:cNvSpPr/>
          <p:nvPr/>
        </p:nvSpPr>
        <p:spPr>
          <a:xfrm>
            <a:off x="4186080" y="17384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4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560680" y="291636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42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1258920" y="59072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西宁到格里木的铁路长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4"/>
          <p:cNvSpPr/>
          <p:nvPr/>
        </p:nvSpPr>
        <p:spPr>
          <a:xfrm>
            <a:off x="1258920" y="53164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力木到拉萨的铁路长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5"/>
          <p:cNvSpPr/>
          <p:nvPr/>
        </p:nvSpPr>
        <p:spPr>
          <a:xfrm>
            <a:off x="1258920" y="4724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西宁到拉萨的铁路长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25560" y="635652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自主探究，加减定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081080" y="620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28"/>
          <p:cNvGrpSpPr/>
          <p:nvPr/>
        </p:nvGrpSpPr>
        <p:grpSpPr>
          <a:xfrm>
            <a:off x="611280" y="1285920"/>
            <a:ext cx="3046320" cy="2647800"/>
            <a:chOff x="611280" y="1285920"/>
            <a:chExt cx="3046320" cy="2647800"/>
          </a:xfrm>
        </p:grpSpPr>
        <p:pic>
          <p:nvPicPr>
            <p:cNvPr id="120" name="Picture 3" descr="IMG_4381"/>
            <p:cNvPicPr/>
            <p:nvPr/>
          </p:nvPicPr>
          <p:blipFill>
            <a:blip r:embed="rId1"/>
            <a:srcRect l="58849" t="20351" r="15132" b="62604"/>
            <a:stretch/>
          </p:blipFill>
          <p:spPr>
            <a:xfrm>
              <a:off x="611280" y="1285920"/>
              <a:ext cx="3046320" cy="26478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121" name="Text Box 32"/>
            <p:cNvSpPr/>
            <p:nvPr/>
          </p:nvSpPr>
          <p:spPr>
            <a:xfrm>
              <a:off x="2305080" y="1619280"/>
              <a:ext cx="128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814k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2"/>
            <p:cNvSpPr/>
            <p:nvPr/>
          </p:nvSpPr>
          <p:spPr>
            <a:xfrm>
              <a:off x="939600" y="2609640"/>
              <a:ext cx="136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142k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5"/>
          <p:cNvGrpSpPr/>
          <p:nvPr/>
        </p:nvGrpSpPr>
        <p:grpSpPr>
          <a:xfrm>
            <a:off x="1817640" y="4348080"/>
            <a:ext cx="6588000" cy="720720"/>
            <a:chOff x="1817640" y="4348080"/>
            <a:chExt cx="6588000" cy="720720"/>
          </a:xfrm>
        </p:grpSpPr>
        <p:sp>
          <p:nvSpPr>
            <p:cNvPr id="124" name="圆角矩形 2"/>
            <p:cNvSpPr/>
            <p:nvPr/>
          </p:nvSpPr>
          <p:spPr>
            <a:xfrm>
              <a:off x="1817640" y="4348080"/>
              <a:ext cx="5292720" cy="72072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32"/>
            <p:cNvSpPr/>
            <p:nvPr/>
          </p:nvSpPr>
          <p:spPr>
            <a:xfrm>
              <a:off x="1996920" y="4414680"/>
              <a:ext cx="640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西宁到拉萨的铁路长多少千米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7"/>
          <p:cNvSpPr/>
          <p:nvPr/>
        </p:nvSpPr>
        <p:spPr>
          <a:xfrm>
            <a:off x="2805120" y="5256360"/>
            <a:ext cx="40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4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2627280" y="585792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数＋加数＝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0"/>
          <p:cNvGrpSpPr/>
          <p:nvPr/>
        </p:nvGrpSpPr>
        <p:grpSpPr>
          <a:xfrm>
            <a:off x="4435560" y="2077920"/>
            <a:ext cx="4521240" cy="1113120"/>
            <a:chOff x="4435560" y="2077920"/>
            <a:chExt cx="4521240" cy="1113120"/>
          </a:xfrm>
        </p:grpSpPr>
        <p:sp>
          <p:nvSpPr>
            <p:cNvPr id="129" name="矩形 9"/>
            <p:cNvSpPr/>
            <p:nvPr/>
          </p:nvSpPr>
          <p:spPr>
            <a:xfrm>
              <a:off x="4521240" y="2169720"/>
              <a:ext cx="44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加法：把两个数合并成一个数的运算叫加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38"/>
            <p:cNvSpPr/>
            <p:nvPr/>
          </p:nvSpPr>
          <p:spPr>
            <a:xfrm>
              <a:off x="4435560" y="2077920"/>
              <a:ext cx="4260960" cy="1113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自主探究，加减定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042920" y="620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28"/>
          <p:cNvGrpSpPr/>
          <p:nvPr/>
        </p:nvGrpSpPr>
        <p:grpSpPr>
          <a:xfrm>
            <a:off x="324000" y="2293920"/>
            <a:ext cx="3046320" cy="2647800"/>
            <a:chOff x="324000" y="2293920"/>
            <a:chExt cx="3046320" cy="2647800"/>
          </a:xfrm>
        </p:grpSpPr>
        <p:pic>
          <p:nvPicPr>
            <p:cNvPr id="135" name="Picture 3" descr="IMG_4381"/>
            <p:cNvPicPr/>
            <p:nvPr/>
          </p:nvPicPr>
          <p:blipFill>
            <a:blip r:embed="rId1"/>
            <a:srcRect l="58849" t="20351" r="15132" b="62604"/>
            <a:stretch/>
          </p:blipFill>
          <p:spPr>
            <a:xfrm>
              <a:off x="324000" y="2293920"/>
              <a:ext cx="3046320" cy="26478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136" name="Text Box 32"/>
            <p:cNvSpPr/>
            <p:nvPr/>
          </p:nvSpPr>
          <p:spPr>
            <a:xfrm>
              <a:off x="2017800" y="2627280"/>
              <a:ext cx="128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814k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652320" y="3617640"/>
              <a:ext cx="136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142k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矩形 7"/>
          <p:cNvSpPr/>
          <p:nvPr/>
        </p:nvSpPr>
        <p:spPr>
          <a:xfrm>
            <a:off x="4572000" y="26877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4211640" y="531972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减数－减数＝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1"/>
          <p:cNvGrpSpPr/>
          <p:nvPr/>
        </p:nvGrpSpPr>
        <p:grpSpPr>
          <a:xfrm>
            <a:off x="3635280" y="1700280"/>
            <a:ext cx="5329440" cy="720720"/>
            <a:chOff x="3635280" y="1700280"/>
            <a:chExt cx="5329440" cy="720720"/>
          </a:xfrm>
        </p:grpSpPr>
        <p:sp>
          <p:nvSpPr>
            <p:cNvPr id="141" name="圆角矩形 2"/>
            <p:cNvSpPr/>
            <p:nvPr/>
          </p:nvSpPr>
          <p:spPr>
            <a:xfrm>
              <a:off x="3646080" y="1700280"/>
              <a:ext cx="5293080" cy="72072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5"/>
            <p:cNvSpPr/>
            <p:nvPr/>
          </p:nvSpPr>
          <p:spPr>
            <a:xfrm>
              <a:off x="3635280" y="1790640"/>
              <a:ext cx="53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格力木到拉萨的铁路长多少千米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7"/>
          <p:cNvGrpSpPr/>
          <p:nvPr/>
        </p:nvGrpSpPr>
        <p:grpSpPr>
          <a:xfrm>
            <a:off x="3660840" y="3581280"/>
            <a:ext cx="5327640" cy="720720"/>
            <a:chOff x="3660840" y="3581280"/>
            <a:chExt cx="5327640" cy="720720"/>
          </a:xfrm>
        </p:grpSpPr>
        <p:sp>
          <p:nvSpPr>
            <p:cNvPr id="144" name="圆角矩形 18"/>
            <p:cNvSpPr/>
            <p:nvPr/>
          </p:nvSpPr>
          <p:spPr>
            <a:xfrm>
              <a:off x="3671640" y="3581280"/>
              <a:ext cx="5291280" cy="72072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9"/>
            <p:cNvSpPr/>
            <p:nvPr/>
          </p:nvSpPr>
          <p:spPr>
            <a:xfrm>
              <a:off x="3660840" y="3671640"/>
              <a:ext cx="53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格力木到拉萨的铁路长多少千米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矩形 20"/>
          <p:cNvSpPr/>
          <p:nvPr/>
        </p:nvSpPr>
        <p:spPr>
          <a:xfrm>
            <a:off x="4572000" y="454824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4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自主探究，加减定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042920" y="620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2792520" y="218772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2484360" y="443556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减数－减数＝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"/>
          <p:cNvGrpSpPr/>
          <p:nvPr/>
        </p:nvGrpSpPr>
        <p:grpSpPr>
          <a:xfrm>
            <a:off x="1692360" y="1341360"/>
            <a:ext cx="5327640" cy="719280"/>
            <a:chOff x="1692360" y="1341360"/>
            <a:chExt cx="5327640" cy="719280"/>
          </a:xfrm>
        </p:grpSpPr>
        <p:sp>
          <p:nvSpPr>
            <p:cNvPr id="152" name="圆角矩形 2"/>
            <p:cNvSpPr/>
            <p:nvPr/>
          </p:nvSpPr>
          <p:spPr>
            <a:xfrm>
              <a:off x="1703160" y="1341360"/>
              <a:ext cx="5291280" cy="71928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5"/>
            <p:cNvSpPr/>
            <p:nvPr/>
          </p:nvSpPr>
          <p:spPr>
            <a:xfrm>
              <a:off x="1692360" y="1431720"/>
              <a:ext cx="53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格力木到拉萨的铁路长多少千米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7"/>
          <p:cNvGrpSpPr/>
          <p:nvPr/>
        </p:nvGrpSpPr>
        <p:grpSpPr>
          <a:xfrm>
            <a:off x="1666800" y="2890800"/>
            <a:ext cx="5327640" cy="720720"/>
            <a:chOff x="1666800" y="2890800"/>
            <a:chExt cx="5327640" cy="720720"/>
          </a:xfrm>
        </p:grpSpPr>
        <p:sp>
          <p:nvSpPr>
            <p:cNvPr id="155" name="圆角矩形 18"/>
            <p:cNvSpPr/>
            <p:nvPr/>
          </p:nvSpPr>
          <p:spPr>
            <a:xfrm>
              <a:off x="1677600" y="2890800"/>
              <a:ext cx="5291280" cy="72072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9"/>
            <p:cNvSpPr/>
            <p:nvPr/>
          </p:nvSpPr>
          <p:spPr>
            <a:xfrm>
              <a:off x="1666800" y="2981160"/>
              <a:ext cx="53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格力木到拉萨的铁路长多少千米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20"/>
          <p:cNvSpPr/>
          <p:nvPr/>
        </p:nvSpPr>
        <p:spPr>
          <a:xfrm>
            <a:off x="2792520" y="376092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4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"/>
          <p:cNvGrpSpPr/>
          <p:nvPr/>
        </p:nvGrpSpPr>
        <p:grpSpPr>
          <a:xfrm>
            <a:off x="1547640" y="5157720"/>
            <a:ext cx="5977080" cy="1112760"/>
            <a:chOff x="1547640" y="5157720"/>
            <a:chExt cx="5977080" cy="1112760"/>
          </a:xfrm>
        </p:grpSpPr>
        <p:sp>
          <p:nvSpPr>
            <p:cNvPr id="159" name="矩形 3"/>
            <p:cNvSpPr/>
            <p:nvPr/>
          </p:nvSpPr>
          <p:spPr>
            <a:xfrm>
              <a:off x="1706400" y="5216400"/>
              <a:ext cx="574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减法：已知两个数的和与其中一个加数，求另一个加数的运算叫减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角矩形 24"/>
            <p:cNvSpPr/>
            <p:nvPr/>
          </p:nvSpPr>
          <p:spPr>
            <a:xfrm>
              <a:off x="1547640" y="5157720"/>
              <a:ext cx="5977080" cy="1112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小组交流，明确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组合 12"/>
          <p:cNvGrpSpPr/>
          <p:nvPr/>
        </p:nvGrpSpPr>
        <p:grpSpPr>
          <a:xfrm>
            <a:off x="611280" y="1484280"/>
            <a:ext cx="3647880" cy="720720"/>
            <a:chOff x="611280" y="1484280"/>
            <a:chExt cx="3647880" cy="720720"/>
          </a:xfrm>
        </p:grpSpPr>
        <p:sp>
          <p:nvSpPr>
            <p:cNvPr id="164" name="圆角矩形 138"/>
            <p:cNvSpPr/>
            <p:nvPr/>
          </p:nvSpPr>
          <p:spPr>
            <a:xfrm>
              <a:off x="611280" y="1484280"/>
              <a:ext cx="3503520" cy="72072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"/>
            <p:cNvSpPr/>
            <p:nvPr/>
          </p:nvSpPr>
          <p:spPr>
            <a:xfrm>
              <a:off x="658800" y="155556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加法各部分间的关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1"/>
          <p:cNvGrpSpPr/>
          <p:nvPr/>
        </p:nvGrpSpPr>
        <p:grpSpPr>
          <a:xfrm>
            <a:off x="5100480" y="1484280"/>
            <a:ext cx="3503880" cy="720720"/>
            <a:chOff x="5100480" y="1484280"/>
            <a:chExt cx="3503880" cy="720720"/>
          </a:xfrm>
        </p:grpSpPr>
        <p:sp>
          <p:nvSpPr>
            <p:cNvPr id="167" name="圆角矩形 140"/>
            <p:cNvSpPr/>
            <p:nvPr/>
          </p:nvSpPr>
          <p:spPr>
            <a:xfrm>
              <a:off x="5100480" y="1484280"/>
              <a:ext cx="3503880" cy="72072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5173200" y="1555560"/>
              <a:ext cx="343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减法各部分间的关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539640" y="314172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＝加数＋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539640" y="413064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数＝和－另一个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143"/>
          <p:cNvSpPr/>
          <p:nvPr/>
        </p:nvSpPr>
        <p:spPr>
          <a:xfrm>
            <a:off x="539640" y="2421000"/>
            <a:ext cx="3719520" cy="314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5148360" y="2701800"/>
            <a:ext cx="34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差＝被减数－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9"/>
          <p:cNvSpPr/>
          <p:nvPr/>
        </p:nvSpPr>
        <p:spPr>
          <a:xfrm>
            <a:off x="5148360" y="4489560"/>
            <a:ext cx="36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减数＝减数＋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5148360" y="3595680"/>
            <a:ext cx="34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数＝被减数－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 144"/>
          <p:cNvSpPr/>
          <p:nvPr/>
        </p:nvSpPr>
        <p:spPr>
          <a:xfrm>
            <a:off x="4908600" y="2421000"/>
            <a:ext cx="3719520" cy="314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11"/>
          <p:cNvSpPr/>
          <p:nvPr/>
        </p:nvSpPr>
        <p:spPr>
          <a:xfrm>
            <a:off x="1231920" y="1546200"/>
            <a:ext cx="3627360" cy="5875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小组交流，明确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1187280" y="1557360"/>
            <a:ext cx="58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6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计算直接写出后面算式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1332000" y="3222720"/>
            <a:ext cx="42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6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1476360" y="44179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"/>
          <p:cNvSpPr/>
          <p:nvPr/>
        </p:nvSpPr>
        <p:spPr>
          <a:xfrm>
            <a:off x="4067280" y="3213000"/>
            <a:ext cx="7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976560" y="4408560"/>
            <a:ext cx="90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4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1080" y="558972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217080" y="5805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432720" y="6021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137"/>
          <p:cNvSpPr/>
          <p:nvPr/>
        </p:nvSpPr>
        <p:spPr>
          <a:xfrm>
            <a:off x="468360" y="2781360"/>
            <a:ext cx="8305920" cy="1380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应用，拓展提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324000" y="13222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本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324000" y="1879560"/>
            <a:ext cx="72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下面各题应用什么方法计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611280" y="274464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滑雪场上午卖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门票，下午卖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门票。滑雪场全天一共卖出多少张门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34"/>
          <p:cNvSpPr/>
          <p:nvPr/>
        </p:nvSpPr>
        <p:spPr>
          <a:xfrm>
            <a:off x="2673360" y="4417920"/>
            <a:ext cx="410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35"/>
          <p:cNvSpPr/>
          <p:nvPr/>
        </p:nvSpPr>
        <p:spPr>
          <a:xfrm>
            <a:off x="1476360" y="5283360"/>
            <a:ext cx="662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滑雪场全天一共卖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门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57Z</dcterms:modified>
  <cp:revision>8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