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8445-AB77-4578-8733-B8A70342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4FA-CE03-4BB3-BAC4-075B11F5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57F-631D-4F1B-89D0-D60F47F8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106-5FD2-482A-B5B5-C74B7588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A3B-543D-42A0-B56F-29DC8399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EF8-0B13-4CDD-AD33-D3179013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00FE-33DE-455A-BA00-AB5CC98C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6B4-DAB8-4A0C-AD7D-B4838021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0E8-C00B-4458-B2B0-17A04D3A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C53-29C2-4D6B-BD6D-09DA1A0E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7DA-1949-4EA6-AF9C-B54BD940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097-4969-4900-8170-B26F5C0E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2482-73B7-42E3-8C42-30B42546B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1042920" y="1341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1026"/>
          <p:cNvSpPr txBox="1"/>
          <p:nvPr/>
        </p:nvSpPr>
        <p:spPr>
          <a:xfrm>
            <a:off x="3276720" y="2209680"/>
            <a:ext cx="3504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33cc33"/>
                </a:solidFill>
                <a:latin typeface="宋体"/>
              </a:rPr>
              <a:t>假如</a:t>
            </a:r>
            <a:endParaRPr b="1" lang="en-US" sz="6000" spc="1" strike="noStrike">
              <a:ln w="9360">
                <a:solidFill>
                  <a:srgbClr val="ff0000"/>
                </a:solidFill>
                <a:round/>
              </a:ln>
              <a:solidFill>
                <a:srgbClr val="33cc33"/>
              </a:solidFill>
              <a:latin typeface="宋体"/>
              <a:ea typeface="宋体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2399400" y="5877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A29A-A0E0-416C-BB6A-DC235741BD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2655000" y="1413000"/>
            <a:ext cx="39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红红的太阳       许多好吃的谷粒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健康的身体        快活地成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659680" y="328464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寒冷的北风     缩着身子     轻轻叹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732760" y="407664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幸的朋友    苦苦等待      饿得哭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774440" y="12603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假如我有一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马良的神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我要给窗前的小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画一个红红的太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745640" y="34606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假如我有一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马良的神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我要给树上的小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画许多好吃的谷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007680" y="11970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假如我有一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马良的神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我一定给不幸的朋友西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018840" y="2400480"/>
            <a:ext cx="7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画一双好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还他一个健康的身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5141880" y="2384280"/>
            <a:ext cx="174600" cy="7632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5445000" y="2384280"/>
            <a:ext cx="174600" cy="7632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3"/>
          <p:cNvGrpSpPr/>
          <p:nvPr/>
        </p:nvGrpSpPr>
        <p:grpSpPr>
          <a:xfrm>
            <a:off x="5404320" y="4076640"/>
            <a:ext cx="2540520" cy="2451240"/>
            <a:chOff x="5404320" y="4076640"/>
            <a:chExt cx="2540520" cy="2451240"/>
          </a:xfrm>
        </p:grpSpPr>
        <p:sp>
          <p:nvSpPr>
            <p:cNvPr id="54" name="Text Box 5"/>
            <p:cNvSpPr/>
            <p:nvPr/>
          </p:nvSpPr>
          <p:spPr>
            <a:xfrm>
              <a:off x="5404320" y="40766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让小树在冬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6934680" y="594648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缩着身子，轻轻地叹息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1"/>
            <p:cNvSpPr/>
            <p:nvPr/>
          </p:nvSpPr>
          <p:spPr>
            <a:xfrm>
              <a:off x="5569560" y="5273280"/>
              <a:ext cx="237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不会在寒冷的北风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12"/>
            <p:cNvSpPr/>
            <p:nvPr/>
          </p:nvSpPr>
          <p:spPr>
            <a:xfrm>
              <a:off x="5487480" y="467460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也能快活地成长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23"/>
          <p:cNvGrpSpPr/>
          <p:nvPr/>
        </p:nvGrpSpPr>
        <p:grpSpPr>
          <a:xfrm>
            <a:off x="4114800" y="0"/>
            <a:ext cx="5029200" cy="4106880"/>
            <a:chOff x="4114800" y="0"/>
            <a:chExt cx="5029200" cy="4106880"/>
          </a:xfrm>
        </p:grpSpPr>
        <p:pic>
          <p:nvPicPr>
            <p:cNvPr id="59" name="Picture 20" descr="bj3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4572000" cy="41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Object 21" descr=""/>
            <p:cNvPicPr/>
            <p:nvPr/>
          </p:nvPicPr>
          <p:blipFill>
            <a:blip r:embed="rId2"/>
            <a:stretch/>
          </p:blipFill>
          <p:spPr>
            <a:xfrm>
              <a:off x="4114800" y="228600"/>
              <a:ext cx="1828800" cy="172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22" descr="Sr14711"/>
          <p:cNvPicPr/>
          <p:nvPr/>
        </p:nvPicPr>
        <p:blipFill>
          <a:blip r:embed="rId3"/>
          <a:stretch/>
        </p:blipFill>
        <p:spPr>
          <a:xfrm>
            <a:off x="0" y="2828880"/>
            <a:ext cx="4572000" cy="4029120"/>
          </a:xfrm>
          <a:prstGeom prst="rect">
            <a:avLst/>
          </a:prstGeom>
          <a:ln w="0">
            <a:noFill/>
          </a:ln>
        </p:spPr>
      </p:pic>
      <p:pic>
        <p:nvPicPr>
          <p:cNvPr id="62" name="Wind13.wav" descr=""/>
          <p:cNvPicPr/>
          <p:nvPr/>
        </p:nvPicPr>
        <p:blipFill>
          <a:blip r:embed="rId4"/>
          <a:stretch/>
        </p:blipFill>
        <p:spPr>
          <a:xfrm>
            <a:off x="228600" y="2895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36"/>
          <p:cNvGrpSpPr/>
          <p:nvPr/>
        </p:nvGrpSpPr>
        <p:grpSpPr>
          <a:xfrm>
            <a:off x="956160" y="380880"/>
            <a:ext cx="2341440" cy="2135520"/>
            <a:chOff x="956160" y="380880"/>
            <a:chExt cx="2341440" cy="2135520"/>
          </a:xfrm>
        </p:grpSpPr>
        <p:sp>
          <p:nvSpPr>
            <p:cNvPr id="64" name="Text Box 31"/>
            <p:cNvSpPr/>
            <p:nvPr/>
          </p:nvSpPr>
          <p:spPr>
            <a:xfrm>
              <a:off x="1976040" y="1935000"/>
              <a:ext cx="98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画一个红红的太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32"/>
            <p:cNvSpPr/>
            <p:nvPr/>
          </p:nvSpPr>
          <p:spPr>
            <a:xfrm>
              <a:off x="1484280" y="3808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假如我有一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34"/>
            <p:cNvSpPr/>
            <p:nvPr/>
          </p:nvSpPr>
          <p:spPr>
            <a:xfrm>
              <a:off x="956160" y="9144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马良的神笔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35"/>
            <p:cNvSpPr/>
            <p:nvPr/>
          </p:nvSpPr>
          <p:spPr>
            <a:xfrm>
              <a:off x="1166040" y="144792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我要给窗前的小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365040" y="70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2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0" name="Picture 4" descr="bj6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/>
            <p:cNvSpPr/>
            <p:nvPr/>
          </p:nvSpPr>
          <p:spPr>
            <a:xfrm>
              <a:off x="3305520" y="4419720"/>
              <a:ext cx="261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苦苦等待，饿得哭泣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2411280" y="2895480"/>
              <a:ext cx="317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鸟妈妈再也不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9"/>
            <p:cNvSpPr/>
            <p:nvPr/>
          </p:nvSpPr>
          <p:spPr>
            <a:xfrm>
              <a:off x="3237120" y="3429000"/>
              <a:ext cx="261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到遥远的地方去寻食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0"/>
            <p:cNvSpPr/>
            <p:nvPr/>
          </p:nvSpPr>
          <p:spPr>
            <a:xfrm>
              <a:off x="3142440" y="391644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让小鸟呆在家里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9"/>
            <p:cNvSpPr/>
            <p:nvPr/>
          </p:nvSpPr>
          <p:spPr>
            <a:xfrm>
              <a:off x="2514600" y="2133720"/>
              <a:ext cx="411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画许多好吃的谷粒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21"/>
            <p:cNvSpPr/>
            <p:nvPr/>
          </p:nvSpPr>
          <p:spPr>
            <a:xfrm>
              <a:off x="2438280" y="68580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假如我有一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22"/>
            <p:cNvSpPr/>
            <p:nvPr/>
          </p:nvSpPr>
          <p:spPr>
            <a:xfrm>
              <a:off x="2927520" y="11430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马良的神笔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3"/>
            <p:cNvSpPr/>
            <p:nvPr/>
          </p:nvSpPr>
          <p:spPr>
            <a:xfrm>
              <a:off x="3090240" y="160020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我要给树上的小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bj00"/>
          <p:cNvPicPr/>
          <p:nvPr/>
        </p:nvPicPr>
        <p:blipFill>
          <a:blip r:embed="rId1"/>
          <a:stretch/>
        </p:blipFill>
        <p:spPr>
          <a:xfrm>
            <a:off x="0" y="3344760"/>
            <a:ext cx="4572000" cy="3513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00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481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1"/>
          <p:cNvSpPr/>
          <p:nvPr/>
        </p:nvSpPr>
        <p:spPr>
          <a:xfrm>
            <a:off x="5601960" y="3733920"/>
            <a:ext cx="2527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他再也不会只坐在屋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望着窗外的小树和飞燕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而是和我们一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在操场上奔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在草地上游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ZJEAV7.WAV" descr=""/>
          <p:cNvPicPr/>
          <p:nvPr/>
        </p:nvPicPr>
        <p:blipFill>
          <a:blip r:embed="rId3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16"/>
          <p:cNvGrpSpPr/>
          <p:nvPr/>
        </p:nvGrpSpPr>
        <p:grpSpPr>
          <a:xfrm>
            <a:off x="250920" y="260280"/>
            <a:ext cx="4645080" cy="2244240"/>
            <a:chOff x="250920" y="260280"/>
            <a:chExt cx="4645080" cy="2244240"/>
          </a:xfrm>
        </p:grpSpPr>
        <p:sp>
          <p:nvSpPr>
            <p:cNvPr id="84" name="Rectangle 14"/>
            <p:cNvSpPr/>
            <p:nvPr/>
          </p:nvSpPr>
          <p:spPr>
            <a:xfrm>
              <a:off x="250920" y="260280"/>
              <a:ext cx="4572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假如我有一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马良的神笔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我一定给不幸的朋友西西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5"/>
            <p:cNvSpPr/>
            <p:nvPr/>
          </p:nvSpPr>
          <p:spPr>
            <a:xfrm>
              <a:off x="324000" y="1557360"/>
              <a:ext cx="457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画一双好腿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还他一个健康的身体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3910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bj00"/>
          <p:cNvPicPr/>
          <p:nvPr/>
        </p:nvPicPr>
        <p:blipFill>
          <a:blip r:embed="rId1"/>
          <a:stretch/>
        </p:blipFill>
        <p:spPr>
          <a:xfrm>
            <a:off x="0" y="3344760"/>
            <a:ext cx="4572000" cy="351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00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481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5601960" y="3733920"/>
            <a:ext cx="2527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他再也不会只坐在屋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望着窗外的小树和飞燕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而是和我们一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在操场上奔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在草地上游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250920" y="260280"/>
            <a:ext cx="4645080" cy="2244240"/>
            <a:chOff x="250920" y="260280"/>
            <a:chExt cx="4645080" cy="2244240"/>
          </a:xfrm>
        </p:grpSpPr>
        <p:sp>
          <p:nvSpPr>
            <p:cNvPr id="90" name="Rectangle 7"/>
            <p:cNvSpPr/>
            <p:nvPr/>
          </p:nvSpPr>
          <p:spPr>
            <a:xfrm>
              <a:off x="250920" y="260280"/>
              <a:ext cx="4572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假如我有一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马良的神笔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我一定给不幸的朋友西西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8"/>
            <p:cNvSpPr/>
            <p:nvPr/>
          </p:nvSpPr>
          <p:spPr>
            <a:xfrm>
              <a:off x="324000" y="1557360"/>
              <a:ext cx="457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画一双好腿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还他一个健康的身体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2794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7621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2034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7"/>
          <p:cNvSpPr/>
          <p:nvPr/>
        </p:nvSpPr>
        <p:spPr>
          <a:xfrm>
            <a:off x="1752480" y="220968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8"/>
                </a:moveTo>
                <a:lnTo>
                  <a:pt x="145529" y="145529"/>
                </a:lnTo>
                <a:lnTo>
                  <a:pt x="190500" y="0"/>
                </a:lnTo>
                <a:lnTo>
                  <a:pt x="235470" y="145529"/>
                </a:lnTo>
                <a:lnTo>
                  <a:pt x="380999" y="145528"/>
                </a:lnTo>
                <a:lnTo>
                  <a:pt x="263263" y="235469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6" y="23546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1828800" y="266688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8"/>
                </a:moveTo>
                <a:lnTo>
                  <a:pt x="145529" y="145529"/>
                </a:lnTo>
                <a:lnTo>
                  <a:pt x="190500" y="0"/>
                </a:lnTo>
                <a:lnTo>
                  <a:pt x="235470" y="145529"/>
                </a:lnTo>
                <a:lnTo>
                  <a:pt x="380999" y="145528"/>
                </a:lnTo>
                <a:lnTo>
                  <a:pt x="263263" y="235469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6" y="23546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9"/>
          <p:cNvSpPr/>
          <p:nvPr/>
        </p:nvSpPr>
        <p:spPr>
          <a:xfrm>
            <a:off x="1371600" y="266688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8"/>
                </a:moveTo>
                <a:lnTo>
                  <a:pt x="145529" y="145529"/>
                </a:lnTo>
                <a:lnTo>
                  <a:pt x="190500" y="0"/>
                </a:lnTo>
                <a:lnTo>
                  <a:pt x="235470" y="145529"/>
                </a:lnTo>
                <a:lnTo>
                  <a:pt x="380999" y="145528"/>
                </a:lnTo>
                <a:lnTo>
                  <a:pt x="263263" y="235469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6" y="23546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2286000" y="15238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假如我有一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马良的神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我要给</a:t>
            </a:r>
            <a:r>
              <a:rPr b="1" lang="zh-CN" sz="2400" spc="-1" strike="noStrike" u="sng">
                <a:solidFill>
                  <a:srgbClr val="800000"/>
                </a:solidFill>
                <a:uFillTx/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 画</a:t>
            </a:r>
            <a:r>
              <a:rPr b="1" lang="zh-CN" sz="2400" spc="-1" strike="noStrike" u="sng">
                <a:solidFill>
                  <a:srgbClr val="800000"/>
                </a:solidFill>
                <a:uFillTx/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让</a:t>
            </a:r>
            <a:r>
              <a:rPr b="1" lang="zh-CN" sz="2400" spc="-1" strike="noStrike" u="sng">
                <a:solidFill>
                  <a:srgbClr val="800000"/>
                </a:solidFill>
                <a:uFillTx/>
                <a:latin typeface="Times New Roman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。</a:t>
            </a:r>
            <a:r>
              <a:rPr b="1" lang="zh-CN" sz="2400" spc="-1" strike="noStrike" u="sng">
                <a:solidFill>
                  <a:srgbClr val="800000"/>
                </a:solidFill>
                <a:uFillTx/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1"/>
          <p:cNvSpPr/>
          <p:nvPr/>
        </p:nvSpPr>
        <p:spPr>
          <a:xfrm>
            <a:off x="453960" y="5389560"/>
            <a:ext cx="74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假如人人都有一颗爱心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世界将变成美好的人间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07:27:50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40:16Z</dcterms:modified>
  <cp:revision>50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