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ACA1-CBC0-42EA-8BE7-3311A823C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FF43-C175-467A-98C4-C5FE6F300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B63-5863-439B-922D-4FC08374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176-E42C-40E0-9B32-C0263AD3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E086-5635-47A1-88F1-1E3310C6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E97D-C8A8-484B-B4DC-7FAA4A23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1A9B-6D34-40F0-B89A-54D85C99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D1C4-13A6-493A-8885-EC2C2FE8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72A0-1F03-4330-B2A4-23B8D5C7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E0F1-2ED1-41A7-9FB4-A3504464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AE5D-F2D0-47DC-972F-AA9D47C4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A9D3-0BC2-4616-81B5-0E8421F9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DDD6-D0BD-4C4A-9F88-3BFAF556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0EE-B53D-48EB-A84A-AEF6D530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07EB-2217-4849-AE34-D6DFBA6F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E5BF-7FD4-408C-B348-C3905CCD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A560-7D8E-400A-B221-77D8C6F9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3900-A65C-4768-8C0E-EA3B9E27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7811-3B92-44C2-8302-862F9AD5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969-31F8-4942-8E8A-938D9A5D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DB3-DA8B-45DB-AF75-9DDA77FA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B863-D143-4298-9624-D921EE70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7CF1-3A6B-43B8-8950-CFE80A54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6A2-3D40-4296-8E0A-DD97486E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024-D6F2-406E-AEF2-C10BC49E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7126-F110-4409-B508-CF325D32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8ADB-3117-4A73-A86A-F788B4A864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DC3C-EE3F-4A18-890A-03F2BCEE6F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09600" y="765000"/>
            <a:ext cx="4856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黑体"/>
              </a:rPr>
              <a:t>机械摆钟</a:t>
            </a:r>
            <a:endParaRPr b="0" lang="en-US" sz="8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4" name="图片 2" descr=""/>
          <p:cNvPicPr/>
          <p:nvPr/>
        </p:nvPicPr>
        <p:blipFill>
          <a:blip r:embed="rId1"/>
          <a:stretch/>
        </p:blipFill>
        <p:spPr>
          <a:xfrm>
            <a:off x="3924360" y="278136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95" name="矩形 4"/>
          <p:cNvSpPr/>
          <p:nvPr/>
        </p:nvSpPr>
        <p:spPr>
          <a:xfrm>
            <a:off x="3111120" y="61657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9933ff"/>
                </a:solidFill>
                <a:latin typeface="Arial"/>
              </a:rPr>
              <a:t>同学们再见</a:t>
            </a:r>
            <a:r>
              <a:rPr b="1" i="1" lang="en-US" sz="5400" spc="-1" strike="noStrike">
                <a:solidFill>
                  <a:srgbClr val="9933ff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66ff"/>
                </a:solidFill>
                <a:latin typeface="Arial"/>
              </a:rPr>
              <a:t>下节课我们将继续研究摆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07DB-7F00-49BF-B3AD-8BD5BBEE22D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c0039"/>
                </a:solidFill>
                <a:latin typeface="Arial"/>
              </a:rPr>
              <a:t>钟摆每分钟摆动次数的记录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438280" y="1600200"/>
          <a:ext cx="6400800" cy="4495680"/>
        </p:xfrm>
        <a:graphic>
          <a:graphicData uri="http://schemas.openxmlformats.org/drawingml/2006/table">
            <a:tbl>
              <a:tblPr/>
              <a:tblGrid>
                <a:gridCol w="1279440"/>
                <a:gridCol w="1281240"/>
                <a:gridCol w="1279440"/>
                <a:gridCol w="1281240"/>
                <a:gridCol w="1279440"/>
              </a:tblGrid>
              <a:tr h="22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钟摆每分钟摆动的次数相同吗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结论：相同。各种摆钟的摆每分钟都是摆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4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探究开始了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观察我们的摆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制作一个简单的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拿一条细线，上端固定，下端挂上一个小重物，就组成了一个简单的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各部分名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我们的摆自由摆动，用秒表计时，每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秒时间记录一次摆动的次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c0039"/>
                </a:solidFill>
                <a:latin typeface="Arial"/>
              </a:rPr>
              <a:t>实验方法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组合作，合理分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计时员，操作员，记录员，汇报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摆动次数的观察记录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438280" y="1600200"/>
          <a:ext cx="6400800" cy="3732120"/>
        </p:xfrm>
        <a:graphic>
          <a:graphicData uri="http://schemas.openxmlformats.org/drawingml/2006/table">
            <a:tbl>
              <a:tblPr/>
              <a:tblGrid>
                <a:gridCol w="1281240"/>
                <a:gridCol w="1279440"/>
                <a:gridCol w="1279440"/>
                <a:gridCol w="1279440"/>
                <a:gridCol w="128124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验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—1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—2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—3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—4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们的发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同一个摆每分钟摆动的次数是相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不同的摆每分钟摆动的次数是不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单摆具有等时性：同一个单摆每摆动一次所需的时间是相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问题：在相同的时间内，不同的摆摆动的次数为什么不一样呢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摆的快慢与什么因素有关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文本框 1"/>
          <p:cNvSpPr/>
          <p:nvPr/>
        </p:nvSpPr>
        <p:spPr>
          <a:xfrm>
            <a:off x="3003480" y="5195880"/>
            <a:ext cx="58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08:32:0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7:25Z</dcterms:modified>
  <cp:revision>3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