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8B3-95DB-4F38-8481-361E42F7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863-48A4-4A66-B262-9143FE46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FFF-1546-4C19-B498-583E894F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850-7759-42A0-8848-16936E6F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CE7-8992-4525-ABD2-F9C4E2CD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EB5-E952-4D47-BDB2-DB42F40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793-7C97-4B38-A588-A5A64533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B8F8-1928-47A2-8857-EDE6450C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A8A-5890-4BC3-A557-0AC27F67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8D2-7CAD-4FF1-9E88-F712903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1EE-54C3-44BA-8676-9A2ABFD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A14-434F-42EA-83FD-B845992D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DE2-E699-4F9E-9E93-F9B3476A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764;%BF%BC&amp;in=11266&amp;cl=2&amp;lm=6&amp;pn=166&amp;rn=1&amp;di=3023863806&amp;ln=1&amp;fr=&amp;ic=0&amp;s=0&amp;se=1&amp;sme=0&amp;tab=&amp;width=&amp;height=&amp;face=0&amp;fb=1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2819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403280" y="1844640"/>
            <a:ext cx="640872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华文中宋"/>
              </a:rPr>
              <a:t>解一元一次方程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sp>
        <p:nvSpPr>
          <p:cNvPr id="43" name="矩形 9"/>
          <p:cNvSpPr/>
          <p:nvPr/>
        </p:nvSpPr>
        <p:spPr>
          <a:xfrm>
            <a:off x="-26640" y="64184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08000" y="0"/>
            <a:ext cx="1584360" cy="936720"/>
            <a:chOff x="108000" y="0"/>
            <a:chExt cx="1584360" cy="936720"/>
          </a:xfrm>
        </p:grpSpPr>
        <p:sp>
          <p:nvSpPr>
            <p:cNvPr id="46" name="AutoShape 5"/>
            <p:cNvSpPr/>
            <p:nvPr/>
          </p:nvSpPr>
          <p:spPr>
            <a:xfrm>
              <a:off x="108000" y="0"/>
              <a:ext cx="1584360" cy="93672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377640" y="216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22"/>
          <p:cNvSpPr/>
          <p:nvPr/>
        </p:nvSpPr>
        <p:spPr>
          <a:xfrm>
            <a:off x="1051920" y="981000"/>
            <a:ext cx="731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辆客车和一辆卡车同时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出发沿同一公路同方向行驶，客车的行驶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km/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卡车的行驶速度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km/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客车比卡车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两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间的路程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532800" y="2184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分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1634400" y="270180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地相距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能分别列式表客车和卡车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的行驶时间吗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25" descr=""/>
          <p:cNvPicPr/>
          <p:nvPr/>
        </p:nvPicPr>
        <p:blipFill>
          <a:blip r:embed="rId1"/>
          <a:stretch/>
        </p:blipFill>
        <p:spPr>
          <a:xfrm>
            <a:off x="2516040" y="2708280"/>
            <a:ext cx="32724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6"/>
          <p:cNvSpPr/>
          <p:nvPr/>
        </p:nvSpPr>
        <p:spPr>
          <a:xfrm>
            <a:off x="735480" y="329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匀速运动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ject 27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1146240" cy="565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128480" y="3305160"/>
            <a:ext cx="38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问题的条件，客车和卡车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的行驶时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9"/>
          <p:cNvSpPr/>
          <p:nvPr/>
        </p:nvSpPr>
        <p:spPr>
          <a:xfrm>
            <a:off x="835200" y="3881520"/>
            <a:ext cx="26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分别表示为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30" descr=""/>
          <p:cNvPicPr/>
          <p:nvPr/>
        </p:nvPicPr>
        <p:blipFill>
          <a:blip r:embed="rId3"/>
          <a:stretch/>
        </p:blipFill>
        <p:spPr>
          <a:xfrm>
            <a:off x="2268360" y="3716280"/>
            <a:ext cx="355680" cy="64944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1" descr=""/>
          <p:cNvPicPr/>
          <p:nvPr/>
        </p:nvPicPr>
        <p:blipFill>
          <a:blip r:embed="rId4"/>
          <a:stretch/>
        </p:blipFill>
        <p:spPr>
          <a:xfrm>
            <a:off x="3132000" y="3716280"/>
            <a:ext cx="355680" cy="649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2"/>
          <p:cNvSpPr/>
          <p:nvPr/>
        </p:nvSpPr>
        <p:spPr>
          <a:xfrm>
            <a:off x="1277640" y="4529160"/>
            <a:ext cx="42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为客车比卡车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，所以      比      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33" descr=""/>
          <p:cNvPicPr/>
          <p:nvPr/>
        </p:nvPicPr>
        <p:blipFill>
          <a:blip r:embed="rId5"/>
          <a:stretch/>
        </p:blipFill>
        <p:spPr>
          <a:xfrm>
            <a:off x="4284720" y="4365720"/>
            <a:ext cx="355680" cy="6490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34" descr=""/>
          <p:cNvPicPr/>
          <p:nvPr/>
        </p:nvPicPr>
        <p:blipFill>
          <a:blip r:embed="rId6"/>
          <a:stretch/>
        </p:blipFill>
        <p:spPr>
          <a:xfrm>
            <a:off x="4937040" y="4365720"/>
            <a:ext cx="355680" cy="64908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5" descr=""/>
          <p:cNvPicPr/>
          <p:nvPr/>
        </p:nvPicPr>
        <p:blipFill>
          <a:blip r:embed="rId7"/>
          <a:stretch/>
        </p:blipFill>
        <p:spPr>
          <a:xfrm>
            <a:off x="4356000" y="5251320"/>
            <a:ext cx="1152720" cy="625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6"/>
          <p:cNvSpPr/>
          <p:nvPr/>
        </p:nvSpPr>
        <p:spPr>
          <a:xfrm>
            <a:off x="6870240" y="53784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179280" y="6202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列方程时，要先设未知数（通常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等字母表示未知数），然后根据问题中的相等关系，写出</a:t>
            </a:r>
            <a:r>
              <a:rPr b="1" lang="zh-CN" sz="1600" spc="-1" strike="noStrike">
                <a:solidFill>
                  <a:srgbClr val="cc00ff"/>
                </a:solidFill>
                <a:latin typeface="Arial"/>
              </a:rPr>
              <a:t>含有未知数的等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方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1634400" y="270828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地相距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能分别列式表客车和卡车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的行驶时间吗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39" descr=""/>
          <p:cNvPicPr/>
          <p:nvPr/>
        </p:nvPicPr>
        <p:blipFill>
          <a:blip r:embed="rId8"/>
          <a:stretch/>
        </p:blipFill>
        <p:spPr>
          <a:xfrm>
            <a:off x="2516040" y="2714760"/>
            <a:ext cx="3272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根据下列问题，设未知数并列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用一根长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4cm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的铁丝围成一个正方形，正方形的边长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一台计算机已使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 70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，预计每月再使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，经过多少月这台计算机的使用时间达到规定的检修时间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45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某校女生占全体学生数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2﹪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，比男生多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，这个学校有多少学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04800" y="2997360"/>
            <a:ext cx="30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正方形的边长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χ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χ=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289880" y="3933720"/>
            <a:ext cx="6540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后这台计算机的使用时间达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时，那么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后使用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700+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2 4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91160" y="5661000"/>
            <a:ext cx="598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这个学校的学生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那么女生数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男生数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-.5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0.5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473200" y="45165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163160" y="1890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6313"/>
                </a:solidFill>
                <a:latin typeface="Arial"/>
              </a:rPr>
              <a:t>观察上面所列方程</a:t>
            </a:r>
            <a:r>
              <a:rPr b="1" lang="en-US" sz="2400" spc="-1" strike="noStrike">
                <a:solidFill>
                  <a:srgbClr val="19631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196313"/>
                </a:solidFill>
                <a:latin typeface="Arial"/>
              </a:rPr>
              <a:t>看看它们具有什么共同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95280" y="83664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0+150x=2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                               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2x-(1-0.52)x=8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=24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6" descr=""/>
          <p:cNvPicPr/>
          <p:nvPr/>
        </p:nvPicPr>
        <p:blipFill>
          <a:blip r:embed="rId1"/>
          <a:stretch/>
        </p:blipFill>
        <p:spPr>
          <a:xfrm>
            <a:off x="4302000" y="620640"/>
            <a:ext cx="1565280" cy="851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0" y="2276640"/>
            <a:ext cx="93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面各方程只含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未知数（元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未知数的次数都是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次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样的方程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元一次方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0" y="3141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4000" y="450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195640" y="42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设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492360" y="4221000"/>
            <a:ext cx="20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找等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47956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列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1979640" y="4797360"/>
            <a:ext cx="4535640" cy="0"/>
          </a:xfrm>
          <a:prstGeom prst="line">
            <a:avLst/>
          </a:prstGeom>
          <a:ln w="7632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7306200" y="45086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0" y="54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实际问题中的数量关系，利用其中的相等关系列出方程，是用数学解决实际问题的一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334520" y="3716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上面分析的过程可以表示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0" y="0"/>
            <a:ext cx="870120" cy="785160"/>
            <a:chOff x="0" y="0"/>
            <a:chExt cx="870120" cy="785160"/>
          </a:xfrm>
        </p:grpSpPr>
        <p:pic>
          <p:nvPicPr>
            <p:cNvPr id="88" name="Picture 5" descr="u=1200030713,1600658935&amp;fm=13&amp;gp=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552240" y="142560"/>
              <a:ext cx="31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999"/>
                  </a:solidFill>
                  <a:latin typeface="Arial"/>
                </a:rPr>
                <a:t>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999"/>
                  </a:solidFill>
                  <a:latin typeface="Arial"/>
                </a:rPr>
                <a:t>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8"/>
          <p:cNvSpPr/>
          <p:nvPr/>
        </p:nvSpPr>
        <p:spPr>
          <a:xfrm>
            <a:off x="0" y="42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χ=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容易知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使等式成立， 对于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700+150χ=2 4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你知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于什么时，等式成立？我们来试一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014840" y="1555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来填下面的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26920" y="2276640"/>
          <a:ext cx="7759800" cy="1309680"/>
        </p:xfrm>
        <a:graphic>
          <a:graphicData uri="http://schemas.openxmlformats.org/drawingml/2006/table">
            <a:tbl>
              <a:tblPr/>
              <a:tblGrid>
                <a:gridCol w="1707120"/>
                <a:gridCol w="837360"/>
                <a:gridCol w="837000"/>
                <a:gridCol w="894240"/>
                <a:gridCol w="776880"/>
                <a:gridCol w="846720"/>
                <a:gridCol w="1060560"/>
                <a:gridCol w="569160"/>
                <a:gridCol w="231840"/>
              </a:tblGrid>
              <a:tr h="669960"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0+150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4"/>
          <p:cNvSpPr/>
          <p:nvPr/>
        </p:nvSpPr>
        <p:spPr>
          <a:xfrm>
            <a:off x="255888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335088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428760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507960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587016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2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687996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3"/>
          <p:cNvSpPr/>
          <p:nvPr/>
        </p:nvSpPr>
        <p:spPr>
          <a:xfrm>
            <a:off x="0" y="3860640"/>
            <a:ext cx="9144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于是我们知道当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 700+15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值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45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方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 700+150=2 45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中的未知数的值应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4"/>
          <p:cNvSpPr/>
          <p:nvPr/>
        </p:nvSpPr>
        <p:spPr>
          <a:xfrm>
            <a:off x="250920" y="486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方程就是求出使方程中等号左右两边相等的未知数的值，这个值就是方程的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思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哪一个是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2χ 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0.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975960" y="1027080"/>
            <a:ext cx="27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下列问题，设未知数，列出方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0" y="1413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环形跑道一周长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00m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，沿跑道跑多少周，可以跑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000m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甲种铅笔每枝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.3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，乙种铅笔每枝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.6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，用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钱买了两种铅笔共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枝，两种铅笔各买了多少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一个梯形的下底比上底多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㎝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，高是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㎝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，面积是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㎝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，求上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用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个大水杯的钱，可以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个小水杯，大水杯比小水杯的单价多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，两种水杯的单价各是多少元？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324000" y="189000"/>
            <a:ext cx="194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课堂练习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21480" y="-160200"/>
            <a:ext cx="79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59440" y="35211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设沿跑道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x=3000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077800" y="3592440"/>
            <a:ext cx="311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设甲种铅笔买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，则乙种铅笔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-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支，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x+0.6(20-x)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80320" y="5032440"/>
            <a:ext cx="34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设上底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cm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则下底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+2)c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19" descr=""/>
          <p:cNvPicPr/>
          <p:nvPr/>
        </p:nvPicPr>
        <p:blipFill>
          <a:blip r:embed="rId3"/>
          <a:stretch/>
        </p:blipFill>
        <p:spPr>
          <a:xfrm>
            <a:off x="826920" y="5805360"/>
            <a:ext cx="2232360" cy="690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0"/>
          <p:cNvSpPr/>
          <p:nvPr/>
        </p:nvSpPr>
        <p:spPr>
          <a:xfrm>
            <a:off x="5168520" y="4960800"/>
            <a:ext cx="30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方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小水杯的单价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，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水杯的单价是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859280" y="58975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大水杯的单价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，则小水杯的单价是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=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132000" y="404640"/>
            <a:ext cx="208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课堂小结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148428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方程时，要先设未知数（通常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字母表示未知数），然后根据问题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等关系，写出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含有未知数的等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0920" y="30495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含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未知数（元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未知数的次数都是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次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这样的方程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元一次方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34800" y="4437000"/>
            <a:ext cx="841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方程就是求出使方程中等号左右两边相等的未知数的值，这个值就是方程的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pic0861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WordArt 3" descr=""/>
          <p:cNvPicPr/>
          <p:nvPr/>
        </p:nvPicPr>
        <p:blipFill>
          <a:blip r:embed="rId2"/>
          <a:stretch/>
        </p:blipFill>
        <p:spPr>
          <a:xfrm>
            <a:off x="1785960" y="2127240"/>
            <a:ext cx="5572080" cy="26733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"/>
          <p:cNvSpPr/>
          <p:nvPr/>
        </p:nvSpPr>
        <p:spPr>
          <a:xfrm>
            <a:off x="3301920" y="31082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3464-B303-41A8-8A77-F4D0519CDF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7:22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05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