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AF90-C705-4EF3-BD06-D5110E03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305E-DE8A-4124-AC11-308D0040E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0B5C-2E6E-42D0-8225-A4B914837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CFFC-8112-41DD-846C-D512CE78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1141-A0A4-44A6-A336-B000DD1F6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BDB4-3061-41FF-8B6A-1DC5700A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AB5B-1E76-4910-8CB7-E659DB0C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078F-E1B9-46BC-B136-41E959DC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8F1B-7F99-4C6C-BCAF-AEB2A5B69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86F7-F7D1-4860-8461-3C28719C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1BEE-4E77-4D55-A613-6DFDD850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9475-5EF2-4215-9463-227ED5442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6B35-D115-4813-BB9F-8D660A9CE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Blue hil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2"/>
          <a:stretch/>
        </p:blipFill>
        <p:spPr>
          <a:xfrm>
            <a:off x="971640" y="981000"/>
            <a:ext cx="3854520" cy="5040360"/>
          </a:xfrm>
          <a:prstGeom prst="rect">
            <a:avLst/>
          </a:prstGeom>
          <a:ln w="0">
            <a:noFill/>
          </a:ln>
        </p:spPr>
      </p:pic>
      <p:sp>
        <p:nvSpPr>
          <p:cNvPr id="43" name="Oval 9"/>
          <p:cNvSpPr/>
          <p:nvPr/>
        </p:nvSpPr>
        <p:spPr>
          <a:xfrm>
            <a:off x="5435640" y="1700280"/>
            <a:ext cx="2808360" cy="2808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5869440" y="1700280"/>
            <a:ext cx="1959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1979640" y="2421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1909800" y="1268280"/>
            <a:ext cx="1451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~PP21033.WAV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1"/>
          <p:cNvSpPr/>
          <p:nvPr/>
        </p:nvSpPr>
        <p:spPr>
          <a:xfrm>
            <a:off x="149400" y="6307200"/>
            <a:ext cx="57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幻灯片之家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437C-E5F5-4242-A367-691190788F0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Blue hil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1116000" y="549360"/>
            <a:ext cx="3854520" cy="5040360"/>
          </a:xfrm>
          <a:prstGeom prst="rect">
            <a:avLst/>
          </a:prstGeom>
          <a:ln w="0">
            <a:noFill/>
          </a:ln>
        </p:spPr>
      </p:pic>
      <p:sp>
        <p:nvSpPr>
          <p:cNvPr id="51" name="Oval 4"/>
          <p:cNvSpPr/>
          <p:nvPr/>
        </p:nvSpPr>
        <p:spPr>
          <a:xfrm>
            <a:off x="5435640" y="1700280"/>
            <a:ext cx="2808360" cy="2808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869440" y="1700280"/>
            <a:ext cx="1959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979640" y="2421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341440" y="1268280"/>
            <a:ext cx="816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~PP41033.WAV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Blue hil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1116000" y="549360"/>
            <a:ext cx="3854520" cy="5040360"/>
          </a:xfrm>
          <a:prstGeom prst="rect">
            <a:avLst/>
          </a:prstGeom>
          <a:ln w="0">
            <a:noFill/>
          </a:ln>
        </p:spPr>
      </p:pic>
      <p:sp>
        <p:nvSpPr>
          <p:cNvPr id="58" name="Oval 4"/>
          <p:cNvSpPr/>
          <p:nvPr/>
        </p:nvSpPr>
        <p:spPr>
          <a:xfrm>
            <a:off x="5435640" y="1700280"/>
            <a:ext cx="2808360" cy="2808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5869440" y="1700280"/>
            <a:ext cx="1959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979640" y="2421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270160" y="1125360"/>
            <a:ext cx="1451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~PP51033.WAV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Blue hill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1116000" y="549360"/>
            <a:ext cx="3854520" cy="5040360"/>
          </a:xfrm>
          <a:prstGeom prst="rect">
            <a:avLst/>
          </a:prstGeom>
          <a:ln w="0">
            <a:noFill/>
          </a:ln>
        </p:spPr>
      </p:pic>
      <p:sp>
        <p:nvSpPr>
          <p:cNvPr id="65" name="Oval 4"/>
          <p:cNvSpPr/>
          <p:nvPr/>
        </p:nvSpPr>
        <p:spPr>
          <a:xfrm>
            <a:off x="5435640" y="1700280"/>
            <a:ext cx="2808360" cy="28083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869440" y="1700280"/>
            <a:ext cx="1959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Arial"/>
              </a:rPr>
              <a:t>ai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979640" y="2421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341800" y="1268280"/>
            <a:ext cx="688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~PP11048.WAV" descr=""/>
          <p:cNvPicPr/>
          <p:nvPr/>
        </p:nvPicPr>
        <p:blipFill>
          <a:blip r:embed="rId3"/>
          <a:stretch/>
        </p:blipFill>
        <p:spPr>
          <a:xfrm>
            <a:off x="8593200" y="63072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6600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6"/>
          <p:cNvSpPr/>
          <p:nvPr/>
        </p:nvSpPr>
        <p:spPr>
          <a:xfrm>
            <a:off x="2638800" y="620640"/>
            <a:ext cx="323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Arial"/>
              </a:rPr>
              <a:t>bēi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1"/>
          <a:stretch/>
        </p:blipFill>
        <p:spPr>
          <a:xfrm>
            <a:off x="1908000" y="3357720"/>
            <a:ext cx="475164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2990160" y="260280"/>
            <a:ext cx="323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0" spc="-1" strike="noStrike">
                <a:solidFill>
                  <a:srgbClr val="000000"/>
                </a:solidFill>
                <a:latin typeface="Arial"/>
              </a:rPr>
              <a:t>péi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3336840" y="3068640"/>
            <a:ext cx="292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培土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2497680" y="404640"/>
            <a:ext cx="4120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000000"/>
                </a:solidFill>
                <a:latin typeface="Arial"/>
              </a:rPr>
              <a:t>měi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3193920" y="2997360"/>
            <a:ext cx="292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000000"/>
                </a:solidFill>
                <a:latin typeface="Arial"/>
                <a:ea typeface="楷体_GB2312"/>
              </a:rPr>
              <a:t>每天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feiji2"/>
          <p:cNvPicPr/>
          <p:nvPr/>
        </p:nvPicPr>
        <p:blipFill>
          <a:blip r:embed="rId1"/>
          <a:stretch/>
        </p:blipFill>
        <p:spPr>
          <a:xfrm>
            <a:off x="2843280" y="0"/>
            <a:ext cx="5783040" cy="67960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2989800" y="3357720"/>
            <a:ext cx="314496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000000"/>
                </a:solidFill>
                <a:latin typeface="Arial"/>
              </a:rPr>
              <a:t>fei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1979640" y="1268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974160" y="1341360"/>
            <a:ext cx="7465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zhui   chui 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Arial"/>
              </a:rPr>
              <a:t>shui   rui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468360" y="530064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9:17:38Z</dcterms:created>
  <dc:creator>ZFY</dc:creator>
  <dc:description/>
  <cp:keywords/>
  <dc:language>en-US</dc:language>
  <cp:lastModifiedBy>xinxing</cp:lastModifiedBy>
  <dcterms:modified xsi:type="dcterms:W3CDTF">2017-04-16T16:10:20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