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948-71D1-4F9E-A0A1-FCB84D77F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4C9-6D2B-42B3-9AE5-8B66BAB3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A89-3BB9-496B-92CC-0D97508BC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137-6E0D-4BD2-8E15-501E232A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5B09-C9F1-4E69-9591-52F78792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797-88E5-4EAA-8883-6CDBFB18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4B3-CC08-413C-9714-2DB78D51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3929-1F2D-44C1-AAA5-FC7BC3E6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F4D-CE3E-4373-8D40-FA29D281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92F-A4E6-4BCB-8D1E-3493F63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6A70-2553-4A11-ABC3-0692A27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308-E164-4915-86F4-90405278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C73-191B-4948-8D59-D5D2056ED6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826920" y="1125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pple Handwritten"/>
              </a:rPr>
              <a:t>Unit 1  Welcome back to sch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55640" y="407664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Part A  Let’s learn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1148400" y="573264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971640" y="26028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d the story and tick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84360" y="1413000"/>
            <a:ext cx="727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Apple Handwritt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Zoom wants to be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Apple Handwritt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Zip wants to be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Apple Handwritt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Zoom is bi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Apple Handwritt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Zip is cl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cc"/>
              </a:buClr>
              <a:buFont typeface="Apple Handwritte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 </a:t>
            </a:r>
            <a:r>
              <a:rPr b="0" i="1" lang="en-US" sz="3600" spc="-1" strike="noStrike">
                <a:solidFill>
                  <a:srgbClr val="0000cc"/>
                </a:solidFill>
                <a:latin typeface="Apple Handwritten"/>
              </a:rPr>
              <a:t>At last , Zoom is the teac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8360" y="1628640"/>
            <a:ext cx="77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行楷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行楷"/>
              </a:rPr>
              <a:t>学习了这个故事之后，你明白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2565360"/>
            <a:ext cx="770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行楷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迷你简行楷"/>
              </a:rPr>
              <a:t>这节课，你学习了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1260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A is for Apple.wmv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860436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729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847E-0AD3-4608-98BC-56C4478C07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2340000" y="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pple Handwritten"/>
              </a:rPr>
              <a:t>Let’s c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X7}%U4VR]7X56]@9(@$YWN9"/>
          <p:cNvPicPr/>
          <p:nvPr/>
        </p:nvPicPr>
        <p:blipFill>
          <a:blip r:embed="rId2"/>
          <a:stretch/>
        </p:blipFill>
        <p:spPr>
          <a:xfrm>
            <a:off x="1908000" y="765000"/>
            <a:ext cx="2306880" cy="251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6JUAH(5Y[K3ONW)2N9085{R"/>
          <p:cNvPicPr/>
          <p:nvPr/>
        </p:nvPicPr>
        <p:blipFill>
          <a:blip r:embed="rId3"/>
          <a:stretch/>
        </p:blipFill>
        <p:spPr>
          <a:xfrm>
            <a:off x="4643280" y="765000"/>
            <a:ext cx="2495880" cy="252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2333880" cy="232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P13{5)NB}(HPJE}(%@{PK$O"/>
          <p:cNvPicPr/>
          <p:nvPr/>
        </p:nvPicPr>
        <p:blipFill>
          <a:blip r:embed="rId5"/>
          <a:stretch/>
        </p:blipFill>
        <p:spPr>
          <a:xfrm>
            <a:off x="4643280" y="3573360"/>
            <a:ext cx="263844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0920" y="2205000"/>
            <a:ext cx="71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迷你简姚体"/>
              </a:rPr>
              <a:t>字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826920" y="981000"/>
            <a:ext cx="649440" cy="3960720"/>
          </a:xfrm>
          <a:custGeom>
            <a:avLst/>
            <a:gdLst>
              <a:gd name="textAreaLeft" fmla="*/ 415080 w 649440"/>
              <a:gd name="textAreaRight" fmla="*/ 649800 w 649440"/>
              <a:gd name="textAreaTop" fmla="*/ 102960 h 3960720"/>
              <a:gd name="textAreaBottom" fmla="*/ 3857760 h 39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692360" y="62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元音字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411280" y="1341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Handwritten"/>
              </a:rPr>
              <a:t>Aa  Ee  Ii  Oo  U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76360" y="249228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辅音字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050920" y="3500280"/>
            <a:ext cx="475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pple Handwritten"/>
              </a:rPr>
              <a:t>Bb  Cc  Dd  Ff  Gg  Hh  Jj  Kk  Ll  Mm  Nn   Pp  Qq  Rr  Ss  Tt  Vv  Ww  Xx  Yy  Z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U110"/>
          <p:cNvPicPr/>
          <p:nvPr/>
        </p:nvPicPr>
        <p:blipFill>
          <a:blip r:embed="rId2"/>
          <a:stretch/>
        </p:blipFill>
        <p:spPr>
          <a:xfrm>
            <a:off x="1258920" y="1628640"/>
            <a:ext cx="5832360" cy="27957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395280" y="765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仔细看一看下面的四个单词，它们有什么相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50920" y="4653000"/>
            <a:ext cx="604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395280" y="4724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它们都含有单元字母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，而且字母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前后都是辅音字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"/>
          <p:cNvSpPr/>
          <p:nvPr/>
        </p:nvSpPr>
        <p:spPr>
          <a:xfrm>
            <a:off x="952560" y="5880240"/>
            <a:ext cx="570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U110"/>
          <p:cNvPicPr/>
          <p:nvPr/>
        </p:nvPicPr>
        <p:blipFill>
          <a:blip r:embed="rId2"/>
          <a:stretch/>
        </p:blipFill>
        <p:spPr>
          <a:xfrm>
            <a:off x="1116000" y="1844640"/>
            <a:ext cx="5832360" cy="2795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755640" y="404640"/>
            <a:ext cx="69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仔细听一听下面的四个单词的 读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有什么相同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619280" y="486900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在这四单词中，单元字母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都发短音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/æ/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755640" y="404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pple Handwritten"/>
              </a:rPr>
              <a:t>Read , listen and 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763640" y="141300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Handwritten"/>
              </a:rPr>
              <a:t>1.  cat      ba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908000" y="2565360"/>
            <a:ext cx="27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Handwritten"/>
              </a:rPr>
              <a:t>2. bag      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403280" y="3789360"/>
            <a:ext cx="43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Handwritten"/>
              </a:rPr>
              <a:t>3.  Canada    p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547640" y="486900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pple Handwritten"/>
              </a:rPr>
              <a:t>4.  hand      da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2700360" y="26028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pple Handwritten"/>
              </a:rPr>
              <a:t>Try to r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55640" y="2133720"/>
            <a:ext cx="62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d   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ple   b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   c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   c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    f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n   f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   h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   m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p   s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d    th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Times New Roman"/>
              </a:rPr>
              <a:t>t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9640" y="9079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发音的规律，自造英语单词并大声读出来，看哪个小组在三分钟之内造出词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84360" y="270828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要求：你可以不知道你所造出的单词是什么意思，但它必须符合发音的规律，而且你要能够读出自己所造出的单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26920" y="4365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33"/>
                </a:solidFill>
                <a:latin typeface="Apple Handwritten"/>
              </a:rPr>
              <a:t>例：</a:t>
            </a:r>
            <a:r>
              <a:rPr b="0" lang="en-US" sz="3600" spc="-1" strike="noStrike">
                <a:solidFill>
                  <a:srgbClr val="990033"/>
                </a:solidFill>
                <a:latin typeface="Apple Handwritten"/>
              </a:rPr>
              <a:t>ba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023"/>
          <p:cNvPicPr/>
          <p:nvPr/>
        </p:nvPicPr>
        <p:blipFill>
          <a:blip r:embed="rId1"/>
          <a:srcRect l="0" t="0" r="0" b="99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900000" y="404640"/>
            <a:ext cx="45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Listen and wr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042920" y="1916280"/>
            <a:ext cx="61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99ccff"/>
                </a:solidFill>
                <a:latin typeface="Times New Roman"/>
              </a:rPr>
              <a:t>cat   bag   hand   dad</a:t>
            </a:r>
            <a:r>
              <a:rPr b="0" lang="en-US" sz="4800" spc="-1" strike="noStrike">
                <a:solidFill>
                  <a:srgbClr val="99ccff"/>
                </a:solidFill>
                <a:latin typeface="Apple Handwritte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1:54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7:22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