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camera.wav" ContentType="audio/x-wav"/>
  <Override PartName="/ppt/media/image14.gif" ContentType="image/gif"/>
  <Override PartName="/ppt/media/image13.jpeg" ContentType="image/jpeg"/>
  <Override PartName="/ppt/media/image11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cashreg.wav" ContentType="audio/x-wav"/>
  <Override PartName="/ppt/media/image12.jpeg" ContentType="image/jpeg"/>
  <Override PartName="/ppt/media/image6.png" ContentType="image/png"/>
  <Override PartName="/ppt/media/image7.jpeg" ContentType="image/jpeg"/>
  <Override PartName="/ppt/media/wind.wav" ContentType="audio/x-wav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E68D-E994-40E0-978D-5E54DD6CA02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5283-7E48-4119-A6A1-8EDC74BAAEA7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7606-0DDF-45E5-B5D0-DD0ADFAF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E181-69C5-4820-B6FE-E66D837E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56A24-DACF-496C-90F8-90F17C9F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270A5-FAB1-4E75-A844-7810F7E8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3E84F-4069-4A77-97DF-D8CADB4D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62935-E9DD-4C73-A219-59B8D274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2817F-EC6C-4AA9-A227-8A6FF39E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FD212-3EF4-401B-84F5-3A8F7EA4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7BE0D-E2C6-49B4-9EB5-0812B247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E6C02-8D62-4A14-92FC-8FAFBEF1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8BFD7-4B13-498A-BF30-21F5E631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74608-A5DB-4CA3-8D13-0DA13FED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AFDB-16B7-4F0B-9C0A-A2C788D6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E514E-C67A-463D-93A1-61A3D656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47DA9-A3B1-46B0-8E24-40E18BA5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11022-403B-4302-B457-94521385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648E7-3ECB-40A7-B906-E77DC90B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DFB5E-25B3-4822-B024-B35082EA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F5AD5-4820-460E-8AEE-D983260B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AF76E-6B87-4281-B391-5874B4EB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1A390-B441-4B26-9620-CBA277AE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54F11-D710-4C66-9F20-561E22EA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03222-3361-4339-9DB8-58104C8C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FE5F-614A-4CA7-AAD6-1703A45B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47A3B-114F-4005-B7D5-0871099F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07FF3-12A5-41CE-B18A-9D807D78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155BE-0F47-4E6D-A3FC-31220D36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262CA-F61C-4675-94EE-EB558987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184F6-BEB1-4170-859D-9BF0D1CD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51B73-F2CB-4582-BEC2-6AE2B4A1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FC245-B42E-4519-A61D-2FA4B4B3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8781B-E362-477D-B785-D2272F25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64C64-7130-49F8-B381-414A716C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D95FB-3AF0-4CC9-B2AC-31F80223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16C3-046E-43D3-882D-DF02AED9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A4D79-D471-4AE9-A085-08B64E5A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1A43C-56EB-4C8B-935C-9BD56400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64B0D-BD5A-435B-BB95-C1BE8100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605A3-A122-4326-BFF7-8C400CEC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43984-CFE7-4080-AC2A-B862EF82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B5136-2460-42A8-8588-85221E53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A7AFD-09E5-4312-8783-26C95ACC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A43AD-9979-4C35-BCD6-2C09EA49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E749F-00FE-4971-A39F-EBCA2AA8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B014E-B1F6-4CF1-8BB9-7067E6FB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A6D8-2EA1-4FAD-A425-AA38B1DC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666E4-08AA-49AE-845D-BE2D99CE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1D255-61F2-4630-9608-4CF7CDFB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5E751-14D0-41CF-BA46-A75CDD36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3D1F9-F752-4F1D-BF4E-0BC5BC57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CA652-B97E-4543-B531-9E4537B5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1B763-238C-409D-A42D-054D6642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FB6DC-2B45-44F3-82C2-B75FDFFB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A5331-A73B-4423-BAC9-0DBA6933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B6E3E-4437-48DB-9B53-476601E1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B8CA8-F732-425D-B8F1-51D481C6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CF69-E467-41DF-9350-B4CED002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B9098-32CF-4925-B622-DE6521E4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D96A4-F5C7-402F-B337-E959C15D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915E6-3042-472C-BFCE-4178AD94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257FC-A4AE-4821-9113-02043F7E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CB9DA-3871-4756-ABA4-D39DE18E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641B9-2C7D-4CCD-9075-0ED3B95D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F8B40-FBC8-4FD6-B332-F9D5E75A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DEB74B-24C0-4F5A-A325-10C1F492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1417AD-89E3-4F48-B1BB-CC493C80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69F6BB-DCAF-4722-A369-132A8F3E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4029-9BE9-48CF-A266-AB87246D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DBD2DA-CC3F-40FD-A5D1-7B8186B2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79B1F8-A663-4DB4-919F-4726C4AF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0EB376-FD9E-40C9-828A-436551A2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0BE537-8646-428D-8CE0-F1AB7B40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96972D-D5A4-47EC-B877-E14C08AD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1DEB5-CAA9-4967-AE27-AEE30A14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57CC74-34C5-4EC0-B2E0-AD27C928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4A8620-2F6B-421A-8C34-C7BACA90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C73BC6-2488-4720-9277-2D3C67A0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DF8D9C-456F-4E92-8611-2A9C1FED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B27F-1B35-47F6-BD2E-84E02128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8B061C-4A92-4B0C-A89F-6AD36422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BAB58D-009C-445E-8F79-6EF830BB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533066-24E7-49BF-BD7D-6CE3DA8D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8D0B98-98C8-4A6F-A97E-8957938C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FA302A-C5D8-45CC-B2F0-FDEC1609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1128E3-56DD-473B-A781-FDCB6BC2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02E3BA-F3F8-47D4-AD3F-9271E869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33C623-A4A2-4842-9AC7-6CB3591D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96874F-9BC8-40F6-BA5C-06DAA2C8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F07F58-0C3D-405C-A927-409CA213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CE29-67EF-4AC2-8109-DAD46DE8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177796-CDA5-4461-A52E-4C689BB9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54ED9F-037E-44B8-A926-2BBE69F3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FE392C-4112-4C0C-963F-01188F23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E61095-F5EE-4216-A233-D735D681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231A9E-2D2A-4C6D-B41A-20CA78D5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9890EB-3A1D-4036-AC9C-EADB5AB2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C1AFAA-C0CD-43FB-8D1A-02C41EEA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2B056D-2752-4753-9D2D-D8FA293A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CB7795-88AA-423C-A75D-810F5925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7FAF53-36FB-455A-AEDA-9027F3E2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FF6F-5506-43A4-9203-B1246DD3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2D2512-0C5A-4AD7-A11E-0294F55C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A32669-A1D4-48E2-819C-EEDDF8A2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A1BE49-2D22-43AC-BC11-EA5CB17F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08D92F-4007-43F1-9262-68E9E507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173405-B2F6-427F-9F35-4527E7E2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603560-744A-46B7-928A-924832CD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7EC506-BF1E-4083-8A3C-BA261F85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1B4001-E57B-44A8-AA38-50706B88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CD8E8C-951B-4B9C-AC0E-FCE75EE7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555FE2-F5FB-4555-AC7C-EAFB53DA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B8BE-127C-4DFF-9178-52D8412C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29D6-67E8-4F3D-B221-9A33A85E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54205C-F00F-41F4-9D5B-FD63577E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8EEED0-DC3C-45C3-9569-D60F15A4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3D35FA-F009-4BD8-91BC-151405A9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2F045D-5504-4978-B272-D0C80CAB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B40FA7-68F7-45E3-B21D-97335473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E19530-F2C0-417A-945C-BCA7A163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4E52E1-32E3-4C7A-82AC-3D379D4E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46BAC3-372A-482F-9EC6-8B3AE48A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B0A70E-1561-4E00-92A7-2E166624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DC4B2C-7541-4370-8335-CECDCA73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5B06-9763-4D23-8F33-E4B903B2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8BA099-B563-4E15-A021-E19FACCA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24811E-69EB-4BA6-99A9-5FAF22FF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EA0D52-6EBF-42A0-98AC-87CED8EF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017931-15F1-4DFD-AF7D-6CAAFA54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5EDE47-7F82-4848-B6C2-46201B4D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4478F2-8E48-49FD-BC50-C19D334C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37AD9A-D45B-4A65-8974-C5D5FB4E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C59396-C7B3-4215-ADBA-27FD8FB4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B7BAF0-BA71-47B8-BF05-A9C0199A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BDAFEB-5A4A-4A38-9E8E-5370EF6B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4926-C03C-44FA-9174-E99BBA84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0CB49F-181C-439D-A806-136CD582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EB4DBA-4C35-4872-A550-AF067887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56C519-898D-443A-83DC-092DCBB4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0F246D-7738-4373-8D05-EB941623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4D0951-C507-4727-8BF8-F165E86B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3900D1-A375-4100-8D2E-CF28AE0D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91DBF4-CB74-451F-BD8D-D076D696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9BBF71-46E7-4478-9DD6-13B5E9C2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FD297F-78E0-405E-9A59-3D3BA278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94C3EB-5916-4457-99AD-ED348C66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3100-6F81-4ADE-884D-11365983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031B49-9BAC-48BD-ADE1-E3B038C7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24BA15-7D07-4D57-94A4-B00C0E16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AB757D-F64D-4DAB-A03B-02C02240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3F9DFC-39C6-4C24-B005-6E7B4C42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23CD23-64D9-44A8-A628-30BBE986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20CC1D-D641-473F-B03A-39855FA8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82DA40-17BE-4024-815A-B3660D14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93B695-E05E-4304-B9D1-3AE38C64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526083-41AC-4A32-87E4-833B3007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904AF9-A7BD-484B-B185-A9B73F3F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1C84-E736-482B-943E-C7ABEBAE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0F5907-2529-4FD7-A59D-5ED174D4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DDD228-83DE-44C7-86CB-5756D29A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B2248E-F1F0-41A8-A611-FD121762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B78B4C-8033-4682-AA16-CDA8AC93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10AE80-D8C6-41DF-9435-A3555593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5113DF-3945-4EF4-9388-BDBA5083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0EC8FF-66AE-45CA-905F-8DC827D0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E6D43E-9654-4C6C-B583-6E5B5564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DCED8C-E423-4D31-99C7-E2E93355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A04A54-34B4-4C65-B875-167D319A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F3361-4EEE-4A56-AEF5-28BD4413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AB50C6-EB5D-4141-AD17-10259740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448EF9-C755-4DF3-9788-1940B2A4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4048B3-B4BC-4C18-B74F-BCEEC079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69D6CE-4737-409E-A663-E3F4F496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451819-39E5-4F50-BE7C-B8DD76C2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99E03A-9154-4ECA-AC12-904387F4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E32EEC-2C7F-469D-B6F1-71C204B4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0119CF-764C-465F-880C-33B9D946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18A235-00DC-461A-B5F5-9848D702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DE448E-7B4A-419A-96D6-98D1F461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2CFCE-9269-42D4-999F-3288BAFD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372B14-90ED-41FE-BDA1-D1A130C2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75E527-7C03-41A6-8481-D99F85CC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8EBB70-3A9D-451A-BF83-D8DC4706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2803BE-2517-4FE5-965D-A43DE4EC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2AB2E4-11E8-489B-A65F-CD9C3823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6DE34F-A540-4143-8806-A674F381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6CF847-74EB-43B5-8384-89E4A74E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F24C0C-CC74-4CB7-8AA4-13E25962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138DF3-E448-481D-8C28-67C09CA9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CCFDC3-B572-4E52-9363-11667EF0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EADEC-B6A5-4A5B-9DF6-6E665002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7A913B-E183-4AAC-B051-17F62065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D79100-96A2-4D8F-9CC0-9FA5B039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1C197D-0749-4C67-A82A-688392E4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82DFE1-6103-481E-A47B-9D770718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8B4D77-C378-466A-8E91-73631E9C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8AF926-DB32-4183-98D8-BB2795B3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ED7A23-8877-490B-9FDA-CBB396AF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04AC64-CA47-4499-AAE7-5CF5C5A6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F22B02-8858-462C-AC9E-A91FBCE4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22028F-C76A-4DED-BA03-8D45172A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344C5-7C16-49E0-A721-814BCB3D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73A1D7-5ED4-4DB6-A635-51424186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B34210-4E26-44A5-A082-3141914D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5553A4-FE9B-416C-8005-88C7D267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11E7AC-2098-498E-8018-41839AB4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41EF59-08BE-424C-90C4-D4CB4778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489326-76CF-4870-8800-E2324B88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7042E7-AC39-4073-8ED5-45C5A610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51DE99-B9E3-4345-9BD6-2F0B453A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521D3E-F8D1-463D-9F97-C8DCD95A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85105-ACF2-4924-AF3D-FF78A3FD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124F-4106-4042-AC73-E04A0C0C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23158-7CB3-46FA-A655-7BD75446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F1EEB-E17E-4F50-B365-9542D9B5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4F508-F8E8-40F8-8BE9-78BB58F6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3410D-B64D-41A8-A29E-80A596DB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0FA35-C05F-413D-A7D6-89CF6925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9AF10-AED6-4C15-BA0A-67E6C81F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24BA7-69FB-4C8A-B90E-3E25E4C7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0A9CE-CE90-4CBB-B081-3DB7D09F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74131-7DE8-493C-B9EC-475D4347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B15AB-5C59-4941-AF49-3C069119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A328-1C6C-4056-9408-A625573C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438C0-9D11-47E1-8021-A052F57E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58B8D-1503-4237-9913-DE0AE198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55B40-C5DF-4402-B704-464CA1AB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BAF48-CEAE-487B-AA25-785B0AF5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DC1C2-B1E7-4A14-8994-8A27944A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2AFAD-0FB7-4D2E-A225-37051BB7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874D8-0862-4753-B406-D1396A52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F062C-46AD-454C-97A4-1F0D5327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8E122-1106-4BF6-81C3-C9148774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13A36-083B-4607-A238-7F42BE16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00FB-BE21-4A66-9A87-3F4C0B12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41A40-FB4A-444A-8834-F916B84C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6B7D0-F11A-48E3-8084-01F33FEA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80FC1-9FC9-4F04-9AE8-2893F629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98C5E-F7F8-480D-A834-49254205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8FF04-14EF-49CF-BC46-D539B7C3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3024A-C66A-4398-9EBB-3F8D70F6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25081-7DAC-4C37-BDB5-17D9C127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F612C-30F6-4583-BA63-D2F62ADA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E68CA-BE7F-4B64-B307-E45C4802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CE289-33F7-45E0-BBFA-5B4582FA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CF13-1CD3-4250-BB80-5331D833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5861B-9572-446D-8DC0-FB54DEF5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94613-937A-48C2-9BA1-EBC76484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FC7D7-5AB3-48A3-954A-B45C4B5D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172F0-8A64-4471-9DEE-F02EC39D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0F91C-E7D0-40C2-8082-C3678D82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75E36-3B78-44A9-B53F-1EFE7781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D6708-1498-4D7C-B8E2-A58A17FE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3C161-62CB-4142-A173-AB34D336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01CF4-A743-422F-B3AD-785EF914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1A8B1-EB38-4293-8F25-04FD9039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CF1-EF11-49A9-A0C5-5175EB25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2B0B4-A827-499A-9083-28DA6ABD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991C9-4A39-48C4-ABA1-86E37FA1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E7603-B0FF-451C-BF5B-AF8676B1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271E3-C377-46A5-948D-98018515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04335-D605-490B-824F-5F180817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FF394-7E0F-400C-A575-125177C1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27E55-F710-4438-8E4F-6C4AFDE2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1F491-76F5-4726-B5DC-8D94F9F8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2E921-687E-469F-A8EE-4D8F33E0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4ACE9-6BC8-44FB-94A1-375D621F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6C5-E0C1-4027-BA1C-19773764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DE759-DF60-47E6-A943-B6043B4B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17D08-A26C-4257-A6A4-0969A294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AF453-D3B3-40B2-9550-95424055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BF643-F3B4-4999-A854-45442A85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9507D-76C0-4CBB-859A-938994D1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C4587-5180-498F-A658-E4D9D239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BAE16-1F01-45FF-8899-892A5DC5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A2A92-53DA-4AC7-A9AC-81B7E3AE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58576-BFCC-4521-9459-2F8D197A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06BCF-6C2E-4CDA-820D-79194AE6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EF4-38F4-4BA8-926A-C4772142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140A1-9C25-4749-B686-5B208A03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9005D-CDCC-4C75-AEC0-E14BDB0F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39EDF-4D5A-4849-9DF4-08D8123E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B6045-CAFE-447E-AF1F-C2C2180E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45591-26E3-4971-AA3A-BB4503E9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B4E27-F58D-4DA6-8E6B-443712F3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972D9-28CB-46C7-9CEC-FFAC98EF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86E6E-69D8-4B6D-88A9-C47B8077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56A7B-A8CC-4E7A-997D-B01A0B3E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58230-1B59-4FC0-B68D-0835A6E6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AB8C-117D-4026-94FB-492804BDA7DC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78C1-AAD6-4A6C-B423-5CA3B8621D7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B095-33CB-4447-8158-058B762CD267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415B-C2CD-42FD-9BAA-6A893D17DB4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F6D4-3EFE-44FB-9E40-E382623B57B9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D565-FE31-4647-8D18-5BFD1E570C0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2F54-6757-490E-ADF6-3F567FAC010D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652C-99A4-4C04-A7DA-698618E8DA0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C7F6-B8D7-4350-AFA6-E735A65F0BD4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E372-3ABC-4F95-A490-D4EB8B0773C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94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8"/>
            <p:cNvSpPr/>
            <p:nvPr/>
          </p:nvSpPr>
          <p:spPr>
            <a:xfrm>
              <a:off x="5141160" y="1036080"/>
              <a:ext cx="109152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9"/>
            <p:cNvSpPr/>
            <p:nvPr/>
          </p:nvSpPr>
          <p:spPr>
            <a:xfrm>
              <a:off x="6385680" y="2482920"/>
              <a:ext cx="794160" cy="82908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5"/>
            <p:cNvSpPr/>
            <p:nvPr/>
          </p:nvSpPr>
          <p:spPr>
            <a:xfrm>
              <a:off x="7986960" y="2661840"/>
              <a:ext cx="93888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808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54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dt" idx="4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9513-E969-4A8B-A381-96A0AD0A859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 type="ftr" idx="4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EEA2-C211-4ABB-A045-AC9078A7CE4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 type="dt" idx="4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8D44-5BC3-48E2-B840-23481814D41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 type="ftr" idx="4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 type="sldNum" idx="4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2B97-B444-4EA4-9C3E-BEBA86F213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dt" idx="46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D297-A852-4303-8380-44AC173BB44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 type="ftr" idx="47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 type="sldNum" idx="48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1770-DD69-4692-B14D-8C0F61EF0A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49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0A39-CBFA-4899-9764-55E3B8A19E9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50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51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7B1C-DD13-4512-AE4A-F35707776C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 type="dt" idx="52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0CA9-36D1-474B-9A46-EC4B88FFE7F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 type="ftr" idx="53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 type="sldNum" idx="54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9FF3-AF30-4D56-868A-DB8D8854CE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dt" idx="55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6E2D-FAAE-471C-935C-E5CC381F51D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 type="ftr" idx="56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 type="sldNum" idx="57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649C-0B47-4304-9494-C3912751D8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94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208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222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236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50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64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8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80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ADF5-E98F-48BB-A737-987E6C11C5D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A00E-2E25-4990-8A40-A79AC4C95D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dt" idx="58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CE83-0B69-4ED1-8D0D-49C53CF1F4B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59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 type="sldNum" idx="60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CD46-8BF1-4DEC-9161-0776BB5E6D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 type="dt" idx="6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F3C6-93B4-431D-AD7A-4C8817FE7D0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 type="ftr" idx="6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 type="sldNum" idx="6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4823-D9E6-435C-A031-C999823B22F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 type="dt" idx="6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72DC-A4C7-4EF7-9A77-F21FC6B89D6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 type="ftr" idx="6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 type="sldNum" idx="6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FFF4-9CE5-4E0D-83F5-F8CF9F80D2E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dt" idx="6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085A-0729-486A-AA95-385C7AFFFDA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ftr" idx="6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sldNum" idx="6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0910-4C2D-420D-932F-516423DC0C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dt" idx="70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BD5B-5A57-4382-A71D-EADD8B8347D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 type="ftr" idx="71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 type="sldNum" idx="72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C42A-4756-4AB2-9E07-6E326C5B12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3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8D5D-5822-4EB9-AC65-9BF722595872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582F-4821-4CE0-AC29-2385C55CCA8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8CA3-0995-4874-8E7B-9EA2C64EF7A3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53FE-582F-4162-8A29-2A95326278E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29A9-81A8-44C3-87BE-2749DA197A3F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99BF-FEB9-4B83-9F23-C3DE7D98040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6E6B-7589-454C-B5FC-61010EBD5415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7E0C-6E68-4A1F-8BB1-FBD986D4474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90EC-5C58-48AE-A5E4-59241ED291ED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AC7D-57FE-45BB-BF54-17E4A10D490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915C-BC35-4E81-9BE2-667F543CD502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FD65-E698-4BC4-9F81-CCAC7F38CA8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3409-6ABE-4DE7-BA5A-D50C38B9CF26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77B6-8C13-4FF2-91D3-637C81F19D9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cashreg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5" name=""/>
          <p:cNvGraphicFramePr/>
          <p:nvPr/>
        </p:nvGraphicFramePr>
        <p:xfrm>
          <a:off x="428760" y="428760"/>
          <a:ext cx="5929200" cy="63792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637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6  Meet my family!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6" name="Rectangle 6"/>
          <p:cNvSpPr/>
          <p:nvPr/>
        </p:nvSpPr>
        <p:spPr>
          <a:xfrm>
            <a:off x="2583000" y="2133720"/>
            <a:ext cx="388764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宋体"/>
              </a:rPr>
              <a:t>第五课时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矩形 8"/>
          <p:cNvSpPr/>
          <p:nvPr/>
        </p:nvSpPr>
        <p:spPr>
          <a:xfrm>
            <a:off x="2163960" y="6093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3" descr="白雪公主"/>
          <p:cNvPicPr/>
          <p:nvPr/>
        </p:nvPicPr>
        <p:blipFill>
          <a:blip r:embed="rId2"/>
          <a:stretch/>
        </p:blipFill>
        <p:spPr>
          <a:xfrm>
            <a:off x="6435720" y="3352680"/>
            <a:ext cx="2708280" cy="3097440"/>
          </a:xfrm>
          <a:prstGeom prst="rect">
            <a:avLst/>
          </a:prstGeom>
          <a:ln w="0">
            <a:noFill/>
          </a:ln>
        </p:spPr>
      </p:pic>
      <p:sp>
        <p:nvSpPr>
          <p:cNvPr id="1469" name="Rectangle 4"/>
          <p:cNvSpPr/>
          <p:nvPr/>
        </p:nvSpPr>
        <p:spPr>
          <a:xfrm>
            <a:off x="1143000" y="838080"/>
            <a:ext cx="7162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0" name="WordArt 7" descr=""/>
          <p:cNvPicPr/>
          <p:nvPr/>
        </p:nvPicPr>
        <p:blipFill>
          <a:blip r:embed="rId3"/>
          <a:stretch/>
        </p:blipFill>
        <p:spPr>
          <a:xfrm>
            <a:off x="2133720" y="1251000"/>
            <a:ext cx="4913280" cy="2917800"/>
          </a:xfrm>
          <a:prstGeom prst="rect">
            <a:avLst/>
          </a:prstGeom>
          <a:ln w="0">
            <a:noFill/>
          </a:ln>
        </p:spPr>
      </p:pic>
      <p:sp>
        <p:nvSpPr>
          <p:cNvPr id="1471" name="页脚占位符 5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" dur="2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6BCA-F1A0-47B1-A7FF-AFBA326075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Text Box 3"/>
          <p:cNvSpPr/>
          <p:nvPr/>
        </p:nvSpPr>
        <p:spPr>
          <a:xfrm>
            <a:off x="5143680" y="2349360"/>
            <a:ext cx="367632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5500" spc="-1" strike="noStrike">
                <a:solidFill>
                  <a:srgbClr val="ff0000"/>
                </a:solidFill>
                <a:latin typeface="Arial"/>
              </a:rPr>
              <a:t>as</a:t>
            </a: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5500" spc="-1" strike="noStrike">
                <a:solidFill>
                  <a:srgbClr val="ff0000"/>
                </a:solidFill>
                <a:latin typeface="Arial"/>
              </a:rPr>
              <a:t>et</a:t>
            </a: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ball  player</a:t>
            </a:r>
            <a:endParaRPr b="1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9" name="Picture 4" descr="C:\Users\Administrator\AppData\Roaming\Tencent\Users\22453923\QQ\WinTemp\RichOle\DK438~IKY@M02M1{_W~1248.jpg"/>
          <p:cNvPicPr/>
          <p:nvPr/>
        </p:nvPicPr>
        <p:blipFill>
          <a:blip r:embed="rId1"/>
          <a:stretch/>
        </p:blipFill>
        <p:spPr>
          <a:xfrm>
            <a:off x="1071720" y="1428840"/>
            <a:ext cx="27493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Picture 3" descr="Act like a driver"/>
          <p:cNvPicPr/>
          <p:nvPr/>
        </p:nvPicPr>
        <p:blipFill>
          <a:blip r:embed="rId1"/>
          <a:srcRect l="0" t="16170" r="11121" b="0"/>
          <a:stretch/>
        </p:blipFill>
        <p:spPr>
          <a:xfrm>
            <a:off x="3071880" y="571680"/>
            <a:ext cx="2228760" cy="2435040"/>
          </a:xfrm>
          <a:prstGeom prst="rect">
            <a:avLst/>
          </a:prstGeom>
          <a:ln w="0">
            <a:noFill/>
          </a:ln>
        </p:spPr>
      </p:pic>
      <p:pic>
        <p:nvPicPr>
          <p:cNvPr id="1431" name="Picture 4" descr="Act like a doctor"/>
          <p:cNvPicPr/>
          <p:nvPr/>
        </p:nvPicPr>
        <p:blipFill>
          <a:blip r:embed="rId2"/>
          <a:srcRect l="17877" t="15975" r="17877" b="0"/>
          <a:stretch/>
        </p:blipFill>
        <p:spPr>
          <a:xfrm>
            <a:off x="5940360" y="549360"/>
            <a:ext cx="2449440" cy="2448000"/>
          </a:xfrm>
          <a:prstGeom prst="rect">
            <a:avLst/>
          </a:prstGeom>
          <a:ln w="0">
            <a:noFill/>
          </a:ln>
        </p:spPr>
      </p:pic>
      <p:pic>
        <p:nvPicPr>
          <p:cNvPr id="1432" name="Picture 5" descr=""/>
          <p:cNvPicPr/>
          <p:nvPr/>
        </p:nvPicPr>
        <p:blipFill>
          <a:blip r:embed="rId3"/>
          <a:srcRect l="16751" t="4530" r="12688" b="11831"/>
          <a:stretch/>
        </p:blipFill>
        <p:spPr>
          <a:xfrm>
            <a:off x="933480" y="3357720"/>
            <a:ext cx="2630520" cy="2673360"/>
          </a:xfrm>
          <a:prstGeom prst="rect">
            <a:avLst/>
          </a:prstGeom>
          <a:ln w="0">
            <a:noFill/>
          </a:ln>
        </p:spPr>
      </p:pic>
      <p:pic>
        <p:nvPicPr>
          <p:cNvPr id="1433" name="Picture 6" descr=""/>
          <p:cNvPicPr/>
          <p:nvPr/>
        </p:nvPicPr>
        <p:blipFill>
          <a:blip r:embed="rId4"/>
          <a:srcRect l="7813" t="4057" r="12462" b="12323"/>
          <a:stretch/>
        </p:blipFill>
        <p:spPr>
          <a:xfrm>
            <a:off x="4643280" y="3459240"/>
            <a:ext cx="2521080" cy="249084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7" descr="C:\Users\Administrator\AppData\Roaming\Tencent\Users\22453923\QQ\WinTemp\RichOle\DK438~IKY@M02M1{_W~1248.jpg"/>
          <p:cNvPicPr/>
          <p:nvPr/>
        </p:nvPicPr>
        <p:blipFill>
          <a:blip r:embed="rId5"/>
          <a:stretch/>
        </p:blipFill>
        <p:spPr>
          <a:xfrm>
            <a:off x="1143000" y="785880"/>
            <a:ext cx="1751040" cy="2109600"/>
          </a:xfrm>
          <a:prstGeom prst="rect">
            <a:avLst/>
          </a:prstGeom>
          <a:ln w="0">
            <a:noFill/>
          </a:ln>
        </p:spPr>
      </p:pic>
      <p:sp>
        <p:nvSpPr>
          <p:cNvPr id="1435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Picture 2" descr="10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326280"/>
          </a:xfrm>
          <a:prstGeom prst="rect">
            <a:avLst/>
          </a:prstGeom>
          <a:ln w="0">
            <a:noFill/>
          </a:ln>
        </p:spPr>
      </p:pic>
      <p:sp>
        <p:nvSpPr>
          <p:cNvPr id="1437" name="Text Box 3"/>
          <p:cNvSpPr/>
          <p:nvPr/>
        </p:nvSpPr>
        <p:spPr>
          <a:xfrm>
            <a:off x="228600" y="0"/>
            <a:ext cx="20574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et’s do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8" name="Picture 4" descr="C:\Users\Administrator\AppData\Roaming\Tencent\Users\22453923\QQ\WinTemp\RichOle\DK438~IKY@M02M1{_W~1248.jpg"/>
          <p:cNvPicPr/>
          <p:nvPr/>
        </p:nvPicPr>
        <p:blipFill>
          <a:blip r:embed="rId2"/>
          <a:stretch/>
        </p:blipFill>
        <p:spPr>
          <a:xfrm>
            <a:off x="6429240" y="3500280"/>
            <a:ext cx="2143440" cy="26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9" name=""/>
          <p:cNvGraphicFramePr/>
          <p:nvPr/>
        </p:nvGraphicFramePr>
        <p:xfrm>
          <a:off x="6858000" y="6072120"/>
          <a:ext cx="2286000" cy="37152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basketball play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f4ff"/>
                    </a:solidFill>
                  </a:tcPr>
                </a:tc>
              </a:tr>
            </a:tbl>
          </a:graphicData>
        </a:graphic>
      </p:graphicFrame>
      <p:sp>
        <p:nvSpPr>
          <p:cNvPr id="1440" name="页脚占位符 5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Picture 4" descr="5"/>
          <p:cNvPicPr/>
          <p:nvPr/>
        </p:nvPicPr>
        <p:blipFill>
          <a:blip r:embed="rId1"/>
          <a:srcRect l="0" t="0" r="0" b="2806"/>
          <a:stretch/>
        </p:blipFill>
        <p:spPr>
          <a:xfrm>
            <a:off x="0" y="141300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1442" name="Text Box 5"/>
          <p:cNvSpPr/>
          <p:nvPr/>
        </p:nvSpPr>
        <p:spPr>
          <a:xfrm>
            <a:off x="34920" y="11916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Read and writ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页脚占位符 3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Picture 4" descr="6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472360"/>
          </a:xfrm>
          <a:prstGeom prst="rect">
            <a:avLst/>
          </a:prstGeom>
          <a:ln w="0">
            <a:noFill/>
          </a:ln>
        </p:spPr>
      </p:pic>
      <p:sp>
        <p:nvSpPr>
          <p:cNvPr id="1445" name="Text Box 5"/>
          <p:cNvSpPr/>
          <p:nvPr/>
        </p:nvSpPr>
        <p:spPr>
          <a:xfrm>
            <a:off x="34920" y="11916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Write and sa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页脚占位符 3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Rectangle 4"/>
          <p:cNvSpPr/>
          <p:nvPr/>
        </p:nvSpPr>
        <p:spPr>
          <a:xfrm>
            <a:off x="0" y="-573840"/>
            <a:ext cx="939636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填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y father is a ________. He teaches Engli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My aunt is a ____________. She helps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帮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octor in the hospita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An apple a day keeps the _________ aw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My brother likes basketball 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is a _______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 My uncle is a __________.He likes ca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 My grandpa works a farm. He is a 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Text Box 7"/>
          <p:cNvSpPr/>
          <p:nvPr/>
        </p:nvSpPr>
        <p:spPr>
          <a:xfrm>
            <a:off x="3276720" y="333360"/>
            <a:ext cx="151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8"/>
          <p:cNvSpPr/>
          <p:nvPr/>
        </p:nvSpPr>
        <p:spPr>
          <a:xfrm>
            <a:off x="-1065240" y="51246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9"/>
          <p:cNvSpPr/>
          <p:nvPr/>
        </p:nvSpPr>
        <p:spPr>
          <a:xfrm>
            <a:off x="5651640" y="278136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o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10"/>
          <p:cNvSpPr/>
          <p:nvPr/>
        </p:nvSpPr>
        <p:spPr>
          <a:xfrm>
            <a:off x="3420360" y="333360"/>
            <a:ext cx="16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ach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11"/>
          <p:cNvSpPr/>
          <p:nvPr/>
        </p:nvSpPr>
        <p:spPr>
          <a:xfrm>
            <a:off x="3419640" y="1197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ur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Text Box 12"/>
          <p:cNvSpPr/>
          <p:nvPr/>
        </p:nvSpPr>
        <p:spPr>
          <a:xfrm>
            <a:off x="2268360" y="4221000"/>
            <a:ext cx="39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ketball play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Text Box 13"/>
          <p:cNvSpPr/>
          <p:nvPr/>
        </p:nvSpPr>
        <p:spPr>
          <a:xfrm>
            <a:off x="3348000" y="5157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ri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14"/>
          <p:cNvSpPr/>
          <p:nvPr/>
        </p:nvSpPr>
        <p:spPr>
          <a:xfrm>
            <a:off x="6948360" y="6093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arm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页脚占位符 10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Picture 3" descr="20060317234634c03a7"/>
          <p:cNvPicPr/>
          <p:nvPr/>
        </p:nvPicPr>
        <p:blipFill>
          <a:blip r:embed="rId1"/>
          <a:stretch/>
        </p:blipFill>
        <p:spPr>
          <a:xfrm>
            <a:off x="900000" y="1125360"/>
            <a:ext cx="3971880" cy="2791080"/>
          </a:xfrm>
          <a:prstGeom prst="rect">
            <a:avLst/>
          </a:prstGeom>
          <a:ln w="0">
            <a:noFill/>
          </a:ln>
        </p:spPr>
      </p:pic>
      <p:sp>
        <p:nvSpPr>
          <p:cNvPr id="1458" name="Text Box 4"/>
          <p:cNvSpPr/>
          <p:nvPr/>
        </p:nvSpPr>
        <p:spPr>
          <a:xfrm>
            <a:off x="0" y="260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football   play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Picture 5" descr="Img246401832"/>
          <p:cNvPicPr/>
          <p:nvPr/>
        </p:nvPicPr>
        <p:blipFill>
          <a:blip r:embed="rId2"/>
          <a:stretch/>
        </p:blipFill>
        <p:spPr>
          <a:xfrm>
            <a:off x="5580000" y="836640"/>
            <a:ext cx="2743200" cy="3733920"/>
          </a:xfrm>
          <a:prstGeom prst="rect">
            <a:avLst/>
          </a:prstGeom>
          <a:ln w="0">
            <a:noFill/>
          </a:ln>
        </p:spPr>
      </p:pic>
      <p:sp>
        <p:nvSpPr>
          <p:cNvPr id="1460" name="Text Box 6"/>
          <p:cNvSpPr/>
          <p:nvPr/>
        </p:nvSpPr>
        <p:spPr>
          <a:xfrm>
            <a:off x="3708360" y="47242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basketball   play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页脚占位符 5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3"/>
          <p:cNvSpPr/>
          <p:nvPr/>
        </p:nvSpPr>
        <p:spPr>
          <a:xfrm>
            <a:off x="28584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Picture 4" descr="图文-美职棒洋基VS魔鬼鱼球被击出的一瞬间"/>
          <p:cNvPicPr/>
          <p:nvPr/>
        </p:nvPicPr>
        <p:blipFill>
          <a:blip r:embed="rId1"/>
          <a:stretch/>
        </p:blipFill>
        <p:spPr>
          <a:xfrm>
            <a:off x="1600200" y="1393920"/>
            <a:ext cx="5791320" cy="3711600"/>
          </a:xfrm>
          <a:prstGeom prst="rect">
            <a:avLst/>
          </a:prstGeom>
          <a:ln w="0">
            <a:noFill/>
          </a:ln>
        </p:spPr>
      </p:pic>
      <p:sp>
        <p:nvSpPr>
          <p:cNvPr id="1464" name="Text Box 5"/>
          <p:cNvSpPr/>
          <p:nvPr/>
        </p:nvSpPr>
        <p:spPr>
          <a:xfrm>
            <a:off x="2362320" y="730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baseball    play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页脚占位符 4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文本框 1"/>
          <p:cNvSpPr/>
          <p:nvPr/>
        </p:nvSpPr>
        <p:spPr>
          <a:xfrm>
            <a:off x="733320" y="5376960"/>
            <a:ext cx="66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6:49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7:48Z</dcterms:modified>
  <cp:revision>17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