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carbrake.wav" ContentType="audio/x-wav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1F47-A747-4E04-88DC-329F75AB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C8EE-3DBC-49BB-9B00-16CADD87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BAD7-9517-4862-9A3F-0BC512DDE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53A1-595D-4AB2-BE36-B67BB871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EA78-8436-4F8F-AA29-3BC959E8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F2A2-5AD7-4E57-A7E8-B92DCCE5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E761-D14E-4107-BF96-67D58910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8502-A867-419E-B37C-77305B5A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E38A-2F14-4D96-9032-B560E19B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3D67-BEB9-4F23-9856-311B9A06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8D27-4BAA-4171-8243-E3820DE0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1CF0-7B90-4651-8DF8-2DC8F7EE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9405-EE0A-45C3-AF8D-A0889C0A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341B-FB5D-42BE-AE5B-A88849CE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B94C-CE29-413D-A59B-7BE48B09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28B7-9DF0-4B8F-91F4-0B8435C1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5BE1-0D21-40FA-A6DB-AFC4E89C2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A930A-2D8F-4E42-8F0E-3F5EECA0F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00273-9408-4F99-968A-B2CD2E93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E922A-6D57-447E-8B55-9EE49BF1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58937-34C1-4454-97EE-BDAC2FEE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3ADB5-1AB8-4D97-8ECB-F1814599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CD91-2959-45F8-87BA-388044CF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7A5DD-B371-48FC-A355-560ECBA9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0153E-C1B4-4449-8297-845DA686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FCD89-42C4-4CA2-829D-CE7A0046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4E84B-90DB-42BB-ABED-74B65799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A6F5B-9D39-4729-9A3A-1F8FDE74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BBA34-C911-4654-912B-B93DECBC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70C8E-E7AE-44D8-A9CD-6BF1E6A2E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38EC-A4F1-4CCA-A4E0-3956D056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8CF0-81B0-45DA-A099-558BED4B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67F0-F1A9-4933-AE23-718E2D27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BA5B-8CC4-4FF5-8734-9C48997D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EC0B-6364-4126-A4DE-1654CC6C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D8B9-E355-438C-86E9-06279D92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3073"/>
          <p:cNvGrpSpPr/>
          <p:nvPr/>
        </p:nvGrpSpPr>
        <p:grpSpPr>
          <a:xfrm>
            <a:off x="0" y="-4680"/>
            <a:ext cx="1063440" cy="6858000"/>
            <a:chOff x="0" y="-4680"/>
            <a:chExt cx="1063440" cy="6858000"/>
          </a:xfrm>
        </p:grpSpPr>
        <p:grpSp>
          <p:nvGrpSpPr>
            <p:cNvPr id="1" name="组合 3074"/>
            <p:cNvGrpSpPr/>
            <p:nvPr/>
          </p:nvGrpSpPr>
          <p:grpSpPr>
            <a:xfrm>
              <a:off x="41040" y="-4680"/>
              <a:ext cx="1014120" cy="6857640"/>
              <a:chOff x="41040" y="-4680"/>
              <a:chExt cx="1014120" cy="6857640"/>
            </a:xfrm>
          </p:grpSpPr>
          <p:sp>
            <p:nvSpPr>
              <p:cNvPr id="2" name="任意多边形 3075"/>
              <p:cNvSpPr/>
              <p:nvPr/>
            </p:nvSpPr>
            <p:spPr>
              <a:xfrm flipH="1">
                <a:off x="50040" y="-4680"/>
                <a:ext cx="99324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任意多边形 3076"/>
              <p:cNvSpPr/>
              <p:nvPr/>
            </p:nvSpPr>
            <p:spPr>
              <a:xfrm flipH="1">
                <a:off x="48960" y="1692000"/>
                <a:ext cx="99324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任意多边形 3077"/>
              <p:cNvSpPr/>
              <p:nvPr/>
            </p:nvSpPr>
            <p:spPr>
              <a:xfrm flipH="1">
                <a:off x="50400" y="1287360"/>
                <a:ext cx="99324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任意多边形 3078"/>
              <p:cNvSpPr/>
              <p:nvPr/>
            </p:nvSpPr>
            <p:spPr>
              <a:xfrm flipH="1">
                <a:off x="48960" y="149400"/>
                <a:ext cx="99324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任意多边形 3079"/>
              <p:cNvSpPr/>
              <p:nvPr/>
            </p:nvSpPr>
            <p:spPr>
              <a:xfrm flipH="1">
                <a:off x="50400" y="984960"/>
                <a:ext cx="99324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任意多边形 3080"/>
              <p:cNvSpPr/>
              <p:nvPr/>
            </p:nvSpPr>
            <p:spPr>
              <a:xfrm flipH="1">
                <a:off x="50400" y="680400"/>
                <a:ext cx="99324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任意多边形 3081"/>
              <p:cNvSpPr/>
              <p:nvPr/>
            </p:nvSpPr>
            <p:spPr>
              <a:xfrm flipH="1">
                <a:off x="49320" y="370440"/>
                <a:ext cx="100584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任意多边形 3082"/>
              <p:cNvSpPr/>
              <p:nvPr/>
            </p:nvSpPr>
            <p:spPr>
              <a:xfrm flipH="1">
                <a:off x="40680" y="3938400"/>
                <a:ext cx="9932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任意多边形 3083"/>
              <p:cNvSpPr/>
              <p:nvPr/>
            </p:nvSpPr>
            <p:spPr>
              <a:xfrm flipH="1">
                <a:off x="42120" y="3533760"/>
                <a:ext cx="99324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任意多边形 3084"/>
              <p:cNvSpPr/>
              <p:nvPr/>
            </p:nvSpPr>
            <p:spPr>
              <a:xfrm flipH="1">
                <a:off x="41040" y="2394360"/>
                <a:ext cx="99324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任意多边形 3085"/>
              <p:cNvSpPr/>
              <p:nvPr/>
            </p:nvSpPr>
            <p:spPr>
              <a:xfrm flipH="1">
                <a:off x="42120" y="3230280"/>
                <a:ext cx="99324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任意多边形 3086"/>
              <p:cNvSpPr/>
              <p:nvPr/>
            </p:nvSpPr>
            <p:spPr>
              <a:xfrm flipH="1">
                <a:off x="40680" y="2925360"/>
                <a:ext cx="99324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任意多边形 3087"/>
              <p:cNvSpPr/>
              <p:nvPr/>
            </p:nvSpPr>
            <p:spPr>
              <a:xfrm flipH="1">
                <a:off x="42840" y="2617560"/>
                <a:ext cx="100584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任意多边形 3088"/>
              <p:cNvSpPr/>
              <p:nvPr/>
            </p:nvSpPr>
            <p:spPr>
              <a:xfrm flipH="1">
                <a:off x="48600" y="4969080"/>
                <a:ext cx="99324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任意多边形 3089"/>
              <p:cNvSpPr/>
              <p:nvPr/>
            </p:nvSpPr>
            <p:spPr>
              <a:xfrm flipH="1">
                <a:off x="50040" y="4564440"/>
                <a:ext cx="99324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任意多边形 3090"/>
              <p:cNvSpPr/>
              <p:nvPr/>
            </p:nvSpPr>
            <p:spPr>
              <a:xfrm flipH="1">
                <a:off x="40680" y="5671440"/>
                <a:ext cx="99324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任意多边形 3091"/>
              <p:cNvSpPr/>
              <p:nvPr/>
            </p:nvSpPr>
            <p:spPr>
              <a:xfrm flipH="1" rot="16200000">
                <a:off x="365400" y="6182640"/>
                <a:ext cx="345960" cy="99468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任意多边形 3092"/>
              <p:cNvSpPr/>
              <p:nvPr/>
            </p:nvSpPr>
            <p:spPr>
              <a:xfrm flipH="1">
                <a:off x="40680" y="6203160"/>
                <a:ext cx="99324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任意多边形 3093"/>
              <p:cNvSpPr/>
              <p:nvPr/>
            </p:nvSpPr>
            <p:spPr>
              <a:xfrm flipH="1">
                <a:off x="42840" y="5895000"/>
                <a:ext cx="100584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任意多边形 3094"/>
            <p:cNvSpPr/>
            <p:nvPr/>
          </p:nvSpPr>
          <p:spPr>
            <a:xfrm flipH="1" rot="16200000">
              <a:off x="-3101040" y="3096720"/>
              <a:ext cx="6858000" cy="65520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任意多边形 3095"/>
            <p:cNvSpPr/>
            <p:nvPr/>
          </p:nvSpPr>
          <p:spPr>
            <a:xfrm flipH="1" rot="16200000">
              <a:off x="-251460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4358-8BD1-48ED-A965-6504DA4AE5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E0FF-5150-4E2C-9562-146C3DE0E50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E1F0-F585-41CC-9967-D9EA57667C0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组合 4097"/>
          <p:cNvGrpSpPr/>
          <p:nvPr/>
        </p:nvGrpSpPr>
        <p:grpSpPr>
          <a:xfrm>
            <a:off x="-360" y="2438280"/>
            <a:ext cx="9147240" cy="1063800"/>
            <a:chOff x="-360" y="2438280"/>
            <a:chExt cx="9147240" cy="1063800"/>
          </a:xfrm>
        </p:grpSpPr>
        <p:grpSp>
          <p:nvGrpSpPr>
            <p:cNvPr id="106" name="组合 4098"/>
            <p:cNvGrpSpPr/>
            <p:nvPr/>
          </p:nvGrpSpPr>
          <p:grpSpPr>
            <a:xfrm>
              <a:off x="-360" y="2479320"/>
              <a:ext cx="9147240" cy="1012680"/>
              <a:chOff x="-360" y="2479320"/>
              <a:chExt cx="9147240" cy="1012680"/>
            </a:xfrm>
          </p:grpSpPr>
          <p:sp>
            <p:nvSpPr>
              <p:cNvPr id="107" name="任意多边形 4099"/>
              <p:cNvSpPr/>
              <p:nvPr/>
            </p:nvSpPr>
            <p:spPr>
              <a:xfrm flipH="1" rot="5400000">
                <a:off x="4090680" y="-1575360"/>
                <a:ext cx="99180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任意多边形 4100"/>
              <p:cNvSpPr/>
              <p:nvPr/>
            </p:nvSpPr>
            <p:spPr>
              <a:xfrm flipH="1" rot="5400000">
                <a:off x="6054120" y="2648880"/>
                <a:ext cx="99180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任意多边形 4101"/>
              <p:cNvSpPr/>
              <p:nvPr/>
            </p:nvSpPr>
            <p:spPr>
              <a:xfrm flipH="1" rot="5400000">
                <a:off x="6593040" y="2649600"/>
                <a:ext cx="99180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任意多边形 4102"/>
              <p:cNvSpPr/>
              <p:nvPr/>
            </p:nvSpPr>
            <p:spPr>
              <a:xfrm flipH="1" rot="5400000">
                <a:off x="8243280" y="2780640"/>
                <a:ext cx="99180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任意多边形 4103"/>
              <p:cNvSpPr/>
              <p:nvPr/>
            </p:nvSpPr>
            <p:spPr>
              <a:xfrm flipH="1" rot="5400000">
                <a:off x="7098120" y="2751120"/>
                <a:ext cx="99180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任意多边形 4104"/>
              <p:cNvSpPr/>
              <p:nvPr/>
            </p:nvSpPr>
            <p:spPr>
              <a:xfrm flipH="1" rot="5400000">
                <a:off x="7450560" y="2697120"/>
                <a:ext cx="99180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任意多边形 4105"/>
              <p:cNvSpPr/>
              <p:nvPr/>
            </p:nvSpPr>
            <p:spPr>
              <a:xfrm flipH="1" rot="5400000">
                <a:off x="7894080" y="2739600"/>
                <a:ext cx="100440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任意多边形 4106"/>
              <p:cNvSpPr/>
              <p:nvPr/>
            </p:nvSpPr>
            <p:spPr>
              <a:xfrm flipH="1" rot="5400000">
                <a:off x="3057120" y="2640960"/>
                <a:ext cx="99180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任意多边形 4107"/>
              <p:cNvSpPr/>
              <p:nvPr/>
            </p:nvSpPr>
            <p:spPr>
              <a:xfrm flipH="1" rot="5400000">
                <a:off x="3596040" y="2641680"/>
                <a:ext cx="99180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任意多边形 4108"/>
              <p:cNvSpPr/>
              <p:nvPr/>
            </p:nvSpPr>
            <p:spPr>
              <a:xfrm flipH="1" rot="5400000">
                <a:off x="5249520" y="2772720"/>
                <a:ext cx="99180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任意多边形 4109"/>
              <p:cNvSpPr/>
              <p:nvPr/>
            </p:nvSpPr>
            <p:spPr>
              <a:xfrm flipH="1" rot="5400000">
                <a:off x="4102560" y="2743200"/>
                <a:ext cx="99180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任意多边形 4110"/>
              <p:cNvSpPr/>
              <p:nvPr/>
            </p:nvSpPr>
            <p:spPr>
              <a:xfrm flipH="1" rot="5400000">
                <a:off x="4455720" y="2688480"/>
                <a:ext cx="99180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任意多边形 4111"/>
              <p:cNvSpPr/>
              <p:nvPr/>
            </p:nvSpPr>
            <p:spPr>
              <a:xfrm flipH="1" rot="5400000">
                <a:off x="4896000" y="2732400"/>
                <a:ext cx="100440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任意多边形 4112"/>
              <p:cNvSpPr/>
              <p:nvPr/>
            </p:nvSpPr>
            <p:spPr>
              <a:xfrm flipH="1" rot="5400000">
                <a:off x="1682280" y="2648880"/>
                <a:ext cx="99180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任意多边形 4113"/>
              <p:cNvSpPr/>
              <p:nvPr/>
            </p:nvSpPr>
            <p:spPr>
              <a:xfrm flipH="1" rot="5400000">
                <a:off x="2221200" y="2649600"/>
                <a:ext cx="99180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任意多边形 4114"/>
              <p:cNvSpPr/>
              <p:nvPr/>
            </p:nvSpPr>
            <p:spPr>
              <a:xfrm flipH="1" rot="5400000">
                <a:off x="877320" y="2772720"/>
                <a:ext cx="99180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任意多边形 4115"/>
              <p:cNvSpPr/>
              <p:nvPr/>
            </p:nvSpPr>
            <p:spPr>
              <a:xfrm flipH="1">
                <a:off x="-720" y="2479680"/>
                <a:ext cx="461880" cy="99324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任意多边形 4116"/>
              <p:cNvSpPr/>
              <p:nvPr/>
            </p:nvSpPr>
            <p:spPr>
              <a:xfrm flipH="1" rot="5400000">
                <a:off x="83880" y="2688480"/>
                <a:ext cx="99180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任意多边形 4117"/>
              <p:cNvSpPr/>
              <p:nvPr/>
            </p:nvSpPr>
            <p:spPr>
              <a:xfrm flipH="1" rot="5400000">
                <a:off x="524160" y="2732400"/>
                <a:ext cx="100440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任意多边形 4118"/>
            <p:cNvSpPr/>
            <p:nvPr/>
          </p:nvSpPr>
          <p:spPr>
            <a:xfrm flipH="1">
              <a:off x="-72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任意多边形 4119"/>
            <p:cNvSpPr/>
            <p:nvPr/>
          </p:nvSpPr>
          <p:spPr>
            <a:xfrm flipH="1">
              <a:off x="-72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6519-0EF7-44BE-B316-21E1B30ED8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文本框 2049"/>
          <p:cNvSpPr/>
          <p:nvPr/>
        </p:nvSpPr>
        <p:spPr>
          <a:xfrm>
            <a:off x="1219320" y="175248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矩形 2051"/>
          <p:cNvSpPr txBox="1"/>
          <p:nvPr/>
        </p:nvSpPr>
        <p:spPr>
          <a:xfrm>
            <a:off x="1752480" y="3124080"/>
            <a:ext cx="62485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66"/>
                </a:solidFill>
                <a:latin typeface="宋体"/>
              </a:rPr>
              <a:t>面试技巧</a:t>
            </a:r>
            <a:endParaRPr b="1" lang="en-US" sz="5400" spc="1" strike="noStrike">
              <a:ln w="9360">
                <a:solidFill>
                  <a:srgbClr val="000000"/>
                </a:solidFill>
                <a:round/>
              </a:ln>
              <a:solidFill>
                <a:srgbClr val="ff0066"/>
              </a:solidFill>
              <a:latin typeface="宋体"/>
              <a:ea typeface="宋体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143000" y="2590920"/>
            <a:ext cx="7620120" cy="360"/>
            <a:chOff x="1143000" y="2590920"/>
            <a:chExt cx="7620120" cy="360"/>
          </a:xfrm>
        </p:grpSpPr>
        <p:sp>
          <p:nvSpPr>
            <p:cNvPr id="172" name="直接连接符 2052"/>
            <p:cNvSpPr/>
            <p:nvPr/>
          </p:nvSpPr>
          <p:spPr>
            <a:xfrm>
              <a:off x="1143000" y="2590920"/>
              <a:ext cx="762012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1143000" y="2590920"/>
              <a:ext cx="7620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5640" y="134100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00"/>
                </a:solidFill>
                <a:latin typeface="Times New Roman"/>
                <a:ea typeface="幼圆"/>
              </a:rPr>
              <a:t>开始面试</a:t>
            </a:r>
            <a:endParaRPr b="0" lang="en-US" sz="8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16" name="对象 43011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8458200" cy="3200400"/>
          </a:xfrm>
          <a:prstGeom prst="rect">
            <a:avLst/>
          </a:prstGeom>
          <a:ln w="0">
            <a:noFill/>
          </a:ln>
        </p:spPr>
      </p:pic>
      <p:sp>
        <p:nvSpPr>
          <p:cNvPr id="217" name="日期占位符 1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8288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  <a:ea typeface="宋体"/>
              </a:rPr>
              <a:t>结束面试</a:t>
            </a:r>
            <a:endParaRPr b="0" lang="en-US" sz="9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20" name="对象 45059" descr=""/>
          <p:cNvPicPr/>
          <p:nvPr/>
        </p:nvPicPr>
        <p:blipFill>
          <a:blip r:embed="rId1"/>
          <a:stretch/>
        </p:blipFill>
        <p:spPr>
          <a:xfrm>
            <a:off x="380880" y="3505320"/>
            <a:ext cx="8458200" cy="3124080"/>
          </a:xfrm>
          <a:prstGeom prst="rect">
            <a:avLst/>
          </a:prstGeom>
          <a:ln w="0">
            <a:noFill/>
          </a:ln>
        </p:spPr>
      </p:pic>
      <p:sp>
        <p:nvSpPr>
          <p:cNvPr id="221" name="日期占位符 1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72880" y="685800"/>
            <a:ext cx="7589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宋体"/>
              </a:rPr>
              <a:t>         </a:t>
            </a: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隶书"/>
              </a:rPr>
              <a:t>演练，远比真正的上舞台重要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761760" y="388620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Arial"/>
                <a:ea typeface="幼圆"/>
              </a:rPr>
              <a:t>培养从容的表演风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十字星 47111"/>
          <p:cNvSpPr/>
          <p:nvPr/>
        </p:nvSpPr>
        <p:spPr>
          <a:xfrm>
            <a:off x="0" y="3657600"/>
            <a:ext cx="1295280" cy="2895480"/>
          </a:xfrm>
          <a:custGeom>
            <a:avLst/>
            <a:gdLst>
              <a:gd name="textAreaLeft" fmla="*/ 533520 w 1295280"/>
              <a:gd name="textAreaRight" fmla="*/ 761760 w 1295280"/>
              <a:gd name="textAreaTop" fmla="*/ 1193040 h 2895480"/>
              <a:gd name="textAreaBottom" fmla="*/ 17024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十字星 47112"/>
          <p:cNvSpPr/>
          <p:nvPr/>
        </p:nvSpPr>
        <p:spPr>
          <a:xfrm>
            <a:off x="6934320" y="5257800"/>
            <a:ext cx="685800" cy="1600200"/>
          </a:xfrm>
          <a:custGeom>
            <a:avLst/>
            <a:gdLst>
              <a:gd name="textAreaLeft" fmla="*/ 282600 w 685800"/>
              <a:gd name="textAreaRight" fmla="*/ 403200 w 685800"/>
              <a:gd name="textAreaTop" fmla="*/ 659160 h 1600200"/>
              <a:gd name="textAreaBottom" fmla="*/ 9410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十字星 47113"/>
          <p:cNvSpPr/>
          <p:nvPr/>
        </p:nvSpPr>
        <p:spPr>
          <a:xfrm>
            <a:off x="5105520" y="1752480"/>
            <a:ext cx="2133360" cy="2667240"/>
          </a:xfrm>
          <a:custGeom>
            <a:avLst/>
            <a:gdLst>
              <a:gd name="textAreaLeft" fmla="*/ 879120 w 2133360"/>
              <a:gd name="textAreaRight" fmla="*/ 1254240 w 2133360"/>
              <a:gd name="textAreaTop" fmla="*/ 1099080 h 2667240"/>
              <a:gd name="textAreaBottom" fmla="*/ 156816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十字星 47114"/>
          <p:cNvSpPr/>
          <p:nvPr/>
        </p:nvSpPr>
        <p:spPr>
          <a:xfrm>
            <a:off x="1981080" y="609480"/>
            <a:ext cx="381240" cy="1295640"/>
          </a:xfrm>
          <a:custGeom>
            <a:avLst/>
            <a:gdLst>
              <a:gd name="textAreaLeft" fmla="*/ 156960 w 381240"/>
              <a:gd name="textAreaRight" fmla="*/ 224280 w 381240"/>
              <a:gd name="textAreaTop" fmla="*/ 533880 h 1295640"/>
              <a:gd name="textAreaBottom" fmla="*/ 7617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日期占位符 1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宋体"/>
              </a:rPr>
              <a:t>    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  <a:ea typeface="宋体"/>
              </a:rPr>
              <a:t>不                                                                      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228240" y="38862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隶书"/>
              </a:rPr>
              <a:t>不同的观众有着不同的喜好</a:t>
            </a:r>
            <a:br>
              <a:rPr sz="5400"/>
            </a:b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           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  <a:ea typeface="隶书"/>
              </a:rPr>
              <a:t>——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隶书"/>
              </a:rPr>
              <a:t>请准备千奇百怪的问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对象 51203" descr=""/>
          <p:cNvPicPr/>
          <p:nvPr/>
        </p:nvPicPr>
        <p:blipFill>
          <a:blip r:embed="rId1"/>
          <a:stretch/>
        </p:blipFill>
        <p:spPr>
          <a:xfrm>
            <a:off x="0" y="380880"/>
            <a:ext cx="4876920" cy="3124440"/>
          </a:xfrm>
          <a:prstGeom prst="rect">
            <a:avLst/>
          </a:prstGeom>
          <a:ln w="0">
            <a:noFill/>
          </a:ln>
        </p:spPr>
      </p:pic>
      <p:sp>
        <p:nvSpPr>
          <p:cNvPr id="232" name="日期占位符 1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矩形 64513"/>
          <p:cNvSpPr txBox="1"/>
          <p:nvPr/>
        </p:nvSpPr>
        <p:spPr>
          <a:xfrm>
            <a:off x="1371600" y="838080"/>
            <a:ext cx="73152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ff99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祝你成功！</a:t>
            </a:r>
            <a:endParaRPr b="1" lang="en-US" sz="6000" spc="1" strike="noStrike">
              <a:ln w="19080">
                <a:solidFill>
                  <a:srgbClr val="ff99ff"/>
                </a:solidFill>
                <a:round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237" name="对象 64514" descr=""/>
          <p:cNvPicPr/>
          <p:nvPr/>
        </p:nvPicPr>
        <p:blipFill>
          <a:blip r:embed="rId1"/>
          <a:stretch/>
        </p:blipFill>
        <p:spPr>
          <a:xfrm>
            <a:off x="1905120" y="3276720"/>
            <a:ext cx="6324480" cy="3352680"/>
          </a:xfrm>
          <a:prstGeom prst="rect">
            <a:avLst/>
          </a:prstGeom>
          <a:ln w="0">
            <a:noFill/>
          </a:ln>
        </p:spPr>
      </p:pic>
      <p:sp>
        <p:nvSpPr>
          <p:cNvPr id="238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对象 8193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7467480" cy="449568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8194"/>
          <p:cNvSpPr/>
          <p:nvPr/>
        </p:nvSpPr>
        <p:spPr>
          <a:xfrm>
            <a:off x="1828800" y="24382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一个圆你联想到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048120" y="1219320"/>
            <a:ext cx="6095880" cy="360"/>
            <a:chOff x="3048120" y="1219320"/>
            <a:chExt cx="6095880" cy="360"/>
          </a:xfrm>
        </p:grpSpPr>
        <p:sp>
          <p:nvSpPr>
            <p:cNvPr id="178" name="直接连接符 8195"/>
            <p:cNvSpPr/>
            <p:nvPr/>
          </p:nvSpPr>
          <p:spPr>
            <a:xfrm>
              <a:off x="3048120" y="1219320"/>
              <a:ext cx="609588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3048120" y="121932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文本框 8196"/>
          <p:cNvSpPr/>
          <p:nvPr/>
        </p:nvSpPr>
        <p:spPr>
          <a:xfrm>
            <a:off x="3429000" y="38088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面试有规律可循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1341000"/>
            <a:ext cx="894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66"/>
                </a:solidFill>
                <a:latin typeface="Times New Roman"/>
                <a:ea typeface="隶书"/>
              </a:rPr>
              <a:t>面试的两大基本原则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幼圆"/>
              </a:rPr>
              <a:t>了解自我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幼圆"/>
              </a:rPr>
              <a:t>了解企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对象 11267" descr=""/>
          <p:cNvPicPr/>
          <p:nvPr/>
        </p:nvPicPr>
        <p:blipFill>
          <a:blip r:embed="rId1"/>
          <a:stretch/>
        </p:blipFill>
        <p:spPr>
          <a:xfrm>
            <a:off x="6781680" y="1600200"/>
            <a:ext cx="2133720" cy="5257800"/>
          </a:xfrm>
          <a:prstGeom prst="rect">
            <a:avLst/>
          </a:prstGeom>
          <a:ln w="0">
            <a:noFill/>
          </a:ln>
        </p:spPr>
      </p:pic>
      <p:sp>
        <p:nvSpPr>
          <p:cNvPr id="185" name="日期占位符 1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筛选型面试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挑选型面试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混合型面试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矩形 14339"/>
          <p:cNvSpPr txBox="1"/>
          <p:nvPr/>
        </p:nvSpPr>
        <p:spPr>
          <a:xfrm rot="5400000">
            <a:off x="5295600" y="2476440"/>
            <a:ext cx="5410080" cy="1524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66"/>
                </a:solidFill>
                <a:latin typeface="隶书"/>
              </a:rPr>
              <a:t>面试类型</a:t>
            </a:r>
            <a:endParaRPr b="1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66"/>
              </a:solidFill>
              <a:latin typeface="隶书"/>
              <a:ea typeface="隶书"/>
            </a:endParaRPr>
          </a:p>
        </p:txBody>
      </p:sp>
      <p:sp>
        <p:nvSpPr>
          <p:cNvPr id="189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002360" y="456840"/>
            <a:ext cx="1943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3366"/>
                </a:solidFill>
                <a:latin typeface="Times New Roman"/>
                <a:ea typeface="汉鼎繁琥珀"/>
              </a:rPr>
              <a:t>面试形式</a:t>
            </a:r>
            <a:endParaRPr b="0" lang="en-US" sz="8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56768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一对一面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小组面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串联式面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不同类型的面试者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称职而作好充分准备的面试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训练有素，但却消极冷淡的面试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训练有素，但经验不足的面试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受过训练，但能力不强的面试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训练有素，但准备不足的面试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训练有素，却心不在焉的面试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Times New Roman"/>
                <a:ea typeface="隶书"/>
              </a:rPr>
              <a:t>为另一种舞台表演形式而打扮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8" name="矩形 31747"/>
          <p:cNvSpPr txBox="1"/>
          <p:nvPr/>
        </p:nvSpPr>
        <p:spPr>
          <a:xfrm>
            <a:off x="1447920" y="4038480"/>
            <a:ext cx="60958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9080">
                  <a:solidFill>
                    <a:srgbClr val="000080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请修饰你的外表！</a:t>
            </a:r>
            <a:endParaRPr b="0" lang="en-US" sz="3200" spc="1" strike="noStrike">
              <a:ln w="19080">
                <a:solidFill>
                  <a:srgbClr val="000080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9" name="日期占位符 1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矩形 36867"/>
          <p:cNvSpPr txBox="1"/>
          <p:nvPr/>
        </p:nvSpPr>
        <p:spPr>
          <a:xfrm>
            <a:off x="1600200" y="1981080"/>
            <a:ext cx="685800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cc0000"/>
                </a:solidFill>
                <a:latin typeface="黑体"/>
              </a:rPr>
              <a:t>出色表演的诀窍</a:t>
            </a:r>
            <a:endParaRPr b="1" lang="en-US" sz="5400" spc="1" strike="noStrike">
              <a:ln w="9360">
                <a:solidFill>
                  <a:srgbClr val="000000"/>
                </a:solidFill>
                <a:round/>
              </a:ln>
              <a:solidFill>
                <a:srgbClr val="cc0000"/>
              </a:solidFill>
              <a:latin typeface="黑体"/>
              <a:ea typeface="黑体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676520" y="5105520"/>
            <a:ext cx="6629400" cy="360"/>
            <a:chOff x="1676520" y="5105520"/>
            <a:chExt cx="6629400" cy="360"/>
          </a:xfrm>
        </p:grpSpPr>
        <p:sp>
          <p:nvSpPr>
            <p:cNvPr id="204" name="直接连接符 36868"/>
            <p:cNvSpPr/>
            <p:nvPr/>
          </p:nvSpPr>
          <p:spPr>
            <a:xfrm>
              <a:off x="1676520" y="5105520"/>
              <a:ext cx="662940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1676520" y="5105520"/>
              <a:ext cx="6629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676520" y="5486400"/>
            <a:ext cx="6629400" cy="360"/>
            <a:chOff x="1676520" y="5486400"/>
            <a:chExt cx="6629400" cy="360"/>
          </a:xfrm>
        </p:grpSpPr>
        <p:sp>
          <p:nvSpPr>
            <p:cNvPr id="207" name="直接连接符 36869"/>
            <p:cNvSpPr/>
            <p:nvPr/>
          </p:nvSpPr>
          <p:spPr>
            <a:xfrm>
              <a:off x="1676520" y="5486400"/>
              <a:ext cx="662940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1676520" y="5486400"/>
              <a:ext cx="6629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日期占位符 1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94920" y="129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00"/>
                </a:solidFill>
                <a:latin typeface="Times New Roman"/>
                <a:ea typeface="幼圆"/>
              </a:rPr>
              <a:t>面试的前一天</a:t>
            </a:r>
            <a:endParaRPr b="0" lang="en-US" sz="8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12" name="对象 41987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8458200" cy="3124080"/>
          </a:xfrm>
          <a:prstGeom prst="rect">
            <a:avLst/>
          </a:prstGeom>
          <a:ln w="0">
            <a:noFill/>
          </a:ln>
        </p:spPr>
      </p:pic>
      <p:sp>
        <p:nvSpPr>
          <p:cNvPr id="213" name="日期占位符 1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1:05:37Z</dcterms:created>
  <dc:creator/>
  <dc:description/>
  <cp:keywords>面试 技巧</cp:keywords>
  <dc:language>en-US</dc:language>
  <cp:lastModifiedBy>An</cp:lastModifiedBy>
  <dcterms:modified xsi:type="dcterms:W3CDTF">2016-05-01T01:05:39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