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230-0F4C-4EA9-9F78-BB149EAB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188-3C2F-4578-BF77-B4995FAE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050-A878-4006-9231-1F2B7AB7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58EF-DF6B-46D1-BECA-1822BE31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87BD-BDDA-4C92-ACE8-64DC10C8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7E32-9568-4F3C-A952-C95E78F7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886E-85AF-4DAA-8B01-BAD0B49D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442B-B724-4488-B571-738876E7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6111-D697-412F-8EB2-90662D41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4A77-A70F-43B4-A582-6C628DF5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7481-657B-4B2F-8F9E-BDD37FCF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E3A-F171-42F6-ABF8-DAC9091C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74C7-B583-43AA-B012-56BC502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8262-AFCA-4BC2-B2D6-EAD0711A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98D8-0B15-4393-8B09-0FA52FC8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F8A3-88DC-4208-961F-3E1B0C76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D820-C39A-4FB9-AC03-0B82F652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A63-B396-4062-B10E-627F0401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BB3F-E76B-41E2-9AAA-BDA8B597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64C0-91CC-4942-8707-27B8FA18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BC6-5779-414B-BA55-A1A1A901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ACA4-41F9-441B-9DDE-98D8C7FC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495-46FD-48B9-BDFF-95B576C9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5C7-E9F2-417C-A8AB-131A59C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FD16-7A5D-4306-B3E6-C50246E3C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B0D2-FA2A-4269-AAA5-B54EB0304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561960" y="907920"/>
            <a:ext cx="8229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Unit2 My days of the week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（第一课时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day_of_the_week.mp3" descr=""/>
          <p:cNvPicPr/>
          <p:nvPr/>
        </p:nvPicPr>
        <p:blipFill>
          <a:blip r:embed="rId1"/>
          <a:stretch/>
        </p:blipFill>
        <p:spPr>
          <a:xfrm>
            <a:off x="7596360" y="5518080"/>
            <a:ext cx="736560" cy="863640"/>
          </a:xfrm>
          <a:prstGeom prst="rect">
            <a:avLst/>
          </a:prstGeom>
          <a:ln w="0">
            <a:noFill/>
          </a:ln>
        </p:spPr>
      </p:pic>
      <p:sp>
        <p:nvSpPr>
          <p:cNvPr id="84" name="矩形 7"/>
          <p:cNvSpPr/>
          <p:nvPr/>
        </p:nvSpPr>
        <p:spPr>
          <a:xfrm>
            <a:off x="1645200" y="57466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10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j0295241"/>
          <p:cNvPicPr/>
          <p:nvPr/>
        </p:nvPicPr>
        <p:blipFill>
          <a:blip r:embed="rId2"/>
          <a:stretch/>
        </p:blipFill>
        <p:spPr>
          <a:xfrm>
            <a:off x="7667640" y="5013360"/>
            <a:ext cx="676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4BDC-5D11-4B1B-85FA-36DE754AED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我们都有哪些课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hinese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语文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　　　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glish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英语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h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数学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　　　　　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sic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音乐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uter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电脑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　　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t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美术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ce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科学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　　　　　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.E.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体育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ral Education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思想品德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cial Studies(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社会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857160" y="216072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未命名1"/>
          <p:cNvPicPr/>
          <p:nvPr/>
        </p:nvPicPr>
        <p:blipFill>
          <a:blip r:embed="rId1"/>
          <a:stretch/>
        </p:blipFill>
        <p:spPr>
          <a:xfrm>
            <a:off x="0" y="1844640"/>
            <a:ext cx="2637000" cy="31669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1"/>
          <p:cNvSpPr/>
          <p:nvPr/>
        </p:nvSpPr>
        <p:spPr>
          <a:xfrm>
            <a:off x="695160" y="6008760"/>
            <a:ext cx="60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ues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u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未命名1"/>
          <p:cNvPicPr/>
          <p:nvPr/>
        </p:nvPicPr>
        <p:blipFill>
          <a:blip r:embed="rId1"/>
          <a:stretch/>
        </p:blipFill>
        <p:spPr>
          <a:xfrm>
            <a:off x="652320" y="1989000"/>
            <a:ext cx="2157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ed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未命名1"/>
          <p:cNvPicPr/>
          <p:nvPr/>
        </p:nvPicPr>
        <p:blipFill>
          <a:blip r:embed="rId1"/>
          <a:stretch/>
        </p:blipFill>
        <p:spPr>
          <a:xfrm>
            <a:off x="652320" y="1989000"/>
            <a:ext cx="2157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urs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h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未命名1"/>
          <p:cNvPicPr/>
          <p:nvPr/>
        </p:nvPicPr>
        <p:blipFill>
          <a:blip r:embed="rId1"/>
          <a:stretch/>
        </p:blipFill>
        <p:spPr>
          <a:xfrm>
            <a:off x="652320" y="1989000"/>
            <a:ext cx="2157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ri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da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187280" y="4005360"/>
            <a:ext cx="71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  <a:ea typeface="楷体_GB2312"/>
              </a:rPr>
              <a:t>星期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979640" y="2276640"/>
            <a:ext cx="55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Fr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未命名1"/>
          <p:cNvPicPr/>
          <p:nvPr/>
        </p:nvPicPr>
        <p:blipFill>
          <a:blip r:embed="rId1"/>
          <a:stretch/>
        </p:blipFill>
        <p:spPr>
          <a:xfrm>
            <a:off x="652320" y="1989000"/>
            <a:ext cx="2157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eek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844640"/>
            <a:ext cx="914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完全形式）　（缩写）　　（中文意思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.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e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e.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dne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d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ur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u.        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y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.         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星期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07:01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8:59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