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BC50D-883D-4693-B026-AF9A1B1B63A1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865A6-7F51-4A60-A63B-771D3D0524BA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灯片编号占位符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44754-9D05-411B-886B-5EF36048388D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31D72-6FDE-489B-91ED-015FACF05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DF54F-A1DE-4A46-9711-F8FCD554F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F0053-2F21-49EC-950E-C6B9F6A55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319DE-2116-4619-BE86-C6635E30E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4C980-15CD-430F-9736-158A1CA4C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77D94-E163-4307-9E4A-1A717D0FB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91A7E-C59F-4CFC-8338-FE3F56747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74E6E-13EB-4F1C-A32F-370AA1CF4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0C245-71BB-4453-8A7C-BFFDE5D0D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5A4BC-2C34-492D-B7A9-CD06BB3E7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ADDA5-D876-48BE-BA39-6EE3214D1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B8945-A579-4039-83E4-7F76BB6DD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8DA7A-8491-40D2-A231-8E1A6096A5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428760" y="428760"/>
          <a:ext cx="5929200" cy="637920"/>
        </p:xfrm>
        <a:graphic>
          <a:graphicData uri="http://schemas.openxmlformats.org/drawingml/2006/table">
            <a:tbl>
              <a:tblPr/>
              <a:tblGrid>
                <a:gridCol w="5929200"/>
              </a:tblGrid>
              <a:tr h="6379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  <a:ea typeface="黑体"/>
                        </a:rPr>
                        <a:t>Unit 3  My friend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" name="Rectangle 6"/>
          <p:cNvSpPr/>
          <p:nvPr/>
        </p:nvSpPr>
        <p:spPr>
          <a:xfrm>
            <a:off x="2819520" y="2590920"/>
            <a:ext cx="377640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Arial"/>
              </a:rPr>
              <a:t>第二课时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8"/>
          <p:cNvSpPr/>
          <p:nvPr/>
        </p:nvSpPr>
        <p:spPr>
          <a:xfrm>
            <a:off x="2527920" y="6172200"/>
            <a:ext cx="4516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10"/>
          <p:cNvSpPr/>
          <p:nvPr/>
        </p:nvSpPr>
        <p:spPr>
          <a:xfrm>
            <a:off x="228600" y="626112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1371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mework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600200" y="2819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sten to and repeat “Let’s learn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sten to and repeat “Let’s spell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页脚占位符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0468A-ECAB-4AE2-85C2-25879601F413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-1371600" y="1980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Arial"/>
              </a:rPr>
              <a:t>Let’s chan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3581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’s his/her nam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r/His name is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页脚占位符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2286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Guess the wo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拼写单词，看看谁能尽早猜出教师所写的单词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如：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-r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学生可以开始猜单词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-914400" y="1752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ff"/>
                </a:solidFill>
                <a:latin typeface="Arial"/>
              </a:rPr>
              <a:t>Read</a:t>
            </a:r>
            <a:r>
              <a:rPr b="1" lang="zh-CN" sz="4400" spc="-1" strike="noStrike">
                <a:solidFill>
                  <a:srgbClr val="0066ff"/>
                </a:solidFill>
                <a:latin typeface="Arial"/>
              </a:rPr>
              <a:t>，</a:t>
            </a:r>
            <a:r>
              <a:rPr b="1" lang="en-US" sz="4400" spc="-1" strike="noStrike">
                <a:solidFill>
                  <a:srgbClr val="0066ff"/>
                </a:solidFill>
                <a:latin typeface="Arial"/>
              </a:rPr>
              <a:t>listen and chant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3124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-o-s-e, nose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se, nose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鼻子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-o-t-e, note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e, note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笔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-o-k-e, Coke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ke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ke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可乐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-o-n-e-s, Jones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nes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nes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琼斯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页脚占位符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1295280" y="1980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ff"/>
                </a:solidFill>
                <a:latin typeface="Arial"/>
              </a:rPr>
              <a:t>Do a 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380880" y="3657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home, hole, nose, r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box, fox, orange, l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页脚占位符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Ⅰ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从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栏中找出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栏句子对应的中文意思，将其序号填在前面的括号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304920" y="2514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栏                           　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栏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     ）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ll and strong             1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一个中国朋友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     ）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iendly and quiet        2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好朋友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     ）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od friend                   3.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高又壮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     ）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te girl                        4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高又瘦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     ）　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ll and thin               5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友好又文静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     ）　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Chinese friend       6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可爱的女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页脚占位符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3520" y="1371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Ⅱ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把下画线部分发音不同的一个选出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60948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   ) 1. A. note   B.not   C. bo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   ) 2. A. box    B.dog   C. n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   ) 3. A. rose  B.hope  C.l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页脚占位符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90512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ds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se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e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ke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n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167652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ntences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’s he/she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s/Her name is …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文本框 1"/>
          <p:cNvSpPr/>
          <p:nvPr/>
        </p:nvSpPr>
        <p:spPr>
          <a:xfrm>
            <a:off x="339840" y="5880240"/>
            <a:ext cx="577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25T07:44:16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5:09:38Z</dcterms:modified>
  <cp:revision>11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  <property fmtid="{D5CDD505-2E9C-101B-9397-08002B2CF9AE}" pid="3" name="Version">
    <vt:r8>1</vt:r8>
  </property>
</Properties>
</file>