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8C76-699C-421E-BB3C-3A3DE9EED6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86AC-4627-4227-B75C-75CE604A82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99D-2F07-453D-95BF-4E77958C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CC1-941B-4F52-8D25-C3A01785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A05-057B-4675-8FC9-2BDA8B06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F29-8979-4C28-8C1D-5193C8A1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426-2B78-48F1-989A-553987EE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643-8753-4E66-9D2D-268227D3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E39-2693-42A2-AC6F-A3EF08B9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1E8-E086-40EF-ADD2-AC5745E8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BF1-73F8-491D-BA8F-CD0BA36F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CBC-653F-4E58-8601-92FF3691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F4B-1EE6-4DCA-A9F0-B3D1D13A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46E-9D31-4899-A427-D2E273B1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640C-A646-43C5-9F57-E8F89AEFC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3  My fri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2590920" y="2514600"/>
            <a:ext cx="3700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第六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261160" y="6172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23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Listen to and repeat “Story tim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Tell the story to your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113F-D67A-4A62-AF56-EB41F2E0FF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6"/>
          <p:cNvSpPr/>
          <p:nvPr/>
        </p:nvSpPr>
        <p:spPr>
          <a:xfrm>
            <a:off x="2438280" y="3581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990720" y="304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’s s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Administrator\AppData\Roaming\Tencent\Users\22453923\QQ\WinTemp\RichOle\WO20S}8NA5X{`B[KA18}OQ9.jpg"/>
          <p:cNvPicPr/>
          <p:nvPr/>
        </p:nvPicPr>
        <p:blipFill>
          <a:blip r:embed="rId1"/>
          <a:stretch/>
        </p:blipFill>
        <p:spPr>
          <a:xfrm>
            <a:off x="1219320" y="2514600"/>
            <a:ext cx="5943600" cy="3352680"/>
          </a:xfrm>
          <a:prstGeom prst="rect">
            <a:avLst/>
          </a:prstGeom>
          <a:ln w="0">
            <a:noFill/>
          </a:ln>
        </p:spPr>
      </p:pic>
      <p:sp>
        <p:nvSpPr>
          <p:cNvPr id="5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29528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’s check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7521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生看图片造句子，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片一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has long hair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is happ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Users\Administrator\AppData\Roaming\Tencent\Users\22453923\QQ\WinTemp\RichOle\J(`2QK8DR(_VK5JJM8NM%{8.jpg"/>
          <p:cNvPicPr/>
          <p:nvPr/>
        </p:nvPicPr>
        <p:blipFill>
          <a:blip r:embed="rId1"/>
          <a:stretch/>
        </p:blipFill>
        <p:spPr>
          <a:xfrm>
            <a:off x="228600" y="3809880"/>
            <a:ext cx="807732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本单元句子大学习</a:t>
            </a:r>
            <a:br>
              <a:rPr sz="4400"/>
            </a:br>
            <a:br>
              <a:rPr sz="44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让学生自己总结本单元所学的句子，也可以动笔写一写。写完后以小组为单位进行交流和反馈，查缺补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tory time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为图片正确排序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Users\Administrator\AppData\Roaming\Tencent\Users\22453923\QQ\WinTemp\RichOle\M1JNH~TS({T8CPNH_[}90FI.jpg"/>
          <p:cNvPicPr/>
          <p:nvPr/>
        </p:nvPicPr>
        <p:blipFill>
          <a:blip r:embed="rId1"/>
          <a:stretch/>
        </p:blipFill>
        <p:spPr>
          <a:xfrm>
            <a:off x="304920" y="1981080"/>
            <a:ext cx="2104920" cy="1419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Administrator\AppData\Roaming\Tencent\Users\22453923\QQ\WinTemp\RichOle\1O76J9Z0QDM4}HCPXP1R7@N.jpg"/>
          <p:cNvPicPr/>
          <p:nvPr/>
        </p:nvPicPr>
        <p:blipFill>
          <a:blip r:embed="rId2"/>
          <a:stretch/>
        </p:blipFill>
        <p:spPr>
          <a:xfrm>
            <a:off x="2819520" y="1905120"/>
            <a:ext cx="1638360" cy="150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Administrator\AppData\Roaming\Tencent\Users\22453923\QQ\WinTemp\RichOle\5@5RTBOB)}1`75{D$R3SZTV.jpg"/>
          <p:cNvPicPr/>
          <p:nvPr/>
        </p:nvPicPr>
        <p:blipFill>
          <a:blip r:embed="rId3"/>
          <a:stretch/>
        </p:blipFill>
        <p:spPr>
          <a:xfrm>
            <a:off x="380880" y="3505320"/>
            <a:ext cx="3848400" cy="25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Administrator\AppData\Roaming\Tencent\Users\22453923\QQ\WinTemp\RichOle\%8TVKZYH)80[`(I4N_U)]SG.jpg"/>
          <p:cNvPicPr/>
          <p:nvPr/>
        </p:nvPicPr>
        <p:blipFill>
          <a:blip r:embed="rId4"/>
          <a:stretch/>
        </p:blipFill>
        <p:spPr>
          <a:xfrm>
            <a:off x="4800600" y="1828800"/>
            <a:ext cx="1609560" cy="167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Administrator\AppData\Roaming\Tencent\Users\22453923\QQ\WinTemp\RichOle\@AYA_T9YL%O_8%W9I)GSFC8.jpg"/>
          <p:cNvPicPr/>
          <p:nvPr/>
        </p:nvPicPr>
        <p:blipFill>
          <a:blip r:embed="rId5"/>
          <a:stretch/>
        </p:blipFill>
        <p:spPr>
          <a:xfrm>
            <a:off x="4495680" y="4114800"/>
            <a:ext cx="2238480" cy="1724040"/>
          </a:xfrm>
          <a:prstGeom prst="rect">
            <a:avLst/>
          </a:prstGeom>
          <a:ln w="0">
            <a:noFill/>
          </a:ln>
        </p:spPr>
      </p:pic>
      <p:sp>
        <p:nvSpPr>
          <p:cNvPr id="6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首字母提示和句意完成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He is s_____ and t____. He has a red s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he is so c____. And she is my good f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ate is t____ and f______. She has a blue h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Zhang Peng sits n_____ the w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C_____ your han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Please help me p____ the carrot u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根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y ti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的故事，参考其中的对话，来编写一个小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514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23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ray,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644400" y="5880240"/>
            <a:ext cx="49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096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co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’t pull 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work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on, fri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help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07:44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9:42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