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E2C8A-6B5A-44C8-8963-3F577DC2A4C3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6B873-68C0-41B9-A386-019EEC8EF921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AE574-00A9-4A3B-8403-6354FC6F9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60DFC-833F-46CA-B884-28A8AA826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95BCB-BA2C-44E4-9739-871350C9C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069AB-45B6-49A0-AF99-CAB89B3DE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0DF84-24D3-4164-9F11-327E610AC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174A5-D74B-4C69-95AA-EE4555B13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D87D1-8541-478D-B0A9-7229F72D2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DBE0E-E413-4E06-B9DC-02804EBC7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43D06-A382-4EA1-A9D4-63ABE0083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DE4F3-7D38-4427-AEF4-D69B57075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9CE18-3D47-4DE7-890D-18E30BBA4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93DA3-092B-4F53-9BC1-4613F709D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C1201-91BA-45E9-A76E-CD2E7748A5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428760" y="428760"/>
          <a:ext cx="5929200" cy="637920"/>
        </p:xfrm>
        <a:graphic>
          <a:graphicData uri="http://schemas.openxmlformats.org/drawingml/2006/table">
            <a:tbl>
              <a:tblPr/>
              <a:tblGrid>
                <a:gridCol w="5929200"/>
              </a:tblGrid>
              <a:tr h="6379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  <a:ea typeface="黑体"/>
                        </a:rPr>
                        <a:t>Unit 3  My friend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" name="Rectangle 6"/>
          <p:cNvSpPr/>
          <p:nvPr/>
        </p:nvSpPr>
        <p:spPr>
          <a:xfrm>
            <a:off x="2666880" y="2286000"/>
            <a:ext cx="370044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Arial"/>
              </a:rPr>
              <a:t>第四课时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8"/>
          <p:cNvSpPr/>
          <p:nvPr/>
        </p:nvSpPr>
        <p:spPr>
          <a:xfrm>
            <a:off x="2337480" y="6019920"/>
            <a:ext cx="4516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352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152388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sten to and repeat “Let’s learn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g the song to your par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页脚占位符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自然风景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EBF57-5E42-4282-A884-96E4F2021A8D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7543800" cy="487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转盘转转转！</a:t>
            </a:r>
            <a:br>
              <a:rPr sz="4400"/>
            </a:b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(1)</a:t>
            </a:r>
            <a:r>
              <a:rPr b="0" lang="zh-CN" sz="3600" spc="-1" strike="noStrike">
                <a:solidFill>
                  <a:srgbClr val="002060"/>
                </a:solidFill>
                <a:latin typeface="Arial"/>
              </a:rPr>
              <a:t>教师拿出事先准备好的转盘，转盘上写着本单元重点的单词。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(2)</a:t>
            </a:r>
            <a:r>
              <a:rPr b="0" lang="zh-CN" sz="3600" spc="-1" strike="noStrike">
                <a:solidFill>
                  <a:srgbClr val="002060"/>
                </a:solidFill>
                <a:latin typeface="Arial"/>
              </a:rPr>
              <a:t>让学生到台前来转动转盘，当转盘停止时，看指针对着哪个单词，这个学生要先说出这个单词，再用这个单词造句。</a:t>
            </a:r>
            <a:r>
              <a:rPr b="0" lang="zh-CN" sz="44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文本框 1"/>
          <p:cNvSpPr/>
          <p:nvPr/>
        </p:nvSpPr>
        <p:spPr>
          <a:xfrm>
            <a:off x="1257480" y="5880240"/>
            <a:ext cx="534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-1523880" y="4572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Let’s lear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80880" y="2209320"/>
            <a:ext cx="8229600" cy="53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变同义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She has brown sho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Sha has long hai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He has short hai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. He has a green ba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页脚占位符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53352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ng ha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/She has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rt ha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/She has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705720" cy="548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Say and draw</a:t>
            </a:r>
            <a:br>
              <a:rPr sz="4400"/>
            </a:br>
            <a:r>
              <a:rPr b="1" lang="zh-CN" sz="3600" spc="-1" strike="noStrike">
                <a:solidFill>
                  <a:srgbClr val="0000ff"/>
                </a:solidFill>
                <a:latin typeface="宋体"/>
                <a:ea typeface="宋体"/>
              </a:rPr>
              <a:t>教师描述一位学生的特征，让学生进行画。</a:t>
            </a:r>
            <a:br>
              <a:rPr sz="3600"/>
            </a:br>
            <a:r>
              <a:rPr b="1" lang="zh-CN" sz="3600" spc="-1" strike="noStrike">
                <a:solidFill>
                  <a:srgbClr val="0000ff"/>
                </a:solidFill>
                <a:latin typeface="宋体"/>
                <a:ea typeface="宋体"/>
              </a:rPr>
              <a:t>等学生结束画画后，选学生的作品到台前来展示，和其他学生一起评价。</a:t>
            </a:r>
            <a:r>
              <a:rPr b="1" lang="en-US" sz="4400" spc="-1" strike="noStrike">
                <a:solidFill>
                  <a:srgbClr val="0000ff"/>
                </a:solidFill>
                <a:latin typeface="宋体"/>
                <a:ea typeface="宋体"/>
              </a:rPr>
              <a:t> </a:t>
            </a:r>
            <a:br>
              <a:rPr sz="4400"/>
            </a:br>
            <a:r>
              <a:rPr b="0" lang="zh-CN" sz="3600" spc="-1" strike="noStrike">
                <a:solidFill>
                  <a:srgbClr val="0000ff"/>
                </a:solidFill>
                <a:latin typeface="宋体"/>
                <a:ea typeface="宋体"/>
              </a:rPr>
              <a:t>学生两人一组，一位学生描述，一位学生画，最后展示自己的作品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-1295280" y="152280"/>
            <a:ext cx="8229600" cy="281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Let’s s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C:\Users\Administrator\AppData\Roaming\Tencent\Users\22453923\QQ\WinTemp\RichOle\}BR974ZFKNN@AN_JG5M]VY7.jpg"/>
          <p:cNvPicPr/>
          <p:nvPr/>
        </p:nvPicPr>
        <p:blipFill>
          <a:blip r:embed="rId1"/>
          <a:stretch/>
        </p:blipFill>
        <p:spPr>
          <a:xfrm>
            <a:off x="990720" y="1984320"/>
            <a:ext cx="6324480" cy="3530520"/>
          </a:xfrm>
          <a:prstGeom prst="rect">
            <a:avLst/>
          </a:prstGeom>
          <a:ln w="0">
            <a:noFill/>
          </a:ln>
        </p:spPr>
      </p:pic>
      <p:sp>
        <p:nvSpPr>
          <p:cNvPr id="63" name="页脚占位符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4792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Ⅰ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要求写单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she’s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完全形式）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long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 反义词）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let’s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完全形式）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strong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 反义词）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I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宾格）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.he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物主代词）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.her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主格）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.have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同义词）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.new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 反义词）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.you’re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完全形式）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页脚占位符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Ⅱ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根据提问，从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到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中选出正确的答案，并填在括号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May I have a look?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　　　　　　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     )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　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What's that?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　　　　　　　　　　　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     )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　　　　　</a:t>
            </a:r>
            <a:r>
              <a:rPr b="0" lang="zh-CN" sz="2000" spc="-1" strike="noStrike" u="sng">
                <a:solidFill>
                  <a:srgbClr val="000000"/>
                </a:solidFill>
                <a:uFillTx/>
                <a:latin typeface="Arial"/>
              </a:rPr>
              <a:t>　　　　　　　　　　　　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What colour is your new bag?                 (    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 Where‘s my book?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　　　　　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    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. What's in your pencil box?                       (    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. Who's your best friend?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　　　　　　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     )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　　　　　　　　　　　　　　　　　　　　　　　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　　　　</a:t>
            </a:r>
            <a:r>
              <a:rPr b="0" lang="zh-CN" sz="2000" spc="-1" strike="noStrike" u="sng">
                <a:solidFill>
                  <a:srgbClr val="000000"/>
                </a:solidFill>
                <a:uFillTx/>
                <a:latin typeface="Arial"/>
              </a:rPr>
              <a:t>　　　　　　　　　　　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　　　　　　　</a:t>
            </a:r>
            <a:r>
              <a:rPr b="0" lang="zh-CN" sz="2000" spc="-1" strike="noStrike" u="sng">
                <a:solidFill>
                  <a:srgbClr val="000000"/>
                </a:solidFill>
                <a:uFillTx/>
                <a:latin typeface="Arial"/>
              </a:rPr>
              <a:t>　　　　　　　　　　　　　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. Sure.Here you are.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　　　　　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. It's purple and whi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. It‘s on the desk.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　　　　　　　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 It's a small be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 John is my best frie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. Five pencils, three crayons, two erasers and one rul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页脚占位符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ing 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190512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ir, blue, br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Sent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has a green bag 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own sho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s glasses are blu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页脚占位符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25T07:44:27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5:09:43Z</dcterms:modified>
  <cp:revision>9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  <property fmtid="{D5CDD505-2E9C-101B-9397-08002B2CF9AE}" pid="3" name="Version">
    <vt:r8>1</vt:r8>
  </property>
</Properties>
</file>