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E1BC-BC3C-4121-985A-EE6FE24AB1F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489A-C972-4D41-B926-A7D009328D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811F-B3D7-42B9-A5A2-3763517F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EA2-617B-46AE-8165-859D6948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78DB-9E48-46C6-990F-2BE2BF8A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C7A2-6823-44A9-9CB2-7B24AB74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75F-6557-424F-B9CE-D7F3E674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991-94EF-41DE-997B-1BC61E06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6735-5A8E-4F47-9B50-DC4F6A9E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294B-BF03-4D54-B866-6EABD244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B60-3B50-42F9-99C6-A85E45EA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576F-E136-4440-8E67-0D846DE2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A7A-6293-4514-BAD4-24CE1B44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287D-A64C-4F6C-AED5-C7AF4678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22AD-C773-4734-90B3-0B787DF9A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28760" y="428760"/>
          <a:ext cx="5929200" cy="63792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Unit 3  My fri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6"/>
          <p:cNvSpPr/>
          <p:nvPr/>
        </p:nvSpPr>
        <p:spPr>
          <a:xfrm>
            <a:off x="2819520" y="2438280"/>
            <a:ext cx="37004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第三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2489760" y="60199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mework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00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 to and repeat “Let’s talk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 out the “Let’s talk” with 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"/>
          <p:cNvSpPr/>
          <p:nvPr/>
        </p:nvSpPr>
        <p:spPr>
          <a:xfrm>
            <a:off x="1612800" y="5195880"/>
            <a:ext cx="591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AE53-DB22-4D3B-956E-E9097D26BFD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6094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Listen and answ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3657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my student. He’s a good, good boy. He’s tall and thin. He’s a good ,good bo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299880" y="64008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693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troduce your family </a:t>
            </a:r>
            <a:br>
              <a:rPr sz="4400"/>
            </a:b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学生四人一组讨论自己带来的照片：介绍照片里的人是谁，用学过的句型描述人物特点。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教师选取学生进行汇报，引出词汇：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fat, thin, beautiful, tall, stro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3716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Let’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a boy. He is my stud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friendly. He is tall and th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752480" y="685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Let’s pl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21337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句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/She i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/She ha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/Her shoe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/Her bag i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s/her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0666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翻译句子，我能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his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name is Zhang Pe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’s tall and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’s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as glasses and his shoes are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ad and draw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880" y="18288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have a friend. He is a boy. He has a big face, a small nose, a big mouth and small eyes. He has short hair. He is tall and strong. His name is 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下列每组单词排列成正确的句子，只写序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①friend  ②a  ③I  ④have ⑤good(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①tall  ②strong  ③He  ④is ⑤and(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①His ② is ③ name  ④Zhang Peng(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选出不同类的单词，并将选项写在前面括号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9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) 1. A.tall   B. strong  C. thin  D.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) 2. A.he    B.she       C. it      D.T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) 3. A.glasses    B.shoes  C. bag  D.c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) 4. A.his            B.her      C.your   D.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07:44:2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9:37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