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5BBB-699E-48B7-BF8A-2B7658ED32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632D-808F-43F3-B68E-1079F83C020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4271-D613-4A3E-AF05-50D8ABBF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54C6-E40E-43AE-8922-450E6FD0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9E2F-CF2B-4FD1-BC12-37469588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35AB-612A-4CAD-A2C4-B05FB1C9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7BE4-89EF-473E-912A-0C323298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1BB0-5861-47E4-85F4-C065FB5E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E038-2462-46BF-8446-5A39E216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AA48-93DF-4021-BC44-3D7765FD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020C-E153-405F-B2D9-79C7AB9B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2E3D-DA40-4463-AECE-44D56E1E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94C3-9C52-4B5E-8F2C-CA1E850E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0065-6CD0-4060-BEFD-3028F72A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FABE-43B6-4D2E-A1C7-919B0D10F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28760" y="428760"/>
          <a:ext cx="2923920" cy="637920"/>
        </p:xfrm>
        <a:graphic>
          <a:graphicData uri="http://schemas.openxmlformats.org/drawingml/2006/table">
            <a:tbl>
              <a:tblPr/>
              <a:tblGrid>
                <a:gridCol w="2923920"/>
              </a:tblGrid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Unit 3  My fri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6"/>
          <p:cNvSpPr/>
          <p:nvPr/>
        </p:nvSpPr>
        <p:spPr>
          <a:xfrm>
            <a:off x="2666880" y="2438280"/>
            <a:ext cx="3624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第五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2353320" y="59389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19320" y="2286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Listen to and repeat “Read and match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Write less than three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your mother or your fa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3FF6-6E18-4960-8DCD-F9367B9BE88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6"/>
          <p:cNvSpPr/>
          <p:nvPr/>
        </p:nvSpPr>
        <p:spPr>
          <a:xfrm>
            <a:off x="2514600" y="35053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31520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Let’s 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Users\Administrator\AppData\Roaming\Tencent\Users\22453923\QQ\WinTemp\RichOle\[6H)QP%0K141RX`W@L4K20B.jpg"/>
          <p:cNvPicPr/>
          <p:nvPr/>
        </p:nvPicPr>
        <p:blipFill>
          <a:blip r:embed="rId1"/>
          <a:stretch/>
        </p:blipFill>
        <p:spPr>
          <a:xfrm>
            <a:off x="1143000" y="2819520"/>
            <a:ext cx="7343640" cy="3514680"/>
          </a:xfrm>
          <a:prstGeom prst="rect">
            <a:avLst/>
          </a:prstGeom>
          <a:ln w="0">
            <a:noFill/>
          </a:ln>
        </p:spPr>
      </p:pic>
      <p:sp>
        <p:nvSpPr>
          <p:cNvPr id="5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21932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ad and match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2514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e has short hair and a big green bag.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he has long hair and orange shoes.                c. She is tall and friendly and she has a blue hat.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 is short and thin and he has glasses.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447920" y="52578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e     Ben    James    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帽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as a yellow h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has a black 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方位，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附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 the window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窗户附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609480" y="6854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Look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hoose and write.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C:\Users\Administrator\AppData\Roaming\Tencent\Users\22453923\QQ\WinTemp\RichOle\YL`BJER7W{51QCOQWNC{[C2.jpg"/>
          <p:cNvPicPr/>
          <p:nvPr/>
        </p:nvPicPr>
        <p:blipFill>
          <a:blip r:embed="rId1"/>
          <a:stretch/>
        </p:blipFill>
        <p:spPr>
          <a:xfrm>
            <a:off x="1219320" y="1752480"/>
            <a:ext cx="5638680" cy="4496040"/>
          </a:xfrm>
          <a:prstGeom prst="rect">
            <a:avLst/>
          </a:prstGeom>
          <a:ln w="0">
            <a:noFill/>
          </a:ln>
        </p:spPr>
      </p:pic>
      <p:sp>
        <p:nvSpPr>
          <p:cNvPr id="6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990720" y="6091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Let me try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880" y="2209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师出示转盘，转盘上分四分区域，每个区域标有固定的句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ha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name i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… and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把英语与相对应的汉语连接起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35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　　　　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                    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hai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                     朋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                 短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                   强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r the window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橘色的鞋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nge shoes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蓝色的帽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lue hat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靠近窗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用英文描述你的一位朋友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要求有下列句型及单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94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He has____________________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e is ____________________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He lik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His nam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_________________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9051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t,near,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as a blue 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near the wind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"/>
          <p:cNvSpPr/>
          <p:nvPr/>
        </p:nvSpPr>
        <p:spPr>
          <a:xfrm>
            <a:off x="1666800" y="5710320"/>
            <a:ext cx="58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07:44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9:40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