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8897-DB80-4C0A-8CB8-3ECE9241B6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DB8-C996-4B57-B7F7-9EB114835B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1A5-3942-4046-9D13-ADD2745A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760-5DE4-4939-9282-66FB059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E76-C3F4-4342-AEF6-BCA4C047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5A7-9A51-41B0-8B72-F3D18A04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5D2-F7CE-4946-ADFC-5E4D08E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FF7-7C75-4183-A867-90F07BF0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FE4-8F24-4979-9536-D76D8B3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A3E-D4F8-420E-8AE4-3517A9BC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48C-F3B9-44F5-8C3E-BD9B1C1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6B8-24E8-4DDA-A333-DEADD1E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884-1332-4CDA-97BB-F73E6047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6E2-0D2E-492E-A4A2-E35AF6A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589-63B3-4F5A-909D-844176CB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914400"/>
          <a:ext cx="2971800" cy="63828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3  My fri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2805120" y="2666880"/>
            <a:ext cx="3932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第一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76320" y="6472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2591640" y="6064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E14A-8725-4231-8CD5-13C6773D4C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2590920"/>
            <a:ext cx="88390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so big and tall. It has a long nose ,a short tail and two large ears like fans. It is from Af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small. It has two long eats and two red eyes.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ook and s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29718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孩：小眼睛、大鼻子、大嘴巴、短头发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孩：大眼睛、小鼻子、小嘴巴、长头发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8380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35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his/he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/Her name 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2203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chant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’s his name? His name is John.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hat’s his name? His name is John.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hat’s her name? Her name is Amy.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hat’s her name? His name is Am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问句，选择答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1.May I have a look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A. Her name is 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2.Where’s my book?          B. Fo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3.What’s that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C. Sure. 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4. How are you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D. Many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5. What colour is it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E. I like computer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6. What’s her name?          F. It’s on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7. What do you like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H. He’s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8. What’s in your schoolbag?            I. It’s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9.How many books do you hav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It’s a small b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) 10. Who’s the boy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 I’m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词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he, big, eyes, has, and, nose, a,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spell, these, can, words,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put, English, on, head, your, book, y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what’s, name, 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28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Listen to and repeat “Let’s talk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Describe your best frie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Make a new dialogue about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rien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062000" y="558468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7:44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9:3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