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F7EB-3F9E-49C8-AC49-5135269BCF1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3E55-6BD5-4EC1-8388-AAED2D0F8A0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A93-4ED0-4E69-83A6-DE95BCF6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373-E5C1-43CA-B7CA-583135DA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78D-0A54-4DC7-A862-67E10338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8D19-5BF1-4E0C-B947-89FB9FC3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0631-BC0A-49B7-998E-DC459EA5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052-6031-4BD1-B226-17CCD1D8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F352-64D5-47E9-843F-950FCA01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8DA8-8D2F-4F7E-814A-839AD84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BA4-8BCF-4A0B-A6B2-59722261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2A97-590F-498F-90AF-7CFA81B7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C87B-C5A2-4D8C-8314-03D0315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4C8-E8E3-46EF-90FC-BD8C94B8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ACDC-67C5-4E3E-B211-96C86A0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A016-4390-4E43-8BC0-9DC2EE8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6A00-53F0-439E-990E-2E2FA215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637C-0147-45AB-ACB7-3F27A1C4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80D9-0C2F-44EA-9BFA-0BD9B23B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089-0085-455A-BC7A-E3EAEBA6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2C3-3605-4FA2-8193-9DCCD8E2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BAB-CFAD-4B7F-8A82-B96198FF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149-8240-4ACD-8C44-F40098AB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B16-AD44-4CDA-9EA7-3D4DC323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DAC-8F65-47C6-B3EC-99770B65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443-CFEC-4236-80F0-A1941F3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195-61E4-4A0A-A2F8-5E8C977B0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4C17-0D3E-4502-B8BF-DF5B6DDE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2"/>
          <a:stretch/>
        </p:blipFill>
        <p:spPr>
          <a:xfrm>
            <a:off x="1652760" y="2646360"/>
            <a:ext cx="5473440" cy="3484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>
            <a:off x="1530360" y="1052640"/>
            <a:ext cx="56833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能量与太阳</a:t>
            </a:r>
            <a:endParaRPr b="1" lang="en-US" sz="28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207036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1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简洁ppt模板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4B8-D718-4A7B-AF8C-049359F63B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870200" y="836640"/>
            <a:ext cx="5248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在我们使用的能量中，哪些是重要的能源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76520" y="32227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煤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459240" y="32227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石油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818320" y="322272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天然气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562040" y="549360"/>
            <a:ext cx="1514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能量与太阳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57040" y="2409840"/>
            <a:ext cx="81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问题一：这些能源是怎么形成的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  <a:ea typeface="黑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482200" y="3573360"/>
            <a:ext cx="363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问题二：这些能源与太阳的关系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  <a:ea typeface="黑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014560" y="47116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黑体"/>
              </a:rPr>
              <a:t>问题三：能源枯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828800" y="549360"/>
            <a:ext cx="2314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煤带给我们的信息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6" descr="1749929930211409411"/>
          <p:cNvPicPr/>
          <p:nvPr/>
        </p:nvPicPr>
        <p:blipFill>
          <a:blip r:embed="rId2"/>
          <a:stretch/>
        </p:blipFill>
        <p:spPr>
          <a:xfrm>
            <a:off x="611280" y="1700280"/>
            <a:ext cx="3006720" cy="2255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5623200" y="183816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一：煤块上有植物的痕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471920" y="2492280"/>
            <a:ext cx="246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二：煤大多夹在岩石中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932800" y="3141720"/>
            <a:ext cx="49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三：煤埋藏在地下是一层层的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540160" y="4941720"/>
            <a:ext cx="444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煤是怎么形成的？由什么东西形成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726080" y="3860640"/>
            <a:ext cx="32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信息四：亿万年前，地球上植物茂盛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015720" y="549360"/>
            <a:ext cx="384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石油、天然气的形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8360" y="2757960"/>
            <a:ext cx="80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关于石油的成因，目前大多数人主张有机生成说。古代低等动植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其中以繁殖量最大的浮游生物为主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，同泥沙一起在低洼的浅海、海湾或湖泊中沉积下来，首先形成有机淤泥。这种有机淤泥被新的沉积物所覆盖，造成与空气隔绝的环境。随着低洼地区泥沙的不断沉降，沉积物不断加厚，有机淤泥承受的压力和温度也不断加大，在嫌气细菌、温度、压力等因素的作用下。逐渐变成分散的油滴，这些油滴在压力作用下逐渐移到多孔隙的储油岩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沙岩和砾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中，并聚集在一定的地质构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如穹隆构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之中，这就形成了油田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4581360"/>
          <a:ext cx="7704000" cy="111744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然气是储存于地下多孔岩石或石油中的可燃气体，它的成因与石油的成因相似。由于它比石油轻，所以常位于石油的上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90520" y="549360"/>
            <a:ext cx="418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煤、石油、天然气的能量来自哪里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676520" y="52387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煤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179960" y="522936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石油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323040" y="522936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天然气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tianqi2_0178"/>
          <p:cNvPicPr/>
          <p:nvPr/>
        </p:nvPicPr>
        <p:blipFill>
          <a:blip r:embed="rId2"/>
          <a:stretch/>
        </p:blipFill>
        <p:spPr>
          <a:xfrm>
            <a:off x="3780000" y="1197000"/>
            <a:ext cx="1214280" cy="120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3946680" y="342900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动植物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4427640" y="249228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2123640" y="4221000"/>
            <a:ext cx="1871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572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5724360" y="4221000"/>
            <a:ext cx="1152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646280" y="620640"/>
            <a:ext cx="284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存储了亿万年的太阳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38560" y="1844640"/>
            <a:ext cx="265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Verdana"/>
                <a:ea typeface="黑体"/>
              </a:rPr>
              <a:t>还有哪些能量与太阳能有关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803240" y="32227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风能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603600" y="321300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水能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602320" y="322272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生物能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425680" y="4581360"/>
            <a:ext cx="475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大多数能量最终来自于太阳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523800" y="17002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煤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50880" y="292428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石油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6680" y="429264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Verdana"/>
                <a:ea typeface="黑体"/>
              </a:rPr>
              <a:t>天然气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614760" y="3079080"/>
            <a:ext cx="381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全球石油储量的使用年限共计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0.5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中国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2.1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3759120" y="4374360"/>
            <a:ext cx="4010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全球天然气储量的使用年限共计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3.3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中国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1.8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609000" y="1915560"/>
            <a:ext cx="373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全球煤炭储量的使用年限共计为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50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中国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年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1319400" y="765000"/>
            <a:ext cx="338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Verdana"/>
                <a:ea typeface="黑体"/>
              </a:rPr>
              <a:t>节约能源   寻找新能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57480" y="2112840"/>
            <a:ext cx="1247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节约能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038480" y="2100240"/>
            <a:ext cx="3114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节能降耗   节能减排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168200" y="299736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Verdana"/>
                <a:ea typeface="黑体"/>
              </a:rPr>
              <a:t>新能源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436280" y="47962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地热、风能、海水的动能、原子能、直接利用的太阳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04560" y="40039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沼气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900000" y="6059520"/>
            <a:ext cx="63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0:24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25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