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glass.wav" ContentType="audio/x-wav"/>
  <Override PartName="/ppt/media/laser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type.wav" ContentType="audio/x-wav"/>
  <Override PartName="/ppt/media/image5.jpeg" ContentType="image/jpeg"/>
  <Override PartName="/ppt/media/image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9C7-2B80-40FA-9BEE-93C0E6B5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CCE-9B21-464E-90C7-D4CD5A6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F4D-24D4-4B71-8C61-D4D5A740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C8F-CE54-45CD-B3C8-8AF81B94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0A38-C53A-4BBF-AF4C-48A0F06E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E1B2-8C32-47AE-B7B8-CC055B7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E071-F23A-4703-B405-B4C26492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56F-3C83-4B95-A857-23DDB87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3E3-00C3-4E01-B771-D3BDFA4A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8F3-C89A-4318-A4C8-A179E597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842C-390A-4687-B006-5F6B04A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2E7-3A63-4107-831A-C2F62DC2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F007-072D-4721-B21F-8FC03DEB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5421-059D-477F-A120-BDE43F3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D42-7248-47AA-A86E-A55B04DB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C312-80C2-4035-945E-4C9D305A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A86F-93B1-4A81-94A4-26D1B352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874-502A-46A0-8FE9-159E1C2C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3E5-0982-43EB-ACBB-1207D65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FE3-E7F7-403D-AD49-673EEC3A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702-FCDC-423A-A047-8DD36E6B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C1A-3EFE-4FCB-A689-E658954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165-1BF1-4BC4-A75E-D5FACF07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D63-EB32-4075-AA96-43A9CB4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C508-B2F7-46E4-98D0-6C4CFA4D65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235-B220-4FF1-AFD6-14A19FDCB9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背景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2286000" y="1981080"/>
            <a:ext cx="4572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千米的认识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84360" y="620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教新课标版三年级数学上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59632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373480" y="914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645280" y="2209680"/>
            <a:ext cx="536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0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）千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8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）千米（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491720" y="220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68040" y="3429000"/>
            <a:ext cx="30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             83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114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19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50840" y="982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86320" y="1066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选择合适的长度单位填在括号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63320" y="2286000"/>
            <a:ext cx="3632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小明从家里到学校要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两个县城间的公路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一本日记本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排球队队员的平均身高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168600" y="228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7067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572000" y="39625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092640" y="487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031920" y="5715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10948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把下面的速度与合适的交通工具用线连起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3" descr="自行车"/>
          <p:cNvPicPr/>
          <p:nvPr/>
        </p:nvPicPr>
        <p:blipFill>
          <a:blip r:embed="rId1"/>
          <a:stretch/>
        </p:blipFill>
        <p:spPr>
          <a:xfrm>
            <a:off x="914400" y="2514600"/>
            <a:ext cx="1589040" cy="1063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巴士"/>
          <p:cNvPicPr/>
          <p:nvPr/>
        </p:nvPicPr>
        <p:blipFill>
          <a:blip r:embed="rId2"/>
          <a:stretch/>
        </p:blipFill>
        <p:spPr>
          <a:xfrm>
            <a:off x="3657600" y="243828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飞机"/>
          <p:cNvPicPr/>
          <p:nvPr/>
        </p:nvPicPr>
        <p:blipFill>
          <a:blip r:embed="rId3"/>
          <a:stretch/>
        </p:blipFill>
        <p:spPr>
          <a:xfrm>
            <a:off x="6400800" y="2590920"/>
            <a:ext cx="1752480" cy="922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10666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59960" y="4800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495960" y="4800600"/>
            <a:ext cx="19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627240" y="4800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6" name="AutoShape 12"/>
          <p:cNvCxnSpPr>
            <a:stCxn id="160" idx="2"/>
            <a:endCxn id="163" idx="0"/>
          </p:cNvCxnSpPr>
          <p:nvPr/>
        </p:nvCxnSpPr>
        <p:spPr>
          <a:xfrm flipH="1">
            <a:off x="1553760" y="3627000"/>
            <a:ext cx="2899440" cy="117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AutoShape 13"/>
          <p:cNvCxnSpPr>
            <a:stCxn id="160" idx="2"/>
            <a:endCxn id="164" idx="0"/>
          </p:cNvCxnSpPr>
          <p:nvPr/>
        </p:nvCxnSpPr>
        <p:spPr>
          <a:xfrm flipH="1">
            <a:off x="4463640" y="3580920"/>
            <a:ext cx="2775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AutoShape 22"/>
          <p:cNvCxnSpPr>
            <a:stCxn id="159" idx="2"/>
            <a:endCxn id="165" idx="0"/>
          </p:cNvCxnSpPr>
          <p:nvPr/>
        </p:nvCxnSpPr>
        <p:spPr>
          <a:xfrm>
            <a:off x="1709640" y="3578040"/>
            <a:ext cx="571248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761480" y="860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隶书"/>
              </a:rPr>
              <a:t>考一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55600" y="2209680"/>
            <a:ext cx="687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3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（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（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905120" y="22860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40260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906920" y="312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402600" y="304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1355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464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5716800" y="396252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                53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135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640120" y="480060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                   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706760" y="2590920"/>
            <a:ext cx="620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 汽车每小时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，摩托车每小时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汽车每小时比摩托车慢多少千米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要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长的公路，已经筑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，还要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筑多少米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95280" y="1143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ahoma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3"/>
          <p:cNvSpPr txBox="1"/>
          <p:nvPr/>
        </p:nvSpPr>
        <p:spPr>
          <a:xfrm>
            <a:off x="1981080" y="1752480"/>
            <a:ext cx="5096160" cy="15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配合！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1B90-E589-4F83-9E94-E062ABAC89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736640" y="2430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073240" y="2141640"/>
            <a:ext cx="282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分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厘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毫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  ）厘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39120" y="2133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420000" y="3124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392960" y="48610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420000" y="4114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033360" y="50292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13880" y="10666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说出测量下列物体用什么长度单位比较合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613600" y="226692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铅笔的长度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2600" y="31050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旗杆的高度 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638440" y="396252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硬币的厚度 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057400" y="4800600"/>
            <a:ext cx="34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课桌的高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563720" y="22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721040" y="304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63968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593240" y="48006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分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6"/>
          <p:cNvSpPr/>
          <p:nvPr/>
        </p:nvSpPr>
        <p:spPr>
          <a:xfrm>
            <a:off x="1042920" y="277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3" descr="china"/>
          <p:cNvPicPr/>
          <p:nvPr/>
        </p:nvPicPr>
        <p:blipFill>
          <a:blip r:embed="rId1"/>
          <a:stretch/>
        </p:blipFill>
        <p:spPr>
          <a:xfrm>
            <a:off x="0" y="1143000"/>
            <a:ext cx="4246560" cy="5105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741680" y="609480"/>
            <a:ext cx="51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计量路程的远近，通常用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千米（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km)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做单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15400" y="1676520"/>
            <a:ext cx="255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杭州的铁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昆明的铁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7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哈尔滨的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457200" y="6130800"/>
            <a:ext cx="86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267920" y="1905120"/>
            <a:ext cx="72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就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68120" y="2995560"/>
            <a:ext cx="33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千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=10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44560" y="1876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想想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从学校门口到什么地方是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千米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181240" y="1906560"/>
            <a:ext cx="51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045440" y="2641680"/>
            <a:ext cx="68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个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就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74080" y="4470480"/>
            <a:ext cx="547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再加上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一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5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962520" y="19051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312520" y="373392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297160" y="990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418480" y="1963800"/>
            <a:ext cx="357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093200" y="190512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8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093200" y="3200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606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01040" y="2057400"/>
            <a:ext cx="549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0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）千米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3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）千米（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176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33920" y="2743200"/>
            <a:ext cx="783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里面有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个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就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34280" y="466416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35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35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032720" y="1981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962520" y="38098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            350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0:52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18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