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67F-C00B-477A-B4D8-92EA846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3F0-8076-4FF6-B59A-402CF27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87F-4DDB-48ED-B04C-91F122D0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85F-5187-49D6-A5A1-3F496788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220-58E8-467F-9FB8-3DABF297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C39-A142-4B75-B544-644BB9E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63F-13EE-4517-92B1-BCF6838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3B2-B1ED-417F-B463-442276E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CDC-88FF-42B8-BD17-B7B0B75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ECF-68E3-41A6-BC56-8B7E850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5A2-53A3-473D-A308-BFE92386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705-ADCB-464E-B15D-177B1B5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A45-913D-4540-B4AA-72AF2BCC6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ppt\704a\人教版四年级语文上册《去年的树》PPT课件\1-131121092GA16.jpg"/>
          <p:cNvPicPr/>
          <p:nvPr/>
        </p:nvPicPr>
        <p:blipFill>
          <a:blip r:embed="rId16"/>
          <a:stretch/>
        </p:blipFill>
        <p:spPr>
          <a:xfrm>
            <a:off x="0" y="0"/>
            <a:ext cx="9137520" cy="684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6920" y="2665440"/>
            <a:ext cx="7775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方正毡笔黑简体"/>
                <a:ea typeface="方正毡笔黑简体"/>
              </a:rPr>
              <a:t>11 </a:t>
            </a:r>
            <a:r>
              <a:rPr b="0" lang="zh-CN" sz="9600" spc="-1" strike="noStrike">
                <a:solidFill>
                  <a:srgbClr val="ff0000"/>
                </a:solidFill>
                <a:latin typeface="方正毡笔黑简体"/>
                <a:ea typeface="方正毡笔黑简体"/>
              </a:rPr>
              <a:t>去年的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5423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FE6-3DFB-456C-BF75-B583197ADF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读懂了什么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2064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你有什么疑问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鸟儿为什么要把唱过的歌唱给灯火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棵树和一只鸟儿是好朋友。鸟儿站在树枝上，天天给树唱歌。树呢，也天天听着鸟儿唱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接着，她就唱起去年唱过的歌给灯火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树对鸟儿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见了，小鸟！明年你再回来，还唱歌给我听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鸟儿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。我明年春天一定回来，给你唱歌。请等着我吧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在这儿的那棵树，到什么地方去了呀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鸟儿问树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树根回答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伐木人用斧子把它砍倒，拉到山谷里去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她问大门：“门先生，我的好朋友树在哪儿，您知道吗？”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大门回答说：“树么，在厂子里给切成细条儿，做成火柴，运到那边的村子里卖掉了。”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鸟儿问女孩：“小姑娘，请告诉我，你知道火柴在哪儿吗？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女孩回答说：“火柴已经用光了，可是，火柴点燃的火，还在这盏灯里亮着。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228600" y="6365880"/>
            <a:ext cx="72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“看”的内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鸟儿睁大眼睛，盯着灯火看了一会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唱完歌儿，鸟儿以又对着灯火看了一会儿，飞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文为什么取名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去年的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而不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今年的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和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比较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年的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今年的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提问：今年还有树吗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比较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年的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鸟与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4:51:3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5:17Z</dcterms:modified>
  <cp:revision>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