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8485-8BED-4BF1-9473-8D5346D3A4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EB79-E602-4F35-9884-FB316FA24E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B184-D705-492C-8588-858FE32776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看图认月份单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ACA4-3D4F-43EE-B3CB-545AA69035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调查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2D67-CD92-4455-B33E-95157AB0DA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击图片看动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4F0C-C5B2-4FAE-AC9D-7B878FF375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短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AE7-D99E-4378-81E6-DF4A439F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BFF-08C8-47E7-99AC-2D7C5E7B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75C-929C-4D44-B28B-802D579C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0AC-EB9A-401C-BC8D-7A945A50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DC8-0DE5-455B-BDAB-19B6090C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1F8-19D0-4577-AD94-B912B0F7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F9C-7321-4345-93CC-7A74BFC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D45-04EE-4099-ACCB-468C0D0F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264-A587-41D2-85F0-08C80D5D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092-8659-4A95-877B-99A2067B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7B0-A794-4CC7-8F2B-114F7A1F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4B7-09EC-4EFF-BCCF-54A3542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0E84-DB43-4064-89B8-BA1849F145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256b8"/>
                </a:solidFill>
                <a:latin typeface="Arial Black"/>
              </a:rPr>
              <a:t>Less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320920" y="1413000"/>
            <a:ext cx="429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Rockwell Extra Bold"/>
              </a:rPr>
              <a:t>Recycle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051640" y="58453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0" y="22860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ok, ask and answer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7"/>
          <p:cNvSpPr/>
          <p:nvPr/>
        </p:nvSpPr>
        <p:spPr>
          <a:xfrm>
            <a:off x="1143000" y="1752480"/>
            <a:ext cx="3886200" cy="1371600"/>
          </a:xfrm>
          <a:prstGeom prst="cloudCallout">
            <a:avLst>
              <a:gd name="adj1" fmla="val -22550"/>
              <a:gd name="adj2" fmla="val 146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make the be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8"/>
          <p:cNvSpPr/>
          <p:nvPr/>
        </p:nvSpPr>
        <p:spPr>
          <a:xfrm>
            <a:off x="2895480" y="4343400"/>
            <a:ext cx="3124440" cy="1371600"/>
          </a:xfrm>
          <a:prstGeom prst="cloudCallout">
            <a:avLst>
              <a:gd name="adj1" fmla="val 58689"/>
              <a:gd name="adj2" fmla="val 44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course, I c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26160" y="189000"/>
            <a:ext cx="33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ok and 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图片 12 months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476360" y="1268280"/>
            <a:ext cx="5665680" cy="45342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47640" y="1125360"/>
          <a:ext cx="6004080" cy="2986200"/>
        </p:xfrm>
        <a:graphic>
          <a:graphicData uri="http://schemas.openxmlformats.org/drawingml/2006/table">
            <a:tbl>
              <a:tblPr/>
              <a:tblGrid>
                <a:gridCol w="1339920"/>
                <a:gridCol w="1555560"/>
                <a:gridCol w="1608120"/>
                <a:gridCol w="1500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 the me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h the cloth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n the roo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fa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m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0" name="Text Box 84"/>
          <p:cNvSpPr/>
          <p:nvPr/>
        </p:nvSpPr>
        <p:spPr>
          <a:xfrm>
            <a:off x="5076720" y="1844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90"/>
          <p:cNvSpPr txBox="1"/>
          <p:nvPr/>
        </p:nvSpPr>
        <p:spPr>
          <a:xfrm>
            <a:off x="324000" y="115920"/>
            <a:ext cx="4419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ke a survey</a:t>
            </a:r>
            <a:endParaRPr b="0" lang="en-US" sz="4400" spc="-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253800" y="260280"/>
            <a:ext cx="22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hockwaveFlash1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619272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"/>
          <p:cNvSpPr/>
          <p:nvPr/>
        </p:nvSpPr>
        <p:spPr>
          <a:xfrm>
            <a:off x="1332000" y="96192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7"/>
          <p:cNvSpPr/>
          <p:nvPr/>
        </p:nvSpPr>
        <p:spPr>
          <a:xfrm>
            <a:off x="4143960" y="260280"/>
            <a:ext cx="40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Read and answ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468360" y="961920"/>
            <a:ext cx="6651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g: Can I help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bbit: Yes, please. Can you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cook the me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g: Yes, I c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bbit: Can you wash the clot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g: Yes, I c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bbit: Can you do the di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g: No, I can’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bbit: Can you set the t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g: Yes, I c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ff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ff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ff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5867-E000-4944-B74E-AAE87DE122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6:16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2:06Z</dcterms:modified>
  <cp:revision>2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