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4D34-43DC-40E1-8279-9D2E3D163A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432D-B289-44B9-9B4F-C10BFF642893}" type="slidenum">
              <a:rPr b="0" lang="zh-CN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39FC-8156-4C96-BDE7-632932054C3D}" type="slidenum">
              <a:rPr b="0" lang="zh-CN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0A3-5EA9-49A3-B040-184E030E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653-6BA0-42D8-8AEC-5A2EE2BB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8A7-4AC0-4290-8CCC-EDE77D37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C8D-4C7E-4123-9339-7694A8C1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4B4-FF08-4F5F-8FB3-377B998F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BE7-CCB7-4634-889A-943F9355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C12-4248-46AB-8F7A-A710F03F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B51-784D-4669-BCC7-25DB257A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5FC-C5D1-42A7-9C9E-7E4B08D5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FD6-9777-447E-8AA0-03F18784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CDE-2DB4-4F07-9E62-A1675DA6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CDF-9213-435C-B67C-34FB815E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97F5-E2F8-43A2-BCF0-F0FA9D0CE2FC}" type="slidenum">
              <a:rPr b="0" lang="zh-CN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2" descr=""/>
          <p:cNvPicPr/>
          <p:nvPr/>
        </p:nvPicPr>
        <p:blipFill>
          <a:blip r:embed="rId1"/>
          <a:stretch/>
        </p:blipFill>
        <p:spPr>
          <a:xfrm>
            <a:off x="1120680" y="1898640"/>
            <a:ext cx="6602400" cy="2701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362240" y="944640"/>
            <a:ext cx="61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人教新课标 二年级品德与生活上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351520" y="61722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heng03"/>
          <p:cNvPicPr/>
          <p:nvPr/>
        </p:nvPicPr>
        <p:blipFill>
          <a:blip r:embed="rId1"/>
          <a:stretch/>
        </p:blipFill>
        <p:spPr>
          <a:xfrm>
            <a:off x="531720" y="1065240"/>
            <a:ext cx="2503440" cy="70812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"/>
          <p:cNvGrpSpPr/>
          <p:nvPr/>
        </p:nvGrpSpPr>
        <p:grpSpPr>
          <a:xfrm>
            <a:off x="1743120" y="1600200"/>
            <a:ext cx="5676840" cy="4724280"/>
            <a:chOff x="1743120" y="1600200"/>
            <a:chExt cx="5676840" cy="4724280"/>
          </a:xfrm>
        </p:grpSpPr>
        <p:sp>
          <p:nvSpPr>
            <p:cNvPr id="79" name="Rectangle 4"/>
            <p:cNvSpPr/>
            <p:nvPr/>
          </p:nvSpPr>
          <p:spPr>
            <a:xfrm>
              <a:off x="1743120" y="1600200"/>
              <a:ext cx="56768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乐为集体做好事 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80" name="Picture 5" descr="乐为集体做好事"/>
            <p:cNvPicPr/>
            <p:nvPr/>
          </p:nvPicPr>
          <p:blipFill>
            <a:blip r:embed="rId2"/>
            <a:stretch/>
          </p:blipFill>
          <p:spPr>
            <a:xfrm>
              <a:off x="1828800" y="2346480"/>
              <a:ext cx="5486400" cy="3978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sheng03"/>
          <p:cNvPicPr/>
          <p:nvPr/>
        </p:nvPicPr>
        <p:blipFill>
          <a:blip r:embed="rId1"/>
          <a:stretch/>
        </p:blipFill>
        <p:spPr>
          <a:xfrm>
            <a:off x="0" y="1268280"/>
            <a:ext cx="2085840" cy="59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32"/>
          <p:cNvPicPr/>
          <p:nvPr/>
        </p:nvPicPr>
        <p:blipFill>
          <a:blip r:embed="rId2"/>
          <a:stretch/>
        </p:blipFill>
        <p:spPr>
          <a:xfrm>
            <a:off x="2124000" y="2205000"/>
            <a:ext cx="5327640" cy="35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sheng03"/>
          <p:cNvPicPr/>
          <p:nvPr/>
        </p:nvPicPr>
        <p:blipFill>
          <a:blip r:embed="rId1"/>
          <a:stretch/>
        </p:blipFill>
        <p:spPr>
          <a:xfrm>
            <a:off x="531720" y="1065240"/>
            <a:ext cx="2503440" cy="70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12"/>
          <p:cNvPicPr/>
          <p:nvPr/>
        </p:nvPicPr>
        <p:blipFill>
          <a:blip r:embed="rId2"/>
          <a:stretch/>
        </p:blipFill>
        <p:spPr>
          <a:xfrm>
            <a:off x="1835280" y="1916280"/>
            <a:ext cx="58323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heng03"/>
          <p:cNvPicPr/>
          <p:nvPr/>
        </p:nvPicPr>
        <p:blipFill>
          <a:blip r:embed="rId1"/>
          <a:stretch/>
        </p:blipFill>
        <p:spPr>
          <a:xfrm>
            <a:off x="531720" y="1065240"/>
            <a:ext cx="2503440" cy="70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QQ截图未命名"/>
          <p:cNvPicPr/>
          <p:nvPr/>
        </p:nvPicPr>
        <p:blipFill>
          <a:blip r:embed="rId2"/>
          <a:stretch/>
        </p:blipFill>
        <p:spPr>
          <a:xfrm>
            <a:off x="2050920" y="1916280"/>
            <a:ext cx="5545440" cy="363672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"/>
          <p:cNvSpPr/>
          <p:nvPr/>
        </p:nvSpPr>
        <p:spPr>
          <a:xfrm>
            <a:off x="1141560" y="586908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dc34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34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326F-BAD2-4CE7-994A-9EA1E43889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heng01"/>
          <p:cNvPicPr/>
          <p:nvPr/>
        </p:nvPicPr>
        <p:blipFill>
          <a:blip r:embed="rId1"/>
          <a:stretch/>
        </p:blipFill>
        <p:spPr>
          <a:xfrm>
            <a:off x="533520" y="1066680"/>
            <a:ext cx="247968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1447920" y="1600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怎样才能让我们的教室保持整洁？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3" name="Picture 4" descr="我们的教室"/>
          <p:cNvPicPr/>
          <p:nvPr/>
        </p:nvPicPr>
        <p:blipFill>
          <a:blip r:embed="rId2"/>
          <a:stretch/>
        </p:blipFill>
        <p:spPr>
          <a:xfrm>
            <a:off x="1714680" y="2244600"/>
            <a:ext cx="5715000" cy="407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371600" y="5435640"/>
            <a:ext cx="6477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看一看，教室卫生保持得怎么样，还存在哪些问题。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6" name="Picture 4" descr="16"/>
          <p:cNvPicPr/>
          <p:nvPr/>
        </p:nvPicPr>
        <p:blipFill>
          <a:blip r:embed="rId2"/>
          <a:stretch/>
        </p:blipFill>
        <p:spPr>
          <a:xfrm>
            <a:off x="1943280" y="1676520"/>
            <a:ext cx="5295600" cy="38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523880" y="5715000"/>
            <a:ext cx="6477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手工课后，地面有纸，怎么办？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9" name="Picture 4" descr="17_2"/>
          <p:cNvPicPr/>
          <p:nvPr/>
        </p:nvPicPr>
        <p:blipFill>
          <a:blip r:embed="rId2"/>
          <a:stretch/>
        </p:blipFill>
        <p:spPr>
          <a:xfrm>
            <a:off x="2523960" y="1600200"/>
            <a:ext cx="388332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7"/>
          <p:cNvSpPr/>
          <p:nvPr/>
        </p:nvSpPr>
        <p:spPr>
          <a:xfrm>
            <a:off x="2438280" y="32907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5257800" y="2403360"/>
            <a:ext cx="2514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用转笔刀削铅笔，铅笔屑怎么办？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3" name="Picture 4" descr="17_1"/>
          <p:cNvPicPr/>
          <p:nvPr/>
        </p:nvPicPr>
        <p:blipFill>
          <a:blip r:embed="rId2"/>
          <a:stretch/>
        </p:blipFill>
        <p:spPr>
          <a:xfrm>
            <a:off x="1504800" y="1981080"/>
            <a:ext cx="3829320" cy="40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486400" y="2479680"/>
            <a:ext cx="2514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用完教室里的扫除工具，怎么办？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6" name="Picture 4" descr="17_3"/>
          <p:cNvPicPr/>
          <p:nvPr/>
        </p:nvPicPr>
        <p:blipFill>
          <a:blip r:embed="rId2"/>
          <a:stretch/>
        </p:blipFill>
        <p:spPr>
          <a:xfrm>
            <a:off x="990720" y="1782720"/>
            <a:ext cx="4419360" cy="37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5562720" y="2784600"/>
            <a:ext cx="2286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粉笔掉在地上，我怎么办？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4" descr="17_4"/>
          <p:cNvPicPr/>
          <p:nvPr/>
        </p:nvPicPr>
        <p:blipFill>
          <a:blip r:embed="rId2"/>
          <a:stretch/>
        </p:blipFill>
        <p:spPr>
          <a:xfrm>
            <a:off x="1371600" y="1676520"/>
            <a:ext cx="39546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536840" y="2143080"/>
            <a:ext cx="5943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怎样保持教室清洁呢？结合我们班的情况说说吧。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600200" y="3635280"/>
            <a:ext cx="5943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评一评：谁是我们班的保洁员。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2057400" y="1609560"/>
            <a:ext cx="4952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每个人都动脑筋，想想怎样把我们的教室打扮得更漂亮。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75" name="Picture 4" descr="18"/>
          <p:cNvPicPr/>
          <p:nvPr/>
        </p:nvPicPr>
        <p:blipFill>
          <a:blip r:embed="rId2"/>
          <a:stretch/>
        </p:blipFill>
        <p:spPr>
          <a:xfrm>
            <a:off x="1447920" y="1617840"/>
            <a:ext cx="6172200" cy="473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9"/>
          <p:cNvPicPr/>
          <p:nvPr/>
        </p:nvPicPr>
        <p:blipFill>
          <a:blip r:embed="rId3"/>
          <a:stretch/>
        </p:blipFill>
        <p:spPr>
          <a:xfrm>
            <a:off x="2730600" y="1523880"/>
            <a:ext cx="367020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6:06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44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