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459C-8E5B-4C23-8FBC-C364070D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8660-B12E-4D45-B478-59A09EED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FD28-FC76-4BF8-A343-489F477E7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F71-83F2-4040-A08F-1E8671AB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33664-249E-42EA-A5F2-FE032A87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BC21-782E-4A52-858B-48D27145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2DE99-D782-4A06-BE7F-3A6D00A1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97BC-EFFE-401F-B6FF-5EC5D8C2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C09EE-EBE1-433E-8D19-6F063856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E0403-AB30-4F3F-80FA-37712F75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9A4A-F805-40DF-81B6-A79072B2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8E07-9BE1-4159-B916-F78876A4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DEED-E000-44EF-96D9-7C46AE7C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439B1-0ACF-413B-A478-7D05EC475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A022-A426-480C-BDB8-A1BF064B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38BB-5A7F-4DF9-87DC-4A277CEB4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009D-7EAA-4121-A7E7-F91A1B1D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6A65-A2D4-4409-AA1A-CF14756D5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33F-EA42-47C0-9D8F-C6357B29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AE1E-1B3C-4D24-BBD1-AB9B1A77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74E3-0A2F-49DD-A0E0-A1B4B908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09FE-4E22-4A26-9284-12F8B93F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2326-0C65-4365-A286-5006577B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FB08-A6BE-44B2-9592-41216A89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CB88-6540-437C-B528-1764F43D0CB9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9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cc0000"/>
                </a:solidFill>
                <a:latin typeface="Tahoma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8FF3-FD63-4BCC-A383-44FBA5761D03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9"/>
          <p:cNvSpPr txBox="1"/>
          <p:nvPr/>
        </p:nvSpPr>
        <p:spPr>
          <a:xfrm>
            <a:off x="1258920" y="333360"/>
            <a:ext cx="61196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散步</a:t>
            </a:r>
            <a:endParaRPr b="1" lang="en-US" sz="96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85656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5580000" y="3059280"/>
            <a:ext cx="320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仿宋_GB2312"/>
              </a:rPr>
              <a:t>莫怀戚</a:t>
            </a:r>
            <a:endParaRPr b="1" lang="en-US" sz="6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2239560" y="5732640"/>
            <a:ext cx="4664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0"/>
          <p:cNvSpPr/>
          <p:nvPr/>
        </p:nvSpPr>
        <p:spPr>
          <a:xfrm>
            <a:off x="395280" y="297180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　　尽头一口水波粼粼的鱼塘。“我走不过去的地方，你就背着我．”母亲对我说。</a:t>
            </a:r>
            <a:endParaRPr b="1" lang="en-US" sz="32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5"/>
          <p:cNvSpPr/>
          <p:nvPr/>
        </p:nvSpPr>
        <p:spPr>
          <a:xfrm>
            <a:off x="0" y="28195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　　这样，我们在阳光下，向着那菜花、桑树和鱼塘走去。</a:t>
            </a:r>
            <a:endParaRPr b="1" lang="en-US" sz="32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6"/>
          <p:cNvSpPr/>
          <p:nvPr/>
        </p:nvSpPr>
        <p:spPr>
          <a:xfrm>
            <a:off x="0" y="1523880"/>
            <a:ext cx="89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　   到了一处，我蹲下来，背起了母亲，妻子也蹲下来，背起了儿子。我的母亲虽然高大，然而很瘦，自然不算重；儿子虽然很胖，毕竟幼小，自然也轻。但我和妻子都是慢慢地，稳稳地，走得很仔细，好像我背上的同她背上的加起来，就是整个世界。</a:t>
            </a:r>
            <a:endParaRPr b="1" lang="en-US" sz="32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WordArt 2"/>
          <p:cNvSpPr txBox="1"/>
          <p:nvPr/>
        </p:nvSpPr>
        <p:spPr>
          <a:xfrm>
            <a:off x="755640" y="189000"/>
            <a:ext cx="3657600" cy="10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整体感知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1523880"/>
            <a:ext cx="9144000" cy="26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、 本文写了哪些人？ 他们之间是什么关系？在这一天的活动中发生了什么事，最后是怎么解决的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? 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？</a:t>
            </a:r>
            <a:endParaRPr b="1" lang="en-US" sz="3600" spc="-1" strike="noStrike">
              <a:solidFill>
                <a:srgbClr val="cc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（能用最简洁的语言概括文章的主要内容吗？）</a:t>
            </a:r>
            <a:endParaRPr b="1" lang="en-US" sz="3600" spc="-1" strike="noStrike">
              <a:solidFill>
                <a:srgbClr val="cc0000"/>
              </a:solidFill>
              <a:latin typeface="Tahoma"/>
            </a:endParaRPr>
          </a:p>
          <a:p>
            <a:pPr algn="just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、从中你体会到了人间什么样的情感？</a:t>
            </a:r>
            <a:endParaRPr b="1" lang="en-US" sz="36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6"/>
          <p:cNvSpPr/>
          <p:nvPr/>
        </p:nvSpPr>
        <p:spPr>
          <a:xfrm>
            <a:off x="755640" y="2057400"/>
            <a:ext cx="83883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隶书"/>
              </a:rPr>
              <a:t>探究：</a:t>
            </a:r>
            <a:endParaRPr b="1" lang="en-US" sz="6600" spc="-1" strike="noStrike">
              <a:solidFill>
                <a:srgbClr val="cc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在这一家中你最欣赏</a:t>
            </a:r>
            <a:endParaRPr b="1" lang="en-US" sz="5400" spc="-1" strike="noStrike">
              <a:solidFill>
                <a:srgbClr val="cc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哪一位，理由是什么？</a:t>
            </a:r>
            <a:endParaRPr b="1" lang="en-US" sz="5400" spc="-1" strike="noStrike">
              <a:solidFill>
                <a:srgbClr val="cc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611280" y="0"/>
            <a:ext cx="799308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Arial"/>
                <a:ea typeface="隶书"/>
              </a:rPr>
              <a:t>佳句赏析：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        读一读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品一品。找出你最欣赏的语句，看它佳在哪里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br>
              <a:rPr sz="4000"/>
            </a:br>
            <a:r>
              <a:rPr b="1" lang="zh-CN" sz="6000" spc="-1" strike="noStrike">
                <a:solidFill>
                  <a:srgbClr val="3333cc"/>
                </a:solidFill>
                <a:latin typeface="Arial"/>
                <a:ea typeface="隶书"/>
              </a:rPr>
              <a:t>老师提示：</a:t>
            </a:r>
            <a:br>
              <a:rPr sz="4000"/>
            </a:b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       是因为巧用了某种修辞方法；还是运用了特殊的句式；还是因为作者的情感渗透其中？还是含蓄地告诉了人们一个生活的道理，震撼了你的心灵</a:t>
            </a:r>
            <a:r>
              <a:rPr b="0" lang="zh-CN" sz="1800" spc="-1" strike="noStrike">
                <a:solidFill>
                  <a:srgbClr val="ff3300"/>
                </a:solidFill>
                <a:latin typeface="Garamond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华文行楷"/>
                <a:ea typeface="华文行楷"/>
              </a:rPr>
              <a:t>等等。</a:t>
            </a:r>
            <a:endParaRPr b="1" lang="en-US" sz="40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990720" y="76212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隶书"/>
                <a:ea typeface="隶书"/>
              </a:rPr>
              <a:t>    </a:t>
            </a:r>
            <a:r>
              <a:rPr b="1" lang="zh-CN" sz="4800" spc="-1" strike="noStrike">
                <a:solidFill>
                  <a:srgbClr val="cc0000"/>
                </a:solidFill>
                <a:latin typeface="隶书"/>
                <a:ea typeface="隶书"/>
              </a:rPr>
              <a:t>此时此刻，想对你的长辈（爷爷奶奶、爸爸妈妈）说几句心里话吗？ 那就发一则短消息给他们吧，字数在</a:t>
            </a:r>
            <a:r>
              <a:rPr b="1" lang="en-US" sz="4800" spc="-1" strike="noStrike">
                <a:solidFill>
                  <a:srgbClr val="cc0000"/>
                </a:solidFill>
                <a:latin typeface="隶书"/>
                <a:ea typeface="隶书"/>
              </a:rPr>
              <a:t>60</a:t>
            </a:r>
            <a:r>
              <a:rPr b="1" lang="zh-CN" sz="4800" spc="-1" strike="noStrike">
                <a:solidFill>
                  <a:srgbClr val="cc0000"/>
                </a:solidFill>
                <a:latin typeface="隶书"/>
                <a:ea typeface="隶书"/>
              </a:rPr>
              <a:t>个左右。（情意要浓）</a:t>
            </a:r>
            <a:endParaRPr b="1" lang="en-US" sz="48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65" name="文本框 1"/>
          <p:cNvSpPr/>
          <p:nvPr/>
        </p:nvSpPr>
        <p:spPr>
          <a:xfrm>
            <a:off x="784080" y="5586480"/>
            <a:ext cx="833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cc0000"/>
                </a:solidFill>
                <a:latin typeface="Tahoma"/>
              </a:rPr>
              <a:t>更多免费</a:t>
            </a:r>
            <a:r>
              <a:rPr b="1" lang="zh-CN" sz="2000" spc="-1" strike="noStrike">
                <a:solidFill>
                  <a:srgbClr val="cc0000"/>
                </a:solidFill>
                <a:latin typeface="Tahoma"/>
              </a:rPr>
              <a:t>PPT</a:t>
            </a:r>
            <a:r>
              <a:rPr b="1" lang="zh-CN" sz="2000" spc="-1" strike="noStrike">
                <a:solidFill>
                  <a:srgbClr val="cc0000"/>
                </a:solidFill>
                <a:latin typeface="Tahoma"/>
              </a:rPr>
              <a:t>模板尽在：</a:t>
            </a:r>
            <a:r>
              <a:rPr b="1" lang="zh-CN" sz="2000" spc="-1" strike="noStrike">
                <a:solidFill>
                  <a:srgbClr val="cc0000"/>
                </a:solidFill>
                <a:latin typeface="Tahoma"/>
              </a:rPr>
              <a:t>http://www.eeppt.com</a:t>
            </a:r>
            <a:endParaRPr b="1" lang="en-US" sz="20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757440" y="563400"/>
            <a:ext cx="18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0" y="0"/>
            <a:ext cx="9144000" cy="28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cc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cc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以“我爱我家”为主题，设计一次“综合性学习”方案。并拟好开场白。</a:t>
            </a:r>
            <a:endParaRPr b="1" lang="en-US" sz="4800" spc="-1" strike="noStrike">
              <a:solidFill>
                <a:srgbClr val="cc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45472"/>
                </a:solidFill>
                <a:latin typeface="Arial"/>
              </a:rPr>
              <a:t>       </a:t>
            </a:r>
            <a:endParaRPr b="1" lang="en-US" sz="18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r>
              <a:rPr b="0" lang="zh-CN" sz="1400" spc="-1" strike="noStrike" u="sng">
                <a:solidFill>
                  <a:srgbClr val="9595ff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595ff"/>
                </a:solidFill>
                <a:uFillTx/>
                <a:latin typeface="Tahoma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ahoma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kejian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9595ff"/>
                </a:solidFill>
                <a:uFillTx/>
                <a:latin typeface="Tahoma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45472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71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79342-31B8-4136-9344-4A1747100D6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3"/>
          <p:cNvSpPr/>
          <p:nvPr/>
        </p:nvSpPr>
        <p:spPr>
          <a:xfrm>
            <a:off x="539640" y="692280"/>
            <a:ext cx="8928360" cy="45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隶书"/>
              </a:rPr>
              <a:t>学习目标：</a:t>
            </a:r>
            <a:endParaRPr b="1" lang="en-US" sz="7200" spc="-1" strike="noStrike">
              <a:solidFill>
                <a:srgbClr val="cc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、学会在生活中的小事中感受</a:t>
            </a: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亲情之美，生活之美。培养</a:t>
            </a: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尊老爱幼的品格。</a:t>
            </a: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、学习文章巧妙的构思，体会</a:t>
            </a: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Arial"/>
              </a:rPr>
              <a:t>文章朴实而耐人寻味的语言风格。</a:t>
            </a:r>
            <a:endParaRPr b="1" lang="en-US" sz="44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160" y="1599840"/>
            <a:ext cx="756108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、 本文写了哪些人？ 他们之间是什么关系？在这一天的活动中发生了什么事，最后是怎么解决的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? 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？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（能用最简洁的语言概括文章的主要内容吗？）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、从中你体会到了人间什么样的情感？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ahoma"/>
              </a:rPr>
              <a:t>   </a:t>
            </a: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755640" y="189000"/>
            <a:ext cx="3657600" cy="10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 algn="just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整体感知</a:t>
            </a:r>
            <a:endParaRPr b="1" lang="en-US" sz="6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散步2568.mp3" descr=""/>
          <p:cNvPicPr/>
          <p:nvPr/>
        </p:nvPicPr>
        <p:blipFill>
          <a:blip r:embed="rId1"/>
          <a:stretch/>
        </p:blipFill>
        <p:spPr>
          <a:xfrm>
            <a:off x="611280" y="595008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519120" y="1224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0" y="914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我们在田野上散步：我，我的母亲，我的妻子和儿子。</a:t>
            </a:r>
            <a:endParaRPr b="1" lang="en-US" sz="3200" spc="-1" strike="noStrike">
              <a:solidFill>
                <a:srgbClr val="cc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母亲本不愿出来的。她老了，身体不好，走远一点就觉得很累。我说，正因为如此，才应该多走走。母亲信服地点点头，便去拿外套。她现在很听我的话，就像我小时候很听她的话一样。</a:t>
            </a:r>
            <a:endParaRPr b="1" lang="en-US" sz="3200" spc="-1" strike="noStrike">
              <a:solidFill>
                <a:srgbClr val="cc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6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276794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矩形 6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hangye/ </a:t>
            </a:r>
            <a:endParaRPr b="1" lang="en-US" sz="100" spc="-1" strike="noStrike">
              <a:solidFill>
                <a:srgbClr val="cc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sucai/</a:t>
            </a:r>
            <a:endParaRPr b="1" lang="en-US" sz="100" spc="-1" strike="noStrike">
              <a:solidFill>
                <a:srgbClr val="cc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tubiao/      </a:t>
            </a:r>
            <a:endParaRPr b="1" lang="en-US" sz="100" spc="-1" strike="noStrike">
              <a:solidFill>
                <a:srgbClr val="cc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powerpoint/      </a:t>
            </a:r>
            <a:endParaRPr b="1" lang="en-US" sz="100" spc="-1" strike="noStrike">
              <a:solidFill>
                <a:srgbClr val="cc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excel/  </a:t>
            </a:r>
            <a:endParaRPr b="1" lang="en-US" sz="100" spc="-1" strike="noStrike">
              <a:solidFill>
                <a:srgbClr val="cc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kejian/ </a:t>
            </a:r>
            <a:endParaRPr b="1" lang="en-US" sz="100" spc="-1" strike="noStrike">
              <a:solidFill>
                <a:srgbClr val="cc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shiti/  </a:t>
            </a:r>
            <a:endParaRPr b="1" lang="en-US" sz="100" spc="-1" strike="noStrike">
              <a:solidFill>
                <a:srgbClr val="cc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ahoma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www.1ppt.com/jiaoan/  </a:t>
            </a:r>
            <a:endParaRPr b="1" lang="en-US" sz="100" spc="-1" strike="noStrike">
              <a:solidFill>
                <a:srgbClr val="cc0000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147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41148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0" y="4267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天气很好。今年的春天来得太迟，太迟了。有一些老人挺不住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在清明将到的时候死去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黑体"/>
              </a:rPr>
              <a:t>但是春天总算来了。我的母亲又熬过了一个严冬。</a:t>
            </a:r>
            <a:endParaRPr b="1" lang="en-US" sz="36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7"/>
          <p:cNvSpPr/>
          <p:nvPr/>
        </p:nvSpPr>
        <p:spPr>
          <a:xfrm>
            <a:off x="6856560" y="2138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0" y="129528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　　这南方初春的田野，大块小块的新绿随意地</a:t>
            </a:r>
            <a:endParaRPr b="1" lang="en-US" sz="3200" spc="-1" strike="noStrike">
              <a:solidFill>
                <a:srgbClr val="cc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铺着，有的浓，有的淡；树上的嫩芽也密了；田</a:t>
            </a:r>
            <a:endParaRPr b="1" lang="en-US" sz="3200" spc="-1" strike="noStrike">
              <a:solidFill>
                <a:srgbClr val="cc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里的冬水也咕咕地起着水泡。这一切都使人想着</a:t>
            </a:r>
            <a:endParaRPr b="1" lang="en-US" sz="3200" spc="-1" strike="noStrike">
              <a:solidFill>
                <a:srgbClr val="cc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一样东西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----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生命。</a:t>
            </a:r>
            <a:endParaRPr b="1" lang="en-US" sz="32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179280" y="28195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　　我和母亲走在前面，我的妻子和儿子走在后</a:t>
            </a:r>
            <a:endParaRPr b="1" lang="en-US" sz="3200" spc="-1" strike="noStrike">
              <a:solidFill>
                <a:srgbClr val="cc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面．小家伙突然叫起来“前面也是妈妈和儿子，后</a:t>
            </a:r>
            <a:endParaRPr b="1" lang="en-US" sz="3200" spc="-1" strike="noStrike">
              <a:solidFill>
                <a:srgbClr val="cc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面也是妈妈和儿子。”我们都笑了。</a:t>
            </a:r>
            <a:endParaRPr b="1" lang="en-US" sz="32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609480" y="22860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900000" y="338040"/>
            <a:ext cx="712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24000" y="0"/>
            <a:ext cx="8316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2057400"/>
            <a:ext cx="91440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　后来发生了分歧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母亲要走大路，大路平顺；我的儿子要走小路，小路有意思。不过，一切都取决于我。我的母亲老了，她早已习惯听从她强壮的儿子；我的儿子还小，他还习惯听从他高大的父亲；妻子呢，在外面，她总是听我的。一霎时，我感到了责任的重大，就像民族领袖在严重关头时那样。我想一个两全的办法，找不出；我想拆散一家人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分成两路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各得其所</a:t>
            </a: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终不愿意。我决定委屈儿子，因为我伴同他的时日还长；我伴随母亲的时日已短。我说：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走大路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endParaRPr b="1" lang="en-US" sz="32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5"/>
          <p:cNvSpPr/>
          <p:nvPr/>
        </p:nvSpPr>
        <p:spPr>
          <a:xfrm>
            <a:off x="1758240" y="2971800"/>
            <a:ext cx="5798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　　但是母亲摸摸孙儿的小脑瓜，变了主意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还是走小</a:t>
            </a:r>
            <a:endParaRPr b="1" lang="en-US" sz="2800" spc="-1" strike="noStrike">
              <a:solidFill>
                <a:srgbClr val="cc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路吧。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她的眼随小路望去：那里有金色的菜花，两行整</a:t>
            </a:r>
            <a:endParaRPr b="1" lang="en-US" sz="2800" spc="-1" strike="noStrike">
              <a:solidFill>
                <a:srgbClr val="cc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齐的桑树</a:t>
            </a:r>
            <a:r>
              <a:rPr b="1" lang="en-US" sz="2800" spc="-1" strike="noStrike">
                <a:solidFill>
                  <a:srgbClr val="ff3300"/>
                </a:solidFill>
                <a:latin typeface="黑体"/>
                <a:ea typeface="黑体"/>
              </a:rPr>
              <a:t>,</a:t>
            </a:r>
            <a:endParaRPr b="1" lang="en-US" sz="2800" spc="-1" strike="noStrike">
              <a:solidFill>
                <a:srgbClr val="cc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8T12:35:34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3:52Z</dcterms:modified>
  <cp:revision>10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