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00E-7836-4489-BD51-48537C3A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7DF-3F24-432B-91D7-4C3E537E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629-ACE5-4A3D-A3A4-7663A010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6EE-6E1A-4ED3-814F-7F935C38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519A-7DEA-4356-9E2A-F97F423B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654E-A3CC-45FA-9FD5-A8CC52C8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025-884E-413E-800E-5DB8A32D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CD5-19EB-4016-BD3E-5AD805CA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CC8F-ABB2-4909-8E18-5A46E985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50E8-EA91-40A2-8AA8-A19FEA94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5C62-07CD-4710-BCAF-80BEF922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48E-02A8-417D-A18E-A38C3FFC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AB3B-D771-40B1-8A42-F47EADC4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C262-22A3-403C-8BCA-BB3ABBFD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E4FA-BCEA-4876-9B29-28957B67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F778-2764-4518-9698-5F9E05AD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2110-745D-4B89-8C63-8FFCACF6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CDBE4-F335-4D36-8384-5D190157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036A-BFCD-4F24-9C1B-945591BB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B304-0A29-4185-93AE-9832C30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64A7-2D14-4CC4-9FB8-554D23A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C6D7-7F2A-4ADF-B709-6E5CA6C9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935-3C0C-4731-B7A5-585F39B6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DB43-AA22-41CF-AFCC-7D6C960C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A4B5-3186-426C-883C-733D6556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FB2F-B267-4DA9-90B5-3E68B8BB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B4B5-334C-4D9A-ACCA-B7A7CA8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27D5-A82E-48C6-8139-ECB3003D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69B0-7B11-4EBB-B272-892E3282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8F3E-21A1-4CF6-95DF-A292F1E1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301-4DE2-4423-A546-CB267B6E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00D-2668-4E3C-B5A9-B7454533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574-FFA1-4422-80A6-124ED9C7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E07-9A1C-4A23-AF40-DBF1632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2B1-5563-46AB-AFC4-B18BD507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14A-4907-41F7-AB73-90DCE92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2529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矩形 22530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25E1-7952-4022-9F93-E42018F7D4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任意多边形 22536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任意多边形 22537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4882-8B2D-4997-82B0-652957F538B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5FD9-E634-4A8A-9781-F46E2B61667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23557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椭圆 23558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矩形 23559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矩形 23560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任意多边形 23561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任意多边形 23562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1DB5-C210-4D28-8883-58C9896057B3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X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市场消费特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宋体"/>
              </a:rPr>
              <a:t>XXX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幼圆"/>
                <a:ea typeface="幼圆"/>
              </a:rPr>
              <a:t>XXXXX</a:t>
            </a:r>
            <a:r>
              <a:rPr b="1" lang="zh-CN" sz="2800" spc="-1" strike="noStrike">
                <a:solidFill>
                  <a:srgbClr val="292929"/>
                </a:solidFill>
                <a:latin typeface="幼圆"/>
                <a:ea typeface="幼圆"/>
              </a:rPr>
              <a:t>大学管理学院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幼圆"/>
                <a:ea typeface="幼圆"/>
              </a:rPr>
              <a:t>XX</a:t>
            </a:r>
            <a:r>
              <a:rPr b="1" lang="zh-CN" sz="2000" spc="-1" strike="noStrike">
                <a:solidFill>
                  <a:srgbClr val="292929"/>
                </a:solidFill>
                <a:latin typeface="幼圆"/>
                <a:ea typeface="幼圆"/>
              </a:rPr>
              <a:t>年</a:t>
            </a:r>
            <a:r>
              <a:rPr b="1" lang="en-US" sz="2000" spc="-1" strike="noStrike">
                <a:solidFill>
                  <a:srgbClr val="292929"/>
                </a:solidFill>
                <a:latin typeface="幼圆"/>
                <a:ea typeface="幼圆"/>
              </a:rPr>
              <a:t>XX</a:t>
            </a:r>
            <a:r>
              <a:rPr b="1" lang="zh-CN" sz="2000" spc="-1" strike="noStrike">
                <a:solidFill>
                  <a:srgbClr val="292929"/>
                </a:solidFill>
                <a:latin typeface="幼圆"/>
                <a:ea typeface="幼圆"/>
              </a:rPr>
              <a:t>月</a:t>
            </a:r>
            <a:r>
              <a:rPr b="1" lang="en-US" sz="2000" spc="-1" strike="noStrike">
                <a:solidFill>
                  <a:srgbClr val="292929"/>
                </a:solidFill>
                <a:latin typeface="幼圆"/>
                <a:ea typeface="幼圆"/>
              </a:rPr>
              <a:t>XX</a:t>
            </a:r>
            <a:r>
              <a:rPr b="1" lang="zh-CN" sz="2000" spc="-1" strike="noStrike">
                <a:solidFill>
                  <a:srgbClr val="292929"/>
                </a:solidFill>
                <a:latin typeface="幼圆"/>
                <a:ea typeface="幼圆"/>
              </a:rPr>
              <a:t>日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城市居民需求转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367760" cy="41148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幼圆"/>
                <a:ea typeface="幼圆"/>
              </a:rPr>
              <a:t>城市居民消费结构不断升级，住房、汽车、电脑成为最新流行的“三大件”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幼圆"/>
                <a:ea typeface="幼圆"/>
              </a:rPr>
              <a:t>消费的内部结构正在发生变化，对实物型消费比重在减少，对精神文化、餐饮、旅游的消费在增加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幼圆"/>
                <a:ea typeface="幼圆"/>
              </a:rPr>
              <a:t>由过去单纯满足“饱腹”来“养活”自己的观念转向营养、保健与美食的享受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市场消费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奢侈消费盛世行（汽车、服饰）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家庭消费升级（住房、电脑、相机）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通讯电子产品需求不断升级（手机、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MP3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、电子词典）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时尚潮流扩散速度快（手机、汽车）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市场消费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幼圆"/>
                <a:ea typeface="幼圆"/>
              </a:rPr>
              <a:t>IT</a:t>
            </a: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产品消费市场正向农村转变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牛奶消费普及率高，中小城市及农村生活必须品和送礼佳品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保健品“崇洋媚外”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国际旅游欲望强烈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运动休闲健身尚有未被很好满足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市场消费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家庭教育支出持续增长迅速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网上购物增加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就餐环境和饮食质量要求提高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区域消费差异仍然明显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市场消费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中年女性市场需求正在提升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留学市场需求开始多样化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男用化妆品市场需要培育</a:t>
            </a:r>
            <a:r>
              <a:rPr b="1" lang="en-US" sz="3600" spc="-1" strike="noStrike">
                <a:solidFill>
                  <a:srgbClr val="292929"/>
                </a:solidFill>
                <a:latin typeface="幼圆"/>
                <a:ea typeface="幼圆"/>
              </a:rPr>
              <a:t>;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幼圆"/>
                <a:ea typeface="幼圆"/>
              </a:rPr>
              <a:t>主要大中城市仍然引领全国市场；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市场推广策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151760" cy="26719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主导消费市场而非迎合潮流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大规模广告攻势依然有效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降价效果明显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饮料产品需要不断创新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市场推广策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294320" cy="238284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避免过渡营销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改进直销方式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产品技术创新赢得市场关键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做好市场调研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祝各位生意兴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内容占位符 26627" descr="mmm"/>
          <p:cNvPicPr/>
          <p:nvPr/>
        </p:nvPicPr>
        <p:blipFill>
          <a:blip r:embed="rId1"/>
          <a:stretch/>
        </p:blipFill>
        <p:spPr>
          <a:xfrm>
            <a:off x="2978280" y="1773360"/>
            <a:ext cx="3598560" cy="4535280"/>
          </a:xfrm>
          <a:prstGeom prst="rect">
            <a:avLst/>
          </a:prstGeom>
          <a:ln w="0">
            <a:noFill/>
          </a:ln>
        </p:spPr>
      </p:pic>
      <p:sp>
        <p:nvSpPr>
          <p:cNvPr id="186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包括三个方面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2929"/>
                </a:solidFill>
                <a:latin typeface="Arial"/>
                <a:ea typeface="楷体_GB2312"/>
              </a:rPr>
              <a:t>市场基本面判断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2929"/>
                </a:solidFill>
                <a:latin typeface="Arial"/>
                <a:ea typeface="楷体_GB2312"/>
              </a:rPr>
              <a:t>市场消费特征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2929"/>
                </a:solidFill>
                <a:latin typeface="Arial"/>
                <a:ea typeface="楷体_GB2312"/>
              </a:rPr>
              <a:t>市场推广策略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宏观市场基本判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在全球经济继续不振的情况下，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2003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年国民经济继续保持稳定回升的趋势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成为“九五”中期以来经济增长最好的一年。各项投资需求全面启动、新的消费热点逐步形成和扩散、出口增长持续强劲。经济开始摆脱“中期调整趋势”，进入一个新的加速增长周期的上升阶段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要动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新一轮高速增长的主要动力在于消费结构升级、产业结构升级、城市化提速和增长环境的改善。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2004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年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XX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国经济仍将保持调整增长的良好态势，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GDP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增长不低于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8%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，但也不会超过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9%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，估计与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2003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年持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零售业态不断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以生鲜食品和加工食品为主的超市进一步发展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大型综合超市和仓储式商店迎合人们“一站式购物”需求，具有相当的竞争力，成为内外资企业竞争的焦点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连锁经营发展迅速，成为商业中居主导地位的经营方式，连锁超市已成为最具活力的业态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小城市商业突出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367760" cy="331956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商业整体规模小、业态单调、定位趋同、结构不合理、缺乏经营特色、大多数商业业态停留在传统的百货商店和小商店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缺乏现代管理理念，现代信息技术应用落后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消费阶层新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223040" cy="33926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XX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国人口，真正具有强势购买力的有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8000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万，真正具有品味的消费者只有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3000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万，在这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3000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万人口中能够辨别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XX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国产品价值的也许只有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300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万人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产阶层形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223040" cy="331956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XX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国奢侈品消费的主力军包括中产阶层，即家庭资产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30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万以上、年收入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10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万以上。到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2010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年，这个人群将增长到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．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亿。他们主导住房、汽车、旅游、教育、文化等消费热点，将带动消费需求增长和消费结构升级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高消费人群具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X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国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349360"/>
            <a:ext cx="7151760" cy="26006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XXX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分析师指出，在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XX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国购买奢侈品的大部分是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40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岁以下的年轻人，而在发达国家，这个市场的主导者是</a:t>
            </a:r>
            <a:r>
              <a:rPr b="1" lang="en-US" sz="3200" spc="-1" strike="noStrike">
                <a:solidFill>
                  <a:srgbClr val="292929"/>
                </a:solidFill>
                <a:latin typeface="幼圆"/>
                <a:ea typeface="幼圆"/>
              </a:rPr>
              <a:t>40-70</a:t>
            </a:r>
            <a:r>
              <a:rPr b="1" lang="zh-CN" sz="3200" spc="-1" strike="noStrike">
                <a:solidFill>
                  <a:srgbClr val="292929"/>
                </a:solidFill>
                <a:latin typeface="幼圆"/>
                <a:ea typeface="幼圆"/>
              </a:rPr>
              <a:t>岁的中年人和老年人；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日期占位符 1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1:07Z</dcterms:created>
  <dc:creator/>
  <dc:description/>
  <cp:keywords>市场 消费 特征</cp:keywords>
  <dc:language>en-US</dc:language>
  <cp:lastModifiedBy>An</cp:lastModifiedBy>
  <dcterms:modified xsi:type="dcterms:W3CDTF">2016-05-01T00:41:0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