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5BA-29A4-415E-968F-5E84639E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094-F3E9-4195-90EB-D9F31ABC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016-E401-44FC-A47B-0914424E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196-613E-4D8C-89A1-75A925A8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FA4-2788-476C-8EF8-60D02C64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8983-6EF6-4B2F-8D02-B9B22CCB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F69D-BB62-4595-8242-D6FE14E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41B3-B804-40ED-8652-8F88908A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3FED-C734-404A-8535-F371D99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53B7-4209-4A82-B657-075C4894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AE2-CE47-443F-8E1C-065B596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957-CC61-42C7-B701-867F5B8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2D5-D0E8-485E-993E-631CE715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DFD-2485-4FC1-9B3C-7F795B7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6550-E5A5-4256-825C-55718FE1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390A-FAE1-46C1-825F-DE23DAF9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D47-CE24-491D-9784-1F46AF57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5E1-7244-4315-BA00-8C73DDC9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972-6037-48B8-9673-242655DA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93F-9ADD-4E48-BA3A-00604786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5CD-4BFD-47EF-BF30-0F4F6548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9F4-D11E-4E89-A700-F806ECF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1D7-05B0-416F-B833-0ADB352A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BCB-90A2-4674-8CCE-27E1CF3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A676-C2F2-4EAB-947B-B612A2BCE1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626F-A579-45EC-BC88-595074F2269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ta.com.cn/xjx.as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xq.chinaccd.net/s_xb/s_xb_fc/200107/2205082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sdrt.com/luxing/zhonghua/xb002.htm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r?u=http://hotsee.myrice.com/ima/current/loulan7a.jpg&amp;f=http://hotsee.myrice.com/weba/loulan.htm&amp;c=baidu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xj.chinanews.com.cn/xinjiang/zzz/bazhou/xianshi/ruoqiang/tedian/lvyou/home.ht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tanghu.net/student/g2002/wangyu/samo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hlglf.com/xizang/llgc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ynok.com/lyouxianlu/xingjiang/xingjiang05.htm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xj.yahtour.com/GB/channel1/158/20010708/291.html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efair.gov.cn/chinese/west/tour/xinjiang/xinjiangilan&#32196;lding.asp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ta.com.cn/xjx.as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ylu.myetang.com/catalog/about_tianshan/silkroad/silkroad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41520" y="278100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786950"/>
                </a:solidFill>
                <a:latin typeface="Times New Roman"/>
              </a:rPr>
              <a:t>丝绸之路</a:t>
            </a:r>
            <a:endParaRPr b="0" lang="en-US" sz="9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4" name="Picture 4" descr="http://www.west-tour.com.cn/images/map/pl_05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838080"/>
            <a:ext cx="5562720" cy="205920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124560" y="6280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宋体"/>
              </a:rPr>
              <a:t>位置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33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0cc66"/>
                </a:solidFill>
                <a:latin typeface="宋体"/>
              </a:rPr>
              <a:t>　</a:t>
            </a:r>
            <a:br>
              <a:rPr sz="3200"/>
            </a:br>
            <a:r>
              <a:rPr b="0" lang="zh-CN" sz="3200" spc="-1" strike="noStrike">
                <a:solidFill>
                  <a:srgbClr val="00cc66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33cc"/>
                </a:solidFill>
                <a:latin typeface="宋体"/>
              </a:rPr>
              <a:t>楼兰古城遗址位于若羌县境内罗布泊地区，遗址散布在罗布泊西岸的雅丹地形之中。。其范围东起古阳关附近，西至尼雅古城，南至阿尔金山，北到哈密。</a:t>
            </a:r>
            <a:br>
              <a:rPr sz="3200"/>
            </a:br>
            <a:r>
              <a:rPr b="0" lang="zh-CN" sz="3200" spc="-1" strike="noStrike">
                <a:solidFill>
                  <a:srgbClr val="ff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1717"/>
                </a:solidFill>
                <a:latin typeface="宋体"/>
              </a:rPr>
              <a:t>历史</a:t>
            </a:r>
            <a:r>
              <a:rPr b="0" lang="zh-CN" sz="4400" spc="-1" strike="noStrike">
                <a:solidFill>
                  <a:srgbClr val="ff1717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24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66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楼兰国始建于公元前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176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年，消亡于公元后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630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年，共有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多年历史。在当时，楼兰是交通咽侯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被称为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楼兰道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，在丝绸古道上盛极一时。 楼兰古城曾是何等的繁荣昌盛，城墙的残迹竟达八米之厚，但而今又如何？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cc00"/>
                </a:solidFill>
                <a:latin typeface="宋体"/>
              </a:rPr>
              <a:t>　　可楼兰城究竟为何突然废弃？除了缺水断粮外，史家尚有两种猜测，一是瘟疫，因发现了些尸体，但若是，为何尸体又缺手残腿，死状惨烈，若说是战争，则尸体太少。百年来，楼兰古城之谜无人能解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cc66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楼兰图片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0" descr="http://sxq.chinaccd.net/s_xb/s_xb_fc/200107/images/2205082image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031840"/>
            <a:ext cx="3733920" cy="4011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http://www.sdrt.com/luxing/zhonghua/pic/loul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419720"/>
            <a:ext cx="2895480" cy="183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http://image.baidu.com/it?u=http://hotsee.myrice.com/ima/current/loulan7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52480" y="1952640"/>
            <a:ext cx="27432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http://www.xj.chinanews.com.cn/xinjiang/zzz/bazhou/xianshi/ruoqiang/tedian/lvyou/image/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04920"/>
            <a:ext cx="2971800" cy="186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http://www.tanghu.net/student/g2002/wangyu/quanj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228600"/>
            <a:ext cx="2666880" cy="195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www.hlglf.com/xizang/llgc.h3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2362320"/>
            <a:ext cx="3646440" cy="246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ttp://www.ynok.com/lyouxianlu/xingjiang/images/xingjiang1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4952880"/>
            <a:ext cx="195408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http://xj.yahtour.com/media/200107/09/NewsMedia_35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8880" y="4572000"/>
            <a:ext cx="1532160" cy="2057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http://www.efair.gov.cn/chinese/west/tour/xinjiang/loula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5105520"/>
            <a:ext cx="2438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00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7C8F-B3B0-446B-9EF7-2E26D682F8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3635280" y="3500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27" descr="http://www.west-tour.com.cn/images/map/pl_05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52480"/>
            <a:ext cx="7924680" cy="2934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1587600" y="58579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张骞通西域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23960" y="18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2170080" y="182520"/>
            <a:ext cx="6251400" cy="4394160"/>
            <a:chOff x="2170080" y="182520"/>
            <a:chExt cx="6251400" cy="4394160"/>
          </a:xfrm>
        </p:grpSpPr>
        <p:sp>
          <p:nvSpPr>
            <p:cNvPr id="93" name="Rectangle 5"/>
            <p:cNvSpPr/>
            <p:nvPr/>
          </p:nvSpPr>
          <p:spPr>
            <a:xfrm>
              <a:off x="2170080" y="18252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2170080" y="18252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7"/>
          <p:cNvSpPr/>
          <p:nvPr/>
        </p:nvSpPr>
        <p:spPr>
          <a:xfrm>
            <a:off x="723960" y="45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219320" y="1143000"/>
            <a:ext cx="7680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汉武帝初年的时候，匈奴中有人投降了汉朝。汉武帝从他们的谈话中知道一点西域（今新疆和新疆以西一带）的情况。他们说有一个月氏（音ｙ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ｚｈ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国，被匈奴打败，向西逃去，定居在西域一带。他们跟匈奴有仇，想要报复，就是没有人帮助他们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汉武帝想，月氏既然在匈奴西边。汉朝如果能跟月氏联合起来，切断匈奴跟西域各国的联系，这不是等于切断了匈奴的右胳膊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于是，他下了一道诏书，征求能干的人到月氏去联络。当时，谁也不知道月氏国在哪儿，也不知道有多远。要担负这个任务，可得有很大的勇气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有个年青的郎中（官名）张骞（音ｑ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ｎ），觉得这是一件有意义的事，首先应征。有他一带头，别的人胆子也大了，有一百名勇士应了征。有个在长安的匈奴族人叫堂邑父，也愿意跟张骞一块儿去找月氏国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公元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3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汉武帝就派张骞带着一百多个人出发去找月氏。但是要到月氏，一定要经过匈奴占领的地界。张骞他们小心地走了几天，还是被匈奴兵发现围住了，全都做了俘虏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23960" y="36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2170080" y="365040"/>
            <a:ext cx="6251400" cy="4394160"/>
            <a:chOff x="2170080" y="365040"/>
            <a:chExt cx="6251400" cy="4394160"/>
          </a:xfrm>
        </p:grpSpPr>
        <p:sp>
          <p:nvSpPr>
            <p:cNvPr id="99" name="Rectangle 3"/>
            <p:cNvSpPr/>
            <p:nvPr/>
          </p:nvSpPr>
          <p:spPr>
            <a:xfrm>
              <a:off x="2170080" y="36504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2170080" y="36504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5"/>
          <p:cNvSpPr/>
          <p:nvPr/>
        </p:nvSpPr>
        <p:spPr>
          <a:xfrm>
            <a:off x="723960" y="47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463760" y="609480"/>
            <a:ext cx="76802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匈奴人没有杀他们，只是派人把他们分散开来管住，只有堂邑父跟张骞住在一起，一住就是十多年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日子久了，匈奴对他们管得不那么严。张骞跟堂邑父商量了一下，瞅匈奴人不防备，骑上两匹快马逃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他们一直向西跑了几十天，吃尽苦头，逃出了匈奴地界，没找到月氏，却闯进了另一个国家叫大宛（在今中亚细亚）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大宛和匈奴是近邻，当地人懂得匈奴话。张骞和堂邑父都能说匈奴话，交谈起来很方便。他们见了大宛王，大宛王早就听说汉朝是个富饶强盛的大国，这回儿听到汉朝的使者到了，很欢迎他们，并且派人护送他们到康居（约在今巴尔喀什湖和咸海之间），再由康居到了月氏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月氏被匈奴打败了以后，迁到大夏（今阿富汗北部）附近建立了大月氏国，不想再跟匈奴作战。大月氏国王听了张骞的话，不感兴趣，但是因为张骞是个汉朝的使者，也很有礼貌地接待他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骞和堂邑父在大月氏住了一年多，还到大夏去了一次，看到了许多从未见到过的东西。但是他们没能说服大月氏国共同对付匈奴，只好回来。经过匈奴地界，又被扣押了一段时间，幸好匈奴发生了内乱，才逃出来回到长安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23960" y="-36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2170080" y="-365040"/>
            <a:ext cx="6251400" cy="4394160"/>
            <a:chOff x="2170080" y="-365040"/>
            <a:chExt cx="6251400" cy="4394160"/>
          </a:xfrm>
        </p:grpSpPr>
        <p:sp>
          <p:nvSpPr>
            <p:cNvPr id="105" name="Rectangle 3"/>
            <p:cNvSpPr/>
            <p:nvPr/>
          </p:nvSpPr>
          <p:spPr>
            <a:xfrm>
              <a:off x="2170080" y="-36504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2170080" y="-36504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5"/>
          <p:cNvSpPr/>
          <p:nvPr/>
        </p:nvSpPr>
        <p:spPr>
          <a:xfrm>
            <a:off x="723960" y="40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463760" y="1828800"/>
            <a:ext cx="7680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骞在外面足足过了十三年才回来。汉武帝认为他立了大功，封他做太中大夫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张骞向汉武帝详细报告了西域各国的情况。他说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我在大夏看见邛山（在今四川省，邛音ｑ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ｎｇ）出产的竹杖和蜀地（今四川成都）出产的细布。当地的人说这些东西是商人从天竺（就是现在的印度）贩来的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他认为既然天竺可以买到蜀地的东西，一定离开蜀地不远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汉武帝就派张骞为使者，带着礼物从蜀地出发，去结交天竺。张骞把人马分为四队，分头去找天竺。四路人马各走了两千里地，都没有找到。有的被当地的部族打回来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往南走的一队人马到了昆明，也给挡住了。汉朝的使者绕过昆明，到了滇越（在今云南东部）。滇越国王的上代原是楚国人，已经有好几代跟中原隔绝了。他愿意帮助张骞找道去天竺，可是昆明在中间挡住，没能过去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张骞回到长安，汉武帝认为他虽然没有找到天竺，但是结交了一个一直没有联系过的滇越，也很满意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到了卫青、霍去病消灭了匈奴兵主力，匈奴逃往大沙漠北面以后，西域一带许多国家看到匈奴失了势，都不愿意向匈奴进贡纳税。汉武帝趁这个机会再派张骞去通西域。公元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1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张骞和他的几个副手，拿着汉朝的旌节，带着三百个勇士，每人两匹马，还带着一万多头牛羊和黄金、钱币、绸缎、布帛等礼物去结交西域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72396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2170080" y="0"/>
            <a:ext cx="6251400" cy="4394160"/>
            <a:chOff x="2170080" y="0"/>
            <a:chExt cx="6251400" cy="4394160"/>
          </a:xfrm>
        </p:grpSpPr>
        <p:sp>
          <p:nvSpPr>
            <p:cNvPr id="111" name="Rectangle 3"/>
            <p:cNvSpPr/>
            <p:nvPr/>
          </p:nvSpPr>
          <p:spPr>
            <a:xfrm>
              <a:off x="2170080" y="0"/>
              <a:ext cx="6251400" cy="43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4"/>
            <p:cNvSpPr/>
            <p:nvPr/>
          </p:nvSpPr>
          <p:spPr>
            <a:xfrm>
              <a:off x="2170080" y="0"/>
              <a:ext cx="6251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5"/>
          <p:cNvSpPr/>
          <p:nvPr/>
        </p:nvSpPr>
        <p:spPr>
          <a:xfrm>
            <a:off x="723960" y="43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219320" y="1219320"/>
            <a:ext cx="7680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骞到了乌孙（在新疆境内），乌孙王出来迎接。张骞送了他一份厚礼，建议两国结为亲戚，共同对付匈奴。乌孙王只知道汉朝离乌孙很远，可不知道汉朝的兵力有多少强。他想得到汉朝的帮助，又不敢得罪匈奴，因此乌孙君臣对共同对付匈奴这件事商议了几天，还是决定不下来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张骞恐怕耽误日子，打发他的副手们带着礼物，分别去联络大宛、大月氏、于阗（在今新疆和田一带，阗音ｔ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ｎ）等国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乌孙王还派了几个翻译帮助他们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这许多副手去了好些日子还没回来。乌孙王先送张骞回到长安，他派了几十个人跟张骞一起到长安参观，还带了几十匹高头大马送给汉朝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汉武帝见了他们已经很高兴了，又瞧见了乌孙王送的大马，格外优待乌孙使者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过了一年，张骞害病死了。张骞派到西域各国去的副手也陆续回到长安。副手们把到过的地方合起一算，总共到过三十六国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　　打那以后，汉武帝每年都派使节去访问西域各国，汉朝和西域各国建立了友好交往。西域派来的使节和商人也络绎不绝。中国的丝和丝织品，经过西域运到西亚，再转运到欧洲，后来人们把这条路线称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丝绸之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丝绸之路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6" name="Picture 7" descr="http://zylu.myetang.com/assets/about_tianshan/silkroad/silkroad_map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133720"/>
            <a:ext cx="64008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3047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丝绸之路路线图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丝绸之路——楼兰古城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3300"/>
                </a:solidFill>
                <a:latin typeface="宋体"/>
              </a:rPr>
              <a:t>现存昔日楼兰国遗址中最大的一座古城呈不规则正方形，面积约在</a:t>
            </a:r>
            <a:r>
              <a:rPr b="0" lang="zh-CN" sz="2400" spc="-1" strike="noStrike">
                <a:solidFill>
                  <a:srgbClr val="003300"/>
                </a:solidFill>
                <a:latin typeface="宋体"/>
              </a:rPr>
              <a:t>108000</a:t>
            </a:r>
            <a:r>
              <a:rPr b="0" lang="zh-CN" sz="2400" spc="-1" strike="noStrike">
                <a:solidFill>
                  <a:srgbClr val="003300"/>
                </a:solidFill>
                <a:latin typeface="宋体"/>
              </a:rPr>
              <a:t>平方米以上。古城的城垣早已为风蚀水泐而坍塌，从现存的断垣依稀可辨当初的规模，而断垣之间的墙基已为漠风所夷平。在烽燧的四周，曾有大量的梁柱和栏板，而现在所能见到的，只有烽燧东南几处残损倾倒的房屋遗迹。散乱的木材叠压着屋顶和墙壁，墙用柽柳和芦苇编结，外面敷以草泥。从烽燧为标志的角度来看，这一区域是城中的军事区。昔日，古城外南北各有一条河依城而过，是城中驻军赖以生存的水源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11:04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21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