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411-7955-49F3-88CE-2054D713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C44-515C-470A-B0E1-D349FE85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5F8-8383-4DC7-88A2-9E086EB5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E458-F17A-4A95-9F41-5632DD33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6F0D-F23E-4B48-974A-A6D9A0EC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3C94-4E6A-4916-ADF7-6841C24F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1702-0686-475D-87A8-B3BC81CD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CC44-B6EA-4FF2-ABEC-677A124E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3B0A-F4E8-47C9-B1F1-3FD66A08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A7AE-2E51-4560-8E25-920138F4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87A4-FB61-49EE-A83F-B679EBF0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220F-AFCE-4FE1-BA85-9D68BF45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1B47-AD5B-495A-9F75-1F792C6B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7139-D178-47BF-A56E-5B95F425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2D49-6A3E-4265-B5B0-20FAC259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070F-AD8D-4002-AC07-C0D7B4EE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3ABE-9634-4298-B3ED-8FDE04D6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54A-9032-4DE7-8516-8B2F5A1B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8F4-DEB1-4B34-BC7F-7E307FF6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5DC-ECB4-4BA0-B1E5-EBAED5FE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4F1-FCD0-4E7A-9CCA-A172BBCD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3D88-6B07-419B-9B94-A7EBE069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508-C57B-4EB1-86A9-041B6F73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62E-4AD6-4C46-B3DE-876B9FE5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54E6-049B-4C96-A03E-C095CF41440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A70C-8F65-4CDA-A188-BD550DB3507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wm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6"/>
          <p:cNvSpPr/>
          <p:nvPr/>
        </p:nvSpPr>
        <p:spPr>
          <a:xfrm>
            <a:off x="2778120" y="454824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520" y="1523880"/>
            <a:ext cx="678204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a3d7a"/>
                </a:solidFill>
                <a:latin typeface="Times New Roman"/>
                <a:ea typeface="方正舒体"/>
              </a:rPr>
              <a:t>古代诗歌五首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3" name="Picture 4" descr="BS00554_"/>
          <p:cNvPicPr/>
          <p:nvPr/>
        </p:nvPicPr>
        <p:blipFill>
          <a:blip r:embed="rId16"/>
          <a:stretch/>
        </p:blipFill>
        <p:spPr>
          <a:xfrm>
            <a:off x="1434960" y="3828960"/>
            <a:ext cx="3975120" cy="1581120"/>
          </a:xfrm>
          <a:prstGeom prst="rect">
            <a:avLst/>
          </a:prstGeom>
          <a:ln w="0">
            <a:noFill/>
          </a:ln>
        </p:spPr>
      </p:pic>
      <p:sp>
        <p:nvSpPr>
          <p:cNvPr id="94" name="矩形 8"/>
          <p:cNvSpPr/>
          <p:nvPr/>
        </p:nvSpPr>
        <p:spPr>
          <a:xfrm>
            <a:off x="2429640" y="60958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1371600" y="1143000"/>
            <a:ext cx="701028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西江月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                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辛弃疾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明月别枝惊鹊，清风半夜鸣蝉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稻花香里说丰年，听取蛙声一片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七八个星天外，两三点雨山前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旧时茅店社林边，路转溪头忽见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想一想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这首词上下片，个写了什么内容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词人为什么夜行？夜行时间长不长？从哪些词句可以看出来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“忽见”一词有什么表达作用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“稻话香里说丰年，听取蛙声一片”表达了作者这样的心情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Picture 1028" descr="BS00975_"/>
          <p:cNvPicPr/>
          <p:nvPr/>
        </p:nvPicPr>
        <p:blipFill>
          <a:blip r:embed="rId1"/>
          <a:stretch/>
        </p:blipFill>
        <p:spPr>
          <a:xfrm>
            <a:off x="5410080" y="914400"/>
            <a:ext cx="2473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828800" y="1066680"/>
            <a:ext cx="6324480" cy="57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               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天净沙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秋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马致远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枯藤老树昏鸦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小桥流水人家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古道西风瘦马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夕阳西下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断肠人在天涯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Picture 4" descr="NA01441_"/>
          <p:cNvPicPr/>
          <p:nvPr/>
        </p:nvPicPr>
        <p:blipFill>
          <a:blip r:embed="rId1"/>
          <a:stretch/>
        </p:blipFill>
        <p:spPr>
          <a:xfrm>
            <a:off x="762120" y="2286000"/>
            <a:ext cx="2565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想一想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你能用一个字来概括你读的这五首古诗的感情特点吗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0" name="Picture 4" descr="BS00975_"/>
          <p:cNvPicPr/>
          <p:nvPr/>
        </p:nvPicPr>
        <p:blipFill>
          <a:blip r:embed="rId1"/>
          <a:stretch/>
        </p:blipFill>
        <p:spPr>
          <a:xfrm>
            <a:off x="5410080" y="914400"/>
            <a:ext cx="2473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6664-421A-4CE6-98C1-BDBFDEDC90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33520" y="1371240"/>
            <a:ext cx="1676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碣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Text Box 1028"/>
          <p:cNvSpPr/>
          <p:nvPr/>
        </p:nvSpPr>
        <p:spPr>
          <a:xfrm>
            <a:off x="1905120" y="3124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Rectangle 1030"/>
          <p:cNvSpPr/>
          <p:nvPr/>
        </p:nvSpPr>
        <p:spPr>
          <a:xfrm>
            <a:off x="623880" y="746280"/>
            <a:ext cx="74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Jié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1031"/>
          <p:cNvSpPr/>
          <p:nvPr/>
        </p:nvSpPr>
        <p:spPr>
          <a:xfrm>
            <a:off x="2133720" y="13716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澹澹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1032"/>
          <p:cNvSpPr/>
          <p:nvPr/>
        </p:nvSpPr>
        <p:spPr>
          <a:xfrm>
            <a:off x="2286000" y="6858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ān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1033"/>
          <p:cNvSpPr/>
          <p:nvPr/>
        </p:nvSpPr>
        <p:spPr>
          <a:xfrm>
            <a:off x="4191120" y="13716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竦    峙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1034"/>
          <p:cNvSpPr/>
          <p:nvPr/>
        </p:nvSpPr>
        <p:spPr>
          <a:xfrm>
            <a:off x="4038480" y="66996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ǒng’shì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1035"/>
          <p:cNvSpPr/>
          <p:nvPr/>
        </p:nvSpPr>
        <p:spPr>
          <a:xfrm>
            <a:off x="6705720" y="13716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萧 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1036"/>
          <p:cNvSpPr/>
          <p:nvPr/>
        </p:nvSpPr>
        <p:spPr>
          <a:xfrm>
            <a:off x="7162920" y="5335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è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Text Box 1037"/>
          <p:cNvSpPr/>
          <p:nvPr/>
        </p:nvSpPr>
        <p:spPr>
          <a:xfrm>
            <a:off x="685800" y="40384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Text Box 1039"/>
          <p:cNvSpPr/>
          <p:nvPr/>
        </p:nvSpPr>
        <p:spPr>
          <a:xfrm>
            <a:off x="457200" y="32608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zāi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Text Box 1041"/>
          <p:cNvSpPr/>
          <p:nvPr/>
        </p:nvSpPr>
        <p:spPr>
          <a:xfrm>
            <a:off x="2057400" y="40989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莺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Text Box 1042"/>
          <p:cNvSpPr/>
          <p:nvPr/>
        </p:nvSpPr>
        <p:spPr>
          <a:xfrm>
            <a:off x="1828800" y="3260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yīng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Text Box 1043"/>
          <p:cNvSpPr/>
          <p:nvPr/>
        </p:nvSpPr>
        <p:spPr>
          <a:xfrm>
            <a:off x="3657600" y="40989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涯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1044"/>
          <p:cNvSpPr/>
          <p:nvPr/>
        </p:nvSpPr>
        <p:spPr>
          <a:xfrm>
            <a:off x="6019920" y="4952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Rectangle 1045"/>
          <p:cNvSpPr/>
          <p:nvPr/>
        </p:nvSpPr>
        <p:spPr>
          <a:xfrm>
            <a:off x="3659400" y="3336840"/>
            <a:ext cx="7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Y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Text Box 1046"/>
          <p:cNvSpPr/>
          <p:nvPr/>
        </p:nvSpPr>
        <p:spPr>
          <a:xfrm>
            <a:off x="5029200" y="40989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堤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Text Box 1047"/>
          <p:cNvSpPr/>
          <p:nvPr/>
        </p:nvSpPr>
        <p:spPr>
          <a:xfrm>
            <a:off x="5029200" y="32767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ī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Rectangle 1048"/>
          <p:cNvSpPr/>
          <p:nvPr/>
        </p:nvSpPr>
        <p:spPr>
          <a:xfrm>
            <a:off x="6177240" y="4098960"/>
            <a:ext cx="8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蹄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Rectangle 1049"/>
          <p:cNvSpPr/>
          <p:nvPr/>
        </p:nvSpPr>
        <p:spPr>
          <a:xfrm>
            <a:off x="6325920" y="3260880"/>
            <a:ext cx="4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í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Rectangle 1050"/>
          <p:cNvSpPr/>
          <p:nvPr/>
        </p:nvSpPr>
        <p:spPr>
          <a:xfrm>
            <a:off x="7570800" y="402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啄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Rectangle 1051"/>
          <p:cNvSpPr/>
          <p:nvPr/>
        </p:nvSpPr>
        <p:spPr>
          <a:xfrm>
            <a:off x="7392240" y="3260880"/>
            <a:ext cx="116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zhu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457200" y="6388200"/>
            <a:ext cx="101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曹操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曹操，字孟德，东汉末政治家、军事家、诗人。当时正处于事业的最高峰。他已削平了北芳群雄，现在又打跨了乌恒和袁绍残部，消除了后患，统一了北方。如果，如果再以优势的兵力去消除南方割据势力，他就可以荡平宇内，一统天下。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观沧海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正是北征乌恒归途中经过碣石山时时写的。大战之前，身为主帅的曹操，登上了当年秦皇汉武也曾登过的碣石山，又当秋风萧瑟之际，他的心情像沧海一样难以平静。他将以自己宏伟的抱负、扩大的胸襟融会到诗歌里，借着大海的形象表现出来，使这首诗具有一种雄浑苍劲的风格，成为一篇流传至今的优秀作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7"/>
          <p:cNvSpPr/>
          <p:nvPr/>
        </p:nvSpPr>
        <p:spPr>
          <a:xfrm>
            <a:off x="1143000" y="19810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3048120" y="18288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东临碣石，以观沧海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124080" y="25146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水何澹澹，山岛竦峙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200400" y="31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树木丛生，百草丰茂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3200400" y="3733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秋风萧瑟，洪波涌起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200400" y="4343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日月之行，若出其中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3200400" y="49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星汉灿烂，若出其里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3200400" y="55627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幸甚至哉，歌以咏志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3581280" y="10666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观沧海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曹操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9" name="Picture 21" descr="NA01062_"/>
          <p:cNvPicPr/>
          <p:nvPr/>
        </p:nvPicPr>
        <p:blipFill>
          <a:blip r:embed="rId1"/>
          <a:stretch/>
        </p:blipFill>
        <p:spPr>
          <a:xfrm>
            <a:off x="685800" y="1676520"/>
            <a:ext cx="2362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想一想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2482560"/>
            <a:ext cx="769644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全诗以哪个字展开的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这首诗写了哪几个诗句是写现实的？哪些诗句诗想象的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诗中哪些诗句最能体现作者博大的胸   怀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Picture 6" descr="BS00975_"/>
          <p:cNvPicPr/>
          <p:nvPr/>
        </p:nvPicPr>
        <p:blipFill>
          <a:blip r:embed="rId1"/>
          <a:stretch/>
        </p:blipFill>
        <p:spPr>
          <a:xfrm>
            <a:off x="5410080" y="914400"/>
            <a:ext cx="2473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905120" y="838080"/>
            <a:ext cx="59436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次北固山下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王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客路青山外，行舟绿水前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潮平两岸阔，风正一帆悬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海日生残夜，江春入旧年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乡书何处达     归雁洛阳边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想一想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诗的四联个写了什么内容？四联之间有这样的联系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哪些诗句直接表达了思乡之情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自主探究想象“湖平两岸阔，风正一帆悬”诗怎样的情景？如果你身临其境，将会有什么样的感受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Picture 4" descr="BS00975_"/>
          <p:cNvPicPr/>
          <p:nvPr/>
        </p:nvPicPr>
        <p:blipFill>
          <a:blip r:embed="rId1"/>
          <a:stretch/>
        </p:blipFill>
        <p:spPr>
          <a:xfrm>
            <a:off x="5410080" y="914400"/>
            <a:ext cx="2473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371600" y="1371600"/>
            <a:ext cx="68580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钱塘湖春行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白居易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孤山寺北贾亭西，水面初平云脚底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几处早莺争暖树，谁家新燕啄春泥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乱花渐欲迷人眼，浅草才能没马蹄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最爱湖东行不足，绿杨阴里白沙堤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想一想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诗的四联个写了什么内容？从哪些词语可以看出是初春的景色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哪些诗说明诗人已陶醉在美好的湖光山色之中了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“几处”为什么不诗“处处”，“谁家”为什么不是“家家”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0" name="Picture 4" descr="BS00975_"/>
          <p:cNvPicPr/>
          <p:nvPr/>
        </p:nvPicPr>
        <p:blipFill>
          <a:blip r:embed="rId1"/>
          <a:stretch/>
        </p:blipFill>
        <p:spPr>
          <a:xfrm>
            <a:off x="5410080" y="914400"/>
            <a:ext cx="2473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44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0:13Z</dcterms:modified>
  <cp:revision>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