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2FE8-F902-4054-861F-1600A7D2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E8A-8713-4E5C-97EE-A4972581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6CCF-D153-4938-9DAD-4D6F22D9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9844-AC41-4354-9F69-840984B9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3104-D47B-44E4-9376-8E639CD8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308B-7532-49D6-BA20-3C7D5E0A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3DC-4881-4EC5-8FC1-5E93A21D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F65-1E6D-4A65-A8EA-D90DC5F6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4CEF-4EF0-4AAE-A0D5-4518845D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4AC-D372-41E3-B584-E8B400F3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D32-3275-4B99-A865-06CB9EB5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4B2-FD16-4920-8C9C-6D522D85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7498-297D-45C8-97ED-B1CAE059C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547640" y="1700280"/>
            <a:ext cx="6248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99"/>
                  </a:solidFill>
                  <a:round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99ff"/>
                    </a:gs>
                    <a:gs pos="100000">
                      <a:srgbClr val="ffffff"/>
                    </a:gs>
                  </a:gsLst>
                  <a:lin ang="189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生活中的百分数</a:t>
            </a:r>
            <a:endParaRPr b="1" lang="en-US" sz="5400" spc="1" strike="noStrike">
              <a:ln w="12600">
                <a:solidFill>
                  <a:srgbClr val="000099"/>
                </a:solidFill>
                <a:round/>
              </a:ln>
              <a:gradFill rotWithShape="0">
                <a:gsLst>
                  <a:gs pos="0">
                    <a:srgbClr val="ffffff"/>
                  </a:gs>
                  <a:gs pos="50000">
                    <a:srgbClr val="9999ff"/>
                  </a:gs>
                  <a:gs pos="100000">
                    <a:srgbClr val="ffffff"/>
                  </a:gs>
                </a:gsLst>
                <a:lin ang="189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2" name="04_爱的谐奏曲.mp3" descr=""/>
          <p:cNvPicPr/>
          <p:nvPr/>
        </p:nvPicPr>
        <p:blipFill>
          <a:blip r:embed="rId2"/>
          <a:stretch/>
        </p:blipFill>
        <p:spPr>
          <a:xfrm>
            <a:off x="228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矩形 6"/>
          <p:cNvSpPr/>
          <p:nvPr/>
        </p:nvSpPr>
        <p:spPr>
          <a:xfrm>
            <a:off x="2491560" y="47242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28600" y="1274760"/>
            <a:ext cx="8726400" cy="360216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国的人口占界总人口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2%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国耕地面积占世界耕地总面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%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24000" y="304920"/>
            <a:ext cx="2447640" cy="7034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题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57200" y="5105520"/>
            <a:ext cx="83059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这句话，你能获得哪些信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57200" y="5911920"/>
            <a:ext cx="51055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还能想到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" y="1274760"/>
            <a:ext cx="8726400" cy="459252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结合我国人口、耕地面积等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以及目前我国人发的生活状况对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来我国的粮食问作出预测，写出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篇小论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24000" y="304920"/>
            <a:ext cx="2447640" cy="7034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"/>
          <p:cNvSpPr/>
          <p:nvPr/>
        </p:nvSpPr>
        <p:spPr>
          <a:xfrm>
            <a:off x="2432160" y="492120"/>
            <a:ext cx="51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B005-2252-408D-A1BC-41237DDDD0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8"/>
          <p:cNvGrpSpPr/>
          <p:nvPr/>
        </p:nvGrpSpPr>
        <p:grpSpPr>
          <a:xfrm>
            <a:off x="250920" y="404640"/>
            <a:ext cx="4248000" cy="2953080"/>
            <a:chOff x="250920" y="404640"/>
            <a:chExt cx="4248000" cy="2953080"/>
          </a:xfrm>
        </p:grpSpPr>
        <p:sp>
          <p:nvSpPr>
            <p:cNvPr id="46" name="Rectangle 5"/>
            <p:cNvSpPr/>
            <p:nvPr/>
          </p:nvSpPr>
          <p:spPr>
            <a:xfrm>
              <a:off x="250920" y="404640"/>
              <a:ext cx="4248000" cy="2953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7"/>
            <p:cNvSpPr/>
            <p:nvPr/>
          </p:nvSpPr>
          <p:spPr>
            <a:xfrm>
              <a:off x="829800" y="836640"/>
              <a:ext cx="3153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700" spc="-1" strike="noStrike">
                  <a:solidFill>
                    <a:srgbClr val="333399"/>
                  </a:solidFill>
                  <a:latin typeface="Arial"/>
                </a:rPr>
                <a:t>25%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9"/>
          <p:cNvGrpSpPr/>
          <p:nvPr/>
        </p:nvGrpSpPr>
        <p:grpSpPr>
          <a:xfrm>
            <a:off x="4643280" y="404640"/>
            <a:ext cx="4248000" cy="2953080"/>
            <a:chOff x="4643280" y="404640"/>
            <a:chExt cx="4248000" cy="2953080"/>
          </a:xfrm>
        </p:grpSpPr>
        <p:sp>
          <p:nvSpPr>
            <p:cNvPr id="49" name="Rectangle 10"/>
            <p:cNvSpPr/>
            <p:nvPr/>
          </p:nvSpPr>
          <p:spPr>
            <a:xfrm>
              <a:off x="4643280" y="404640"/>
              <a:ext cx="4248000" cy="2953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1"/>
            <p:cNvSpPr/>
            <p:nvPr/>
          </p:nvSpPr>
          <p:spPr>
            <a:xfrm>
              <a:off x="5222160" y="836640"/>
              <a:ext cx="3153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700" spc="-1" strike="noStrike">
                  <a:solidFill>
                    <a:srgbClr val="333399"/>
                  </a:solidFill>
                  <a:latin typeface="Arial"/>
                </a:rPr>
                <a:t>54%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8"/>
          <p:cNvGrpSpPr/>
          <p:nvPr/>
        </p:nvGrpSpPr>
        <p:grpSpPr>
          <a:xfrm>
            <a:off x="4643280" y="3573360"/>
            <a:ext cx="4248360" cy="2952720"/>
            <a:chOff x="4643280" y="3573360"/>
            <a:chExt cx="4248360" cy="2952720"/>
          </a:xfrm>
        </p:grpSpPr>
        <p:sp>
          <p:nvSpPr>
            <p:cNvPr id="52" name="Rectangle 13"/>
            <p:cNvSpPr/>
            <p:nvPr/>
          </p:nvSpPr>
          <p:spPr>
            <a:xfrm>
              <a:off x="4643280" y="3573360"/>
              <a:ext cx="4248360" cy="2952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4"/>
            <p:cNvSpPr/>
            <p:nvPr/>
          </p:nvSpPr>
          <p:spPr>
            <a:xfrm>
              <a:off x="4719240" y="4005000"/>
              <a:ext cx="39801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700" spc="-1" strike="noStrike">
                  <a:solidFill>
                    <a:srgbClr val="333399"/>
                  </a:solidFill>
                  <a:latin typeface="Arial"/>
                </a:rPr>
                <a:t>100%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250920" y="3573360"/>
            <a:ext cx="4248000" cy="2952720"/>
            <a:chOff x="250920" y="3573360"/>
            <a:chExt cx="4248000" cy="2952720"/>
          </a:xfrm>
        </p:grpSpPr>
        <p:sp>
          <p:nvSpPr>
            <p:cNvPr id="55" name="Rectangle 16"/>
            <p:cNvSpPr/>
            <p:nvPr/>
          </p:nvSpPr>
          <p:spPr>
            <a:xfrm>
              <a:off x="250920" y="3573360"/>
              <a:ext cx="4248000" cy="2952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7"/>
            <p:cNvSpPr/>
            <p:nvPr/>
          </p:nvSpPr>
          <p:spPr>
            <a:xfrm>
              <a:off x="829800" y="4005000"/>
              <a:ext cx="3153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700" spc="-1" strike="noStrike">
                  <a:solidFill>
                    <a:srgbClr val="333399"/>
                  </a:solidFill>
                  <a:latin typeface="Arial"/>
                </a:rPr>
                <a:t>60%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611280" y="333360"/>
            <a:ext cx="1944720" cy="792000"/>
          </a:xfrm>
          <a:prstGeom prst="rect">
            <a:avLst/>
          </a:prstGeom>
          <a:gradFill rotWithShape="0">
            <a:gsLst>
              <a:gs pos="0">
                <a:srgbClr val="e82808"/>
              </a:gs>
              <a:gs pos="50000">
                <a:srgbClr val="ffff66"/>
              </a:gs>
              <a:gs pos="100000">
                <a:srgbClr val="e82808"/>
              </a:gs>
            </a:gsLst>
            <a:lin ang="54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121400" y="1389240"/>
            <a:ext cx="6907320" cy="44830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本班数学期中测试的优秀率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%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我校六年级人数约占全校人数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%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我校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8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教师拥有大专文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一件毛衣中，羊毛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5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化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84360" y="333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330120" y="1839960"/>
            <a:ext cx="8489880" cy="3750840"/>
          </a:xfrm>
          <a:prstGeom prst="rect">
            <a:avLst/>
          </a:prstGeom>
          <a:solidFill>
            <a:srgbClr val="99cc00"/>
          </a:solidFill>
          <a:ln w="38160">
            <a:solidFill>
              <a:srgbClr val="00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空气中氧气体积约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我国领土面积约占全世界陆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南极洲除外）面积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.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目前我国城市人口占总人口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2%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5"/>
          <p:cNvGrpSpPr/>
          <p:nvPr/>
        </p:nvGrpSpPr>
        <p:grpSpPr>
          <a:xfrm>
            <a:off x="395280" y="620640"/>
            <a:ext cx="2376000" cy="792000"/>
            <a:chOff x="395280" y="620640"/>
            <a:chExt cx="2376000" cy="792000"/>
          </a:xfrm>
        </p:grpSpPr>
        <p:sp>
          <p:nvSpPr>
            <p:cNvPr id="62" name="Rectangle 2"/>
            <p:cNvSpPr/>
            <p:nvPr/>
          </p:nvSpPr>
          <p:spPr>
            <a:xfrm>
              <a:off x="395280" y="620640"/>
              <a:ext cx="1944360" cy="792000"/>
            </a:xfrm>
            <a:prstGeom prst="rect">
              <a:avLst/>
            </a:prstGeom>
            <a:gradFill rotWithShape="0">
              <a:gsLst>
                <a:gs pos="0">
                  <a:srgbClr val="e82808"/>
                </a:gs>
                <a:gs pos="50000">
                  <a:srgbClr val="ffff66"/>
                </a:gs>
                <a:gs pos="100000">
                  <a:srgbClr val="e82808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4"/>
            <p:cNvSpPr/>
            <p:nvPr/>
          </p:nvSpPr>
          <p:spPr>
            <a:xfrm>
              <a:off x="539640" y="620640"/>
              <a:ext cx="22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说一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1771560"/>
            <a:ext cx="8726400" cy="4681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本班女生约占全班人数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3%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去年我校体育达标率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8.5%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一堆煤，已经运走了      吨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面粉重量是大米重量的       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我省小学生       都有近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4000" y="395280"/>
            <a:ext cx="84960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句子中的分数哪些是百分数？哪些不是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8"/>
          <p:cNvGrpSpPr/>
          <p:nvPr/>
        </p:nvGrpSpPr>
        <p:grpSpPr>
          <a:xfrm>
            <a:off x="6097320" y="3733920"/>
            <a:ext cx="928800" cy="962280"/>
            <a:chOff x="6097320" y="3733920"/>
            <a:chExt cx="928800" cy="962280"/>
          </a:xfrm>
        </p:grpSpPr>
        <p:sp>
          <p:nvSpPr>
            <p:cNvPr id="67" name="Text Box 5"/>
            <p:cNvSpPr/>
            <p:nvPr/>
          </p:nvSpPr>
          <p:spPr>
            <a:xfrm>
              <a:off x="6097320" y="4114800"/>
              <a:ext cx="8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6"/>
            <p:cNvSpPr/>
            <p:nvPr/>
          </p:nvSpPr>
          <p:spPr>
            <a:xfrm>
              <a:off x="6111720" y="4237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"/>
            <p:cNvSpPr/>
            <p:nvPr/>
          </p:nvSpPr>
          <p:spPr>
            <a:xfrm>
              <a:off x="6249600" y="37339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9"/>
          <p:cNvGrpSpPr/>
          <p:nvPr/>
        </p:nvGrpSpPr>
        <p:grpSpPr>
          <a:xfrm>
            <a:off x="4252680" y="5516640"/>
            <a:ext cx="928800" cy="962280"/>
            <a:chOff x="4252680" y="5516640"/>
            <a:chExt cx="928800" cy="962280"/>
          </a:xfrm>
        </p:grpSpPr>
        <p:sp>
          <p:nvSpPr>
            <p:cNvPr id="71" name="Text Box 10"/>
            <p:cNvSpPr/>
            <p:nvPr/>
          </p:nvSpPr>
          <p:spPr>
            <a:xfrm>
              <a:off x="4252680" y="5897520"/>
              <a:ext cx="8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1"/>
            <p:cNvSpPr/>
            <p:nvPr/>
          </p:nvSpPr>
          <p:spPr>
            <a:xfrm>
              <a:off x="4267080" y="6019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2"/>
            <p:cNvSpPr/>
            <p:nvPr/>
          </p:nvSpPr>
          <p:spPr>
            <a:xfrm>
              <a:off x="4404960" y="551664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 Box 18"/>
          <p:cNvSpPr/>
          <p:nvPr/>
        </p:nvSpPr>
        <p:spPr>
          <a:xfrm>
            <a:off x="6906960" y="4983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858000" y="5105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6906960" y="4602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50920" y="1413000"/>
            <a:ext cx="8726400" cy="403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%      15%        50%      95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0%        0.5%        7.5%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2.17%       140%         30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24000" y="395280"/>
            <a:ext cx="8496000" cy="764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读一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912680" y="5648400"/>
            <a:ext cx="511848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这些百分数的分子，你发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50920" y="2131920"/>
            <a:ext cx="8726400" cy="2737080"/>
          </a:xfrm>
          <a:prstGeom prst="rect">
            <a:avLst/>
          </a:prstGeom>
          <a:solidFill>
            <a:srgbClr val="99cc00"/>
          </a:solidFill>
          <a:ln w="57240">
            <a:solidFill>
              <a:srgbClr val="339966"/>
            </a:solidFill>
            <a:miter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用你自己喜欢的方式表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出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95280" y="706320"/>
            <a:ext cx="4321080" cy="916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画一画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50920" y="1700280"/>
            <a:ext cx="8726400" cy="3601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们家的家务事谁做得多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能不能用今天所学的知识告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大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24000" y="495360"/>
            <a:ext cx="2447640" cy="7034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题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50920" y="1700280"/>
            <a:ext cx="8726400" cy="3601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两家店，一家全部商品打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折，另一家全部商品打八五折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果你是顾客，你会去哪家购物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24000" y="495360"/>
            <a:ext cx="2447640" cy="703440"/>
          </a:xfrm>
          <a:prstGeom prst="rect">
            <a:avLst/>
          </a:prstGeom>
          <a:solidFill>
            <a:srgbClr val="ff6600"/>
          </a:solidFill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题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2T02:35:2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2:08Z</dcterms:modified>
  <cp:revision>2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