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0799-5042-44CD-8BF3-3A522BAA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BDC-8341-4BC9-A06C-B39C7422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935-B389-487C-ACC4-7C86CC8A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D38-3F93-4C7E-BDD3-02346FF7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3FAE-308E-4673-87A1-6B7933CE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F93E-972A-4097-BAAE-91E0E009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1C55-78CC-443A-AE87-3D223A81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BEE9-ECFF-4B72-BE0F-61F4493E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4039-87A2-46FF-88B3-0779259F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5480-8684-46E1-B9BC-62E6A970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56A3-6DA4-4B2B-9D50-D699AB91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A9C-628F-45DE-AD9C-8EC4220A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AAB1-31E5-4524-92F0-68E3903F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78E4-3A01-4D5E-8E1F-47FB25BF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BC67-632D-47DC-986F-3FAAC1E3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D594-B91C-4E35-876E-FF90CE56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C907-38CD-4448-A5FF-E8DA0213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02C13-14B6-4218-BA15-91F95A38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FD560-4333-4AF5-B3AE-BF803444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3F552-D0A0-499C-AF3D-44FEDC00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26647-7091-4254-A207-3E8817D3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EAAFA-74B2-4BC1-AC7C-3929264A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DC63-1D68-4057-85CA-00503133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C7310-28C3-4899-919C-5EEFE0D9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02E31-AC76-460E-AAB7-DD60639F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200A3-2570-43DF-905D-361C316A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E95C8-CC6D-4662-881C-8073251A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40C41-D6C7-457D-9720-990C401B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206C4-D34E-4FD9-BE27-916144EB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A3947-64F7-41D4-BD49-A618E30D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161-0C8E-45DC-89AB-0711BD31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8DC-9889-466B-8F60-BCA8EF5E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21E5-5FBE-4645-A1A5-2B532DF5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E5F-F1AC-4601-BDFC-CDF8B671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1E1-E0F0-48B4-AAD7-4234B8D7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EC81-F91A-47F2-851C-C220C39B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C2F9-A6C9-47FE-B8F9-AF56C4F5F1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DDE3-D164-4A82-944A-A4517DD269D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BDEA-F794-469D-942E-A8F79CB802C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1EED-D825-4460-8671-E36E253BC45A}" type="slidenum">
              <a:rPr b="0" lang="zh-CN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14694" descr="111"/>
          <p:cNvPicPr/>
          <p:nvPr/>
        </p:nvPicPr>
        <p:blipFill>
          <a:blip r:embed="rId1"/>
          <a:stretch/>
        </p:blipFill>
        <p:spPr>
          <a:xfrm>
            <a:off x="0" y="0"/>
            <a:ext cx="10439280" cy="7951680"/>
          </a:xfrm>
          <a:prstGeom prst="rect">
            <a:avLst/>
          </a:prstGeom>
          <a:ln w="0">
            <a:noFill/>
          </a:ln>
        </p:spPr>
      </p:pic>
      <p:sp>
        <p:nvSpPr>
          <p:cNvPr id="124" name="矩形 114696"/>
          <p:cNvSpPr txBox="1"/>
          <p:nvPr/>
        </p:nvSpPr>
        <p:spPr>
          <a:xfrm>
            <a:off x="990720" y="609480"/>
            <a:ext cx="65530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审计学原理课件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5" name="文本框 114697"/>
          <p:cNvSpPr/>
          <p:nvPr/>
        </p:nvSpPr>
        <p:spPr>
          <a:xfrm>
            <a:off x="6019920" y="3048120"/>
            <a:ext cx="39621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XX</a:t>
            </a:r>
            <a:r>
              <a:rPr b="0" lang="zh-CN" sz="5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电大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3634"/>
                </a:solidFill>
                <a:latin typeface="Times New Roman"/>
                <a:ea typeface="华文新魏"/>
              </a:rPr>
              <a:t>XXX</a:t>
            </a:r>
            <a:endParaRPr b="0" lang="en-US" sz="5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26" name="文本框 114698"/>
          <p:cNvSpPr/>
          <p:nvPr/>
        </p:nvSpPr>
        <p:spPr>
          <a:xfrm>
            <a:off x="2627280" y="650700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3634"/>
                </a:solidFill>
                <a:latin typeface="Times New Roman"/>
              </a:rPr>
              <a:t>X</a:t>
            </a:r>
            <a:r>
              <a:rPr b="0" lang="zh-CN" sz="4000" spc="-1" strike="noStrike">
                <a:solidFill>
                  <a:srgbClr val="463634"/>
                </a:solidFill>
                <a:latin typeface="Times New Roman"/>
              </a:rPr>
              <a:t>年</a:t>
            </a:r>
            <a:r>
              <a:rPr b="0" lang="en-US" sz="4000" spc="-1" strike="noStrike">
                <a:solidFill>
                  <a:srgbClr val="463634"/>
                </a:solidFill>
                <a:latin typeface="Times New Roman"/>
              </a:rPr>
              <a:t>X</a:t>
            </a:r>
            <a:r>
              <a:rPr b="0" lang="zh-CN" sz="4000" spc="-1" strike="noStrike">
                <a:solidFill>
                  <a:srgbClr val="463634"/>
                </a:solidFill>
                <a:latin typeface="Times New Roman"/>
              </a:rPr>
              <a:t>月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27" name="图片 114699" descr="40"/>
          <p:cNvPicPr/>
          <p:nvPr/>
        </p:nvPicPr>
        <p:blipFill>
          <a:blip r:embed="rId2"/>
          <a:stretch/>
        </p:blipFill>
        <p:spPr>
          <a:xfrm>
            <a:off x="7543800" y="5562720"/>
            <a:ext cx="2362320" cy="1828800"/>
          </a:xfrm>
          <a:prstGeom prst="rect">
            <a:avLst/>
          </a:prstGeom>
          <a:ln w="0">
            <a:noFill/>
          </a:ln>
        </p:spPr>
      </p:pic>
      <p:sp>
        <p:nvSpPr>
          <p:cNvPr id="12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63634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115713"/>
          <p:cNvSpPr/>
          <p:nvPr/>
        </p:nvSpPr>
        <p:spPr>
          <a:xfrm>
            <a:off x="1523880" y="22860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63634"/>
                </a:solidFill>
                <a:latin typeface="华文新魏"/>
                <a:ea typeface="华文新魏"/>
              </a:rPr>
              <a:t>第九章       审计报告</a:t>
            </a:r>
            <a:endParaRPr b="0" lang="en-US" sz="4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8" name="文本框 115714"/>
          <p:cNvSpPr/>
          <p:nvPr/>
        </p:nvSpPr>
        <p:spPr>
          <a:xfrm>
            <a:off x="304920" y="9907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教学目标：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了解审计报告的涵义、种类和作用；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文本框 115715"/>
          <p:cNvSpPr/>
          <p:nvPr/>
        </p:nvSpPr>
        <p:spPr>
          <a:xfrm>
            <a:off x="1752480" y="1447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掌握国家审计报告和民间审计报告的内容与种类；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0" name="文本框 115716"/>
          <p:cNvSpPr/>
          <p:nvPr/>
        </p:nvSpPr>
        <p:spPr>
          <a:xfrm>
            <a:off x="1752480" y="19051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掌握审计报告的编制步骤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1" name="文本框 115717"/>
          <p:cNvSpPr/>
          <p:nvPr/>
        </p:nvSpPr>
        <p:spPr>
          <a:xfrm>
            <a:off x="304920" y="2438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教学重点：民间审计报告的编制方法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2" name="文本框 115718"/>
          <p:cNvSpPr/>
          <p:nvPr/>
        </p:nvSpPr>
        <p:spPr>
          <a:xfrm>
            <a:off x="304920" y="2971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教学时数：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3" name="文本框 115719"/>
          <p:cNvSpPr/>
          <p:nvPr/>
        </p:nvSpPr>
        <p:spPr>
          <a:xfrm>
            <a:off x="304920" y="35053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教学过程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74" name="图片 115720" descr="照片 417"/>
          <p:cNvPicPr/>
          <p:nvPr/>
        </p:nvPicPr>
        <p:blipFill>
          <a:blip r:embed="rId1"/>
          <a:stretch/>
        </p:blipFill>
        <p:spPr>
          <a:xfrm>
            <a:off x="5943600" y="1905120"/>
            <a:ext cx="3200400" cy="2438280"/>
          </a:xfrm>
          <a:prstGeom prst="rect">
            <a:avLst/>
          </a:prstGeom>
          <a:ln w="0">
            <a:noFill/>
          </a:ln>
        </p:spPr>
      </p:pic>
      <p:sp>
        <p:nvSpPr>
          <p:cNvPr id="175" name="文本框 115721"/>
          <p:cNvSpPr/>
          <p:nvPr/>
        </p:nvSpPr>
        <p:spPr>
          <a:xfrm>
            <a:off x="914400" y="40384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第一节    审计报告的涵义、种类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6" name="文本框 115722"/>
          <p:cNvSpPr/>
          <p:nvPr/>
        </p:nvSpPr>
        <p:spPr>
          <a:xfrm>
            <a:off x="2133720" y="4495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与作用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7" name="文本框 115723"/>
          <p:cNvSpPr/>
          <p:nvPr/>
        </p:nvSpPr>
        <p:spPr>
          <a:xfrm>
            <a:off x="304920" y="4952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一、审计报告的涵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8" name="文本框 115724"/>
          <p:cNvSpPr/>
          <p:nvPr/>
        </p:nvSpPr>
        <p:spPr>
          <a:xfrm>
            <a:off x="990720" y="5486400"/>
            <a:ext cx="784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是指审计人员在审计结束后，将审计结果向审计委托人（或授权人）所作的书面报告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……………………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（略）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9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90000"/>
            <a:ext cx="91440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795241"/>
                </a:solidFill>
                <a:latin typeface="Times New Roman"/>
                <a:ea typeface="宋体"/>
              </a:rPr>
              <a:t>第一章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  <a:ea typeface="宋体"/>
              </a:rPr>
              <a:t>	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  <a:ea typeface="宋体"/>
              </a:rPr>
              <a:t>	</a:t>
            </a:r>
            <a:r>
              <a:rPr b="0" i="1" lang="zh-CN" sz="4400" spc="-1" strike="noStrike">
                <a:solidFill>
                  <a:srgbClr val="795241"/>
                </a:solidFill>
                <a:latin typeface="Times New Roman"/>
                <a:ea typeface="宋体"/>
              </a:rPr>
              <a:t>总论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9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教学目标：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．知识目标：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）了解审计的产生与发展，审计的工作和任务；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）掌握审计的定义、审计与会计的关系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）理解和掌握审计的对象和目的、审计的职能和作用。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	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２．能力目标：引导学生对审计与会计的区别，拓宽学生审计的基本理论和分析判断能力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３．情感目标：通过审计与会计的关系，激发学生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……………………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  <a:ea typeface="宋体"/>
              </a:rPr>
              <a:t>（略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0456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第二章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审计的分类与方法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教学目标：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知识目标：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）了解审计方法 的意义及选用要求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）理解审计方法的涵义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）掌握审计的基本分类和其他分类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）熟练掌握审计的技术方法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能力目标：培养学生比较审计的各种方法，并能在实际工作中运用这些技术方法 的能力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情感目标：增强学生在实际审计工作中忠于职守、奉公办事的高尚情操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教学重点：正确利用各种审计的技术方法开展审计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……………………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（略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0456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观察法（第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44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页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△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采用观察法应与盘存法等其他审计方法相结合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鉴定法（第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44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页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第三章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审计组织和审计人员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教学目标：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了解国家审计机关的设置、职责权限以及西方国家审计机关的概况，了解我国内部审计机构的设置、审计职责和审计权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掌握我国民间审计组织各西方民间审计组织概况、掌握审计人员的任职资格、素质要求、职业道德以及法律责任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教学重点：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注册会计师协会的性质、职责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……………………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（略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7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30456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第四章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审计准则和审计依据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教学目标：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了解审计准则的意义、基本内容及国际审计准则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熟练独立审计准则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掌握国家审计准则、审计依据的涵义、种类、特点及运用审计依据的原则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教学重点：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国家审计准则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审计依据的涵义和特点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教学难点：运用审计依据的原则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教学时数：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教学过程：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……………………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（略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0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30456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第五章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审计程序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教学目标：（一）了解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、审计程序的涵义；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、审计准备阶段的内容；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、审计实施阶段的内容；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……………………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（略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43" name="图片 38918" descr="照片 365"/>
          <p:cNvPicPr/>
          <p:nvPr/>
        </p:nvPicPr>
        <p:blipFill>
          <a:blip r:embed="rId1"/>
          <a:stretch/>
        </p:blipFill>
        <p:spPr>
          <a:xfrm>
            <a:off x="5715000" y="3809880"/>
            <a:ext cx="3429000" cy="3048120"/>
          </a:xfrm>
          <a:prstGeom prst="rect">
            <a:avLst/>
          </a:prstGeom>
          <a:ln w="0">
            <a:noFill/>
          </a:ln>
        </p:spPr>
      </p:pic>
      <p:sp>
        <p:nvSpPr>
          <p:cNvPr id="144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304560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第六章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审计证据与审计工作底稿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教学目标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了解审计工作底稿的涵义和种类；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了解审计工作底稿的结构和内容；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掌握审计证据的涵义与分类；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掌握审计证据的收集与鉴定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教学重点：审计工作底稿的填制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教学时数：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教学过程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第一节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审计证据的涵义与分类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一、审计证据的涵义：是指审计人员在执行审计业务过程中采用各种方法 获取的真实证据，用于证实或否定被审计单位会计报表所反映的财务状况和经营成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……………………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（略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47" name="图片 47108" descr="照片 027"/>
          <p:cNvPicPr/>
          <p:nvPr/>
        </p:nvPicPr>
        <p:blipFill>
          <a:blip r:embed="rId1"/>
          <a:stretch/>
        </p:blipFill>
        <p:spPr>
          <a:xfrm>
            <a:off x="6477120" y="1219320"/>
            <a:ext cx="3124080" cy="2895480"/>
          </a:xfrm>
          <a:prstGeom prst="rect">
            <a:avLst/>
          </a:prstGeom>
          <a:ln w="0">
            <a:noFill/>
          </a:ln>
        </p:spPr>
      </p:pic>
      <p:sp>
        <p:nvSpPr>
          <p:cNvPr id="148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17680" y="3182400"/>
            <a:ext cx="8596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第七章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463634"/>
                </a:solidFill>
                <a:latin typeface="Times New Roman"/>
              </a:rPr>
              <a:t>内部控制的评审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教学目标：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了解内部控制的涵义和作用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了解内部控制的要素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了解内部控制的种类与评价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掌握控制的调查内容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掌握内部控制的调查与描述方法；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、掌握内部控制的测试与评价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教学重点：内部控制的调查与描述方法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教学难点：内部控制的测试与评价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教学时数：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节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教学过程：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……………………</a:t>
            </a:r>
            <a:r>
              <a:rPr b="0" lang="zh-CN" sz="2800" spc="-1" strike="noStrike">
                <a:solidFill>
                  <a:srgbClr val="463634"/>
                </a:solidFill>
                <a:latin typeface="Times New Roman"/>
              </a:rPr>
              <a:t>（略）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1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文本框 93185"/>
          <p:cNvSpPr/>
          <p:nvPr/>
        </p:nvSpPr>
        <p:spPr>
          <a:xfrm>
            <a:off x="2057400" y="2286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第八章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审计抽样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153" name="图片 93186" descr="照片 049"/>
          <p:cNvPicPr/>
          <p:nvPr/>
        </p:nvPicPr>
        <p:blipFill>
          <a:blip r:embed="rId1"/>
          <a:stretch/>
        </p:blipFill>
        <p:spPr>
          <a:xfrm>
            <a:off x="6400800" y="2514600"/>
            <a:ext cx="2389320" cy="185580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93187"/>
          <p:cNvSpPr/>
          <p:nvPr/>
        </p:nvSpPr>
        <p:spPr>
          <a:xfrm>
            <a:off x="304920" y="6858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教学目标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文本框 93188"/>
          <p:cNvSpPr/>
          <p:nvPr/>
        </p:nvSpPr>
        <p:spPr>
          <a:xfrm>
            <a:off x="609480" y="1219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了解审计抽样的涵义和种类、样本的设计和选取、样本结果的评价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6" name="文本框 93189"/>
          <p:cNvSpPr/>
          <p:nvPr/>
        </p:nvSpPr>
        <p:spPr>
          <a:xfrm>
            <a:off x="609480" y="2057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、掌握属性抽样和变量抽样的目的、用途及方法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7" name="文本框 93190"/>
          <p:cNvSpPr/>
          <p:nvPr/>
        </p:nvSpPr>
        <p:spPr>
          <a:xfrm>
            <a:off x="304920" y="2438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教学重点与难点：样本的设计与选取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文本框 93191"/>
          <p:cNvSpPr/>
          <p:nvPr/>
        </p:nvSpPr>
        <p:spPr>
          <a:xfrm>
            <a:off x="304920" y="2895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教学时数：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节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文本框 93192"/>
          <p:cNvSpPr/>
          <p:nvPr/>
        </p:nvSpPr>
        <p:spPr>
          <a:xfrm>
            <a:off x="304920" y="33526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教学过程：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文本框 93193"/>
          <p:cNvSpPr/>
          <p:nvPr/>
        </p:nvSpPr>
        <p:spPr>
          <a:xfrm>
            <a:off x="1187280" y="378936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第一节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审计抽样的涵义及种类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1" name="文本框 93194"/>
          <p:cNvSpPr/>
          <p:nvPr/>
        </p:nvSpPr>
        <p:spPr>
          <a:xfrm>
            <a:off x="533520" y="4191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63634"/>
                </a:solidFill>
                <a:latin typeface="Times New Roman"/>
              </a:rPr>
              <a:t>一、审计抽样的涵义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2" name="文本框 93195"/>
          <p:cNvSpPr/>
          <p:nvPr/>
        </p:nvSpPr>
        <p:spPr>
          <a:xfrm>
            <a:off x="1143000" y="4724280"/>
            <a:ext cx="6324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是指审计人员在实施测试时，从被审计总体中选取一定数量的样本进行审计，通过样本的审计结果来推断被审计总体特征的一种审计技术方法。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……………………</a:t>
            </a:r>
            <a:r>
              <a:rPr b="0" lang="zh-CN" sz="2000" spc="-1" strike="noStrike">
                <a:solidFill>
                  <a:srgbClr val="463634"/>
                </a:solidFill>
                <a:latin typeface="Times New Roman"/>
              </a:rPr>
              <a:t>（略）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日期占位符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40:01Z</dcterms:created>
  <dc:creator/>
  <dc:description/>
  <cp:keywords>审计学 课件</cp:keywords>
  <dc:language>en-US</dc:language>
  <cp:lastModifiedBy>An</cp:lastModifiedBy>
  <dcterms:modified xsi:type="dcterms:W3CDTF">2016-05-01T00:40:0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