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97E-5F9D-4698-A103-7795485138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ED2-DEB1-43B3-B8FF-C0CE857974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F28-6594-4174-A9B7-5C76861A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658-616B-4E2B-81B5-3B703F11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170-1739-4648-A362-40C584D2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0AD-9CFC-4182-A45B-BA8F828C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4FA-38C6-47A2-96E8-3B32330E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220-E4C0-42FF-8475-D0D7490E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A89-C2A6-4C2C-A99F-8696DF5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6FA-0E25-4D1B-A26C-CD1DFF45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1BA-0715-4621-8BA6-2F0DEE0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F1A-8527-431A-B148-09432D3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FFD-29F6-4A00-947B-6A811036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D12-10CA-4C6C-B53A-BC2BDBA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78E7-BE12-4956-BBBE-88601998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1839960" y="2392200"/>
            <a:ext cx="5607000" cy="3576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172040" y="12733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设计制作一个保温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231480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97920"/>
            <a:ext cx="792468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保温效果实验记录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868320"/>
          <a:ext cx="8964720" cy="5802480"/>
        </p:xfrm>
        <a:graphic>
          <a:graphicData uri="http://schemas.openxmlformats.org/drawingml/2006/table">
            <a:tbl>
              <a:tblPr/>
              <a:tblGrid>
                <a:gridCol w="2243160"/>
                <a:gridCol w="2293920"/>
                <a:gridCol w="2187720"/>
                <a:gridCol w="22399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杯子状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始温度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后温度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温多少（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盖的杯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杯子加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杯子外包毛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杯子外包毛巾并加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杯子嵌入泡沫塑料中并加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6"/>
          <p:cNvSpPr/>
          <p:nvPr/>
        </p:nvSpPr>
        <p:spPr>
          <a:xfrm>
            <a:off x="3093120" y="1743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7"/>
          <p:cNvSpPr/>
          <p:nvPr/>
        </p:nvSpPr>
        <p:spPr>
          <a:xfrm>
            <a:off x="3093120" y="2344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8"/>
          <p:cNvSpPr/>
          <p:nvPr/>
        </p:nvSpPr>
        <p:spPr>
          <a:xfrm>
            <a:off x="316476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9"/>
          <p:cNvSpPr/>
          <p:nvPr/>
        </p:nvSpPr>
        <p:spPr>
          <a:xfrm>
            <a:off x="3093120" y="414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0"/>
          <p:cNvSpPr/>
          <p:nvPr/>
        </p:nvSpPr>
        <p:spPr>
          <a:xfrm>
            <a:off x="3093120" y="4863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1"/>
          <p:cNvSpPr/>
          <p:nvPr/>
        </p:nvSpPr>
        <p:spPr>
          <a:xfrm>
            <a:off x="5253840" y="177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2"/>
          <p:cNvSpPr/>
          <p:nvPr/>
        </p:nvSpPr>
        <p:spPr>
          <a:xfrm>
            <a:off x="5253840" y="2344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3"/>
          <p:cNvSpPr/>
          <p:nvPr/>
        </p:nvSpPr>
        <p:spPr>
          <a:xfrm>
            <a:off x="53251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4"/>
          <p:cNvSpPr/>
          <p:nvPr/>
        </p:nvSpPr>
        <p:spPr>
          <a:xfrm>
            <a:off x="5325120" y="414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5"/>
          <p:cNvSpPr/>
          <p:nvPr/>
        </p:nvSpPr>
        <p:spPr>
          <a:xfrm>
            <a:off x="5253840" y="49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6"/>
          <p:cNvSpPr/>
          <p:nvPr/>
        </p:nvSpPr>
        <p:spPr>
          <a:xfrm>
            <a:off x="734148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7"/>
          <p:cNvSpPr/>
          <p:nvPr/>
        </p:nvSpPr>
        <p:spPr>
          <a:xfrm>
            <a:off x="750708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8"/>
          <p:cNvSpPr/>
          <p:nvPr/>
        </p:nvSpPr>
        <p:spPr>
          <a:xfrm>
            <a:off x="7578720" y="313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9"/>
          <p:cNvSpPr/>
          <p:nvPr/>
        </p:nvSpPr>
        <p:spPr>
          <a:xfrm>
            <a:off x="7507080" y="4071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0"/>
          <p:cNvSpPr/>
          <p:nvPr/>
        </p:nvSpPr>
        <p:spPr>
          <a:xfrm>
            <a:off x="7650000" y="4863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2"/>
          <p:cNvSpPr/>
          <p:nvPr/>
        </p:nvSpPr>
        <p:spPr>
          <a:xfrm>
            <a:off x="3675240" y="6093000"/>
            <a:ext cx="38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杯子嵌入泡沫塑料中并加盖的降温速度最慢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2627280" y="227664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比一比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2700360" y="1557360"/>
            <a:ext cx="3532320" cy="17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保藏冰块比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4" name="Picture 6" descr="20100530103740993"/>
          <p:cNvPicPr/>
          <p:nvPr/>
        </p:nvPicPr>
        <p:blipFill>
          <a:blip r:embed="rId2"/>
          <a:stretch/>
        </p:blipFill>
        <p:spPr>
          <a:xfrm>
            <a:off x="2700360" y="3284640"/>
            <a:ext cx="35290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并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55736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天气温高，有时停电了，商店的工作人员会用厚厚的棉被盖在冰柜上，以减慢冰融化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棉被不容易传热，外面的热量被棉被阻隔，不易进去，所以棒冰融化得就慢了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天天气很冷，我们多穿衣服就不冷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冬天衣服穿多了，能够有效地阻隔身体产生的热量往外传递，所以身体失去的热量少，就感觉到暖了。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保温瓶水不要装得太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水不能灌太满，瓶塞会导热的，这样水冷的快，应该在塞子下留点空气，这样由于空气的导热性能差，水就冷得慢。而且因为留有空气，刚开始瓶内会因热膨胀排出大量的空气，随后瓶内气温降低使瓶内大气压强比瓶外低，瓶塞就会更紧，更利于保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保温玻璃窗一般都是双层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为了保温的需要，因为双层玻璃之间夹着一层空气，而空气能够长时间保持干燥、不易流动，当然就不容易传热，这样一来室内的热量就跑不出去。因此安装了保温玻璃窗，即使在冰天雪地的冬天，室内也能保持温暖，同时这种设置还可以阻隔室外的噪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1216080" y="5864400"/>
            <a:ext cx="62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瑞雪兆丰年”是什么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一是保暖土壤，积水利田。冬季天气冷，下的雪往往不易融化，盖在土壤上的雪是新降的雪，疏松多孔，能够贮存大量空气，空气的传热性能很差，这样就好像是给庄稼盖了一层棉被。大雪可以防止土壤中的热量向外散发，又可阻止外界冷空气的侵入，对农作物可以起到防冻保暖的作用。外面天气再冷，下面的温度也不会降得很低。等到寒潮过去以后，天气渐渐回暖，雪慢慢融化，这样，非但保住了庄稼不受冻害，而且雪融下去的水留在土壤里，给庄稼积蓄了很多水，对春耕播种以及庄稼的生长发育都很有利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二是为土壤增添肥料。雪中含有很多氮化物。据观测，如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雨水中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克的氮化物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雪中所含的氮化物能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克。在雪融化时，这些氮化物被融化的雪水带到土壤中，成为最好的肥料。而且，融化后的雪水中重水的含量比普通水少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％。重水是一种有放射性的物质，对各种生物的生命活动有强烈的抑制作用。雪中重水含量少，显然有利于促进农作物的生长发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32BB-D747-46E7-BC54-555E3EC431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在大小差不多的不锈钢杯、陶瓷杯、塑料杯中，分别倒入同样多的相同温度的热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过几分钟后，这几杯水的温度一样吗？用手摸杯壁，哪杯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42920" y="587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锈钢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276720" y="58770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玻璃（咖啡）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04000" y="587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温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u=3255330764,1647179730&amp;fm=0&amp;gp=6"/>
          <p:cNvPicPr/>
          <p:nvPr/>
        </p:nvPicPr>
        <p:blipFill>
          <a:blip r:embed="rId2"/>
          <a:stretch/>
        </p:blipFill>
        <p:spPr>
          <a:xfrm>
            <a:off x="611280" y="3429000"/>
            <a:ext cx="2414520" cy="220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633284828396875000"/>
          <p:cNvPicPr/>
          <p:nvPr/>
        </p:nvPicPr>
        <p:blipFill>
          <a:blip r:embed="rId3"/>
          <a:stretch/>
        </p:blipFill>
        <p:spPr>
          <a:xfrm>
            <a:off x="5724360" y="3429000"/>
            <a:ext cx="266400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200712595732531_2"/>
          <p:cNvPicPr/>
          <p:nvPr/>
        </p:nvPicPr>
        <p:blipFill>
          <a:blip r:embed="rId4"/>
          <a:stretch/>
        </p:blipFill>
        <p:spPr>
          <a:xfrm>
            <a:off x="3059280" y="3429000"/>
            <a:ext cx="252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实验中要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倒入杯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水量和温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要相同，测水温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要相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放入温度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u=3255330764,1647179730&amp;fm=0&amp;gp=6"/>
          <p:cNvPicPr/>
          <p:nvPr/>
        </p:nvPicPr>
        <p:blipFill>
          <a:blip r:embed="rId2"/>
          <a:stretch/>
        </p:blipFill>
        <p:spPr>
          <a:xfrm>
            <a:off x="755640" y="3068640"/>
            <a:ext cx="2054160" cy="18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33284828396875000"/>
          <p:cNvPicPr/>
          <p:nvPr/>
        </p:nvPicPr>
        <p:blipFill>
          <a:blip r:embed="rId3"/>
          <a:stretch/>
        </p:blipFill>
        <p:spPr>
          <a:xfrm>
            <a:off x="3348000" y="3068640"/>
            <a:ext cx="2448000" cy="1884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522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锈钢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5128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塑料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20000" y="530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陶瓷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1042920" y="765000"/>
            <a:ext cx="44658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比一比  水温哪个凉得快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59540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杯壁：不锈钢杯烫，塑料杯次之，陶瓷杯最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440960" y="580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不锈钢杯的传热速度比塑料杯、陶瓷杯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200712595732531_2"/>
          <p:cNvPicPr/>
          <p:nvPr/>
        </p:nvPicPr>
        <p:blipFill>
          <a:blip r:embed="rId4"/>
          <a:stretch/>
        </p:blipFill>
        <p:spPr>
          <a:xfrm>
            <a:off x="6443640" y="3213000"/>
            <a:ext cx="230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765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触摸三种杯壁的温度，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金属吸热快，杯壁很烫；塑料吸热慢，杯壁不是很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57200" y="2362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分钟后，这三种水的温度都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57200" y="44956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84360" y="314172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不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84360" y="4076640"/>
            <a:ext cx="734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金属散热快，保温效果不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塑料散热慢，保温效果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知道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铁、铝等（金属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吸热快，散热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--------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水温降得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-------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热的良导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玻璃、塑料泡沫、陶瓷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吸热慢，散热也慢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水温降得慢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-------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热的不良导体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使杯中的水凉得慢一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1042920" y="620640"/>
            <a:ext cx="14414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68360" y="1989000"/>
            <a:ext cx="360396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做一个保温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保温杯的作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只能起到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尽量阻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热量传递的作用，但事实上还是会发生热量的传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2362320"/>
            <a:ext cx="8126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当保温杯内水的温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高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外界的温度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保温杯的作用：减缓杯内水温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下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当保温杯内水的温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低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外界的温度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保温杯的作用：减缓杯内水温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升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6:17:39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6:09:48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