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9C3-5277-4341-AC30-575D2D3D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FA1-789B-404B-8270-1EF844D8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2F7-130A-41A1-A319-FFAD0194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A23-540B-4A71-8D64-183EAA90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B40-F13B-470F-B267-AD98189F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410-B7A4-4660-94B3-19D8BA56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493-E674-4EC2-B9FF-AC7B6212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E44-56C0-47F2-8CD0-2F183F2D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0D0-CC2F-4D4F-AAE7-3D904364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E82-3151-423C-8C19-BB23F482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664-093C-4E36-8070-214022F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C72-7741-48BC-8C9B-275E117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D72-C526-4507-BD80-BA53D894E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禅院钟声.mp3" descr=""/>
          <p:cNvPicPr/>
          <p:nvPr/>
        </p:nvPicPr>
        <p:blipFill>
          <a:blip r:embed="rId1"/>
          <a:stretch/>
        </p:blipFill>
        <p:spPr>
          <a:xfrm>
            <a:off x="-609480" y="472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13716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渡荆门送别</a:t>
            </a:r>
            <a:endParaRPr b="0" lang="en-US" sz="96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67080" y="3124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9900"/>
                </a:solidFill>
                <a:latin typeface="Times New Roman"/>
              </a:rPr>
              <a:t>李白</a:t>
            </a:r>
            <a:endParaRPr b="0" lang="en-US" sz="5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55600" y="6194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dur="indefinite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57200" y="3808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课外拓展</a:t>
            </a:r>
            <a:endParaRPr b="0" lang="en-US" sz="54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A726-E934-417E-A10A-87C3DDE7B6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380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作者简介</a:t>
            </a:r>
            <a:endParaRPr b="0" lang="en-US" sz="5400" spc="-1" strike="noStrike">
              <a:solidFill>
                <a:srgbClr val="3333cc"/>
              </a:solidFill>
              <a:latin typeface="华文隶书"/>
            </a:endParaRPr>
          </a:p>
        </p:txBody>
      </p:sp>
      <p:pic>
        <p:nvPicPr>
          <p:cNvPr id="46" name="Picture 4" descr="libai"/>
          <p:cNvPicPr/>
          <p:nvPr/>
        </p:nvPicPr>
        <p:blipFill>
          <a:blip r:embed="rId1"/>
          <a:stretch/>
        </p:blipFill>
        <p:spPr>
          <a:xfrm>
            <a:off x="0" y="2514600"/>
            <a:ext cx="27432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2895480" y="380880"/>
            <a:ext cx="6248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华文隶书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</a:rPr>
              <a:t>李白（</a:t>
            </a:r>
            <a:r>
              <a:rPr b="1" lang="en-US" sz="3200" spc="-1" strike="noStrike">
                <a:solidFill>
                  <a:srgbClr val="3333cc"/>
                </a:solidFill>
                <a:latin typeface="华文隶书"/>
              </a:rPr>
              <a:t>701~762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</a:rPr>
              <a:t>），唐代伟大诗人，字太白，号青莲居士。祖籍陇西成纪。人称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</a:rPr>
              <a:t>诗仙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</a:rPr>
              <a:t>。</a:t>
            </a: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隶书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</a:rPr>
              <a:t>他是我国继屈原之后又一个杰出的浪漫主义诗人。他常以奔放的激情抒发自己的抱负和理想，以强烈的叛逆精神和傲岸不驯的态度抨击社会，鞭挞权贵。他的诗风雄奇豪放，想象丰富，语言流转自然，韵律和谐多变。杜甫曾给予李白的诗篇极高的评价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</a:rPr>
              <a:t>笔落惊风雨，诗成泣鬼神。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50440" y="304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写作背景</a:t>
            </a:r>
            <a:endParaRPr b="0" lang="en-US" sz="5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219320" y="1371600"/>
            <a:ext cx="66452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华文隶书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</a:rPr>
              <a:t>诗人李白一生足迹几乎踏遍了祖国的名山大川，写了不少歌颂祖国壮丽河山的名诗佳篇。这首诗是诗人于开元十三年（</a:t>
            </a:r>
            <a:r>
              <a:rPr b="1" lang="en-US" sz="3200" spc="-1" strike="noStrike">
                <a:solidFill>
                  <a:srgbClr val="3333cc"/>
                </a:solidFill>
                <a:latin typeface="华文隶书"/>
              </a:rPr>
              <a:t>726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</a:rPr>
              <a:t>）辞亲远游，出蜀至荆门时赠别友人而作。诗人在二十五岁之前一直住在四川，这次是诗人第一次离开故乡开始漫游全国，准备实现自己的理想抱负。        出蜀东下，此诗即在旅游途中所作。从诗意看，诗人与送行者同舟共发，是在舟中吟送的。</a:t>
            </a: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133720" y="1371600"/>
            <a:ext cx="510516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渡荆门送别</a:t>
            </a:r>
            <a:endParaRPr b="0" lang="en-US" sz="4000" spc="-1" strike="noStrike">
              <a:solidFill>
                <a:srgbClr val="3333cc"/>
              </a:solidFill>
              <a:latin typeface="华文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隶书"/>
              </a:rPr>
              <a:t>渡远荆门外，来从楚国游。 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华文隶书"/>
              </a:rPr>
              <a:t>山随平野尽，江入大荒流。 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华文隶书"/>
              </a:rPr>
              <a:t>月下飞天镜，云生结海楼。 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华文隶书"/>
              </a:rPr>
              <a:t>仍怜故乡水，万里送行舟。 </a:t>
            </a:r>
            <a:br>
              <a:rPr sz="3200"/>
            </a:b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</p:txBody>
      </p:sp>
      <p:pic>
        <p:nvPicPr>
          <p:cNvPr id="51" name="yw305.mp3" descr=""/>
          <p:cNvPicPr/>
          <p:nvPr/>
        </p:nvPicPr>
        <p:blipFill>
          <a:blip r:embed="rId1"/>
          <a:stretch/>
        </p:blipFill>
        <p:spPr>
          <a:xfrm>
            <a:off x="-11430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3808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朗读文章</a:t>
            </a:r>
            <a:endParaRPr b="0" lang="en-US" sz="5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304920" y="6019920"/>
            <a:ext cx="65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隶书"/>
              </a:rPr>
              <a:t> </a:t>
            </a:r>
            <a:r>
              <a:rPr b="0" lang="zh-CN" sz="2400" spc="-1" strike="noStrike">
                <a:solidFill>
                  <a:srgbClr val="3333cc"/>
                </a:solidFill>
                <a:latin typeface="华文隶书"/>
              </a:rPr>
              <a:t>更多免费</a:t>
            </a:r>
            <a:r>
              <a:rPr b="0" lang="zh-CN" sz="2400" spc="-1" strike="noStrike">
                <a:solidFill>
                  <a:srgbClr val="3333cc"/>
                </a:solidFill>
                <a:latin typeface="华文隶书"/>
              </a:rPr>
              <a:t>PPT</a:t>
            </a:r>
            <a:r>
              <a:rPr b="0" lang="zh-CN" sz="2400" spc="-1" strike="noStrike">
                <a:solidFill>
                  <a:srgbClr val="3333cc"/>
                </a:solidFill>
                <a:latin typeface="华文隶书"/>
              </a:rPr>
              <a:t>模板下载：</a:t>
            </a:r>
            <a:r>
              <a:rPr b="0" lang="zh-CN" sz="2400" spc="-1" strike="noStrike">
                <a:solidFill>
                  <a:srgbClr val="3333cc"/>
                </a:solidFill>
                <a:latin typeface="华文隶书"/>
              </a:rPr>
              <a:t>http://www.eeppt.com</a:t>
            </a:r>
            <a:endParaRPr b="0" lang="en-US" sz="24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禅院钟声.mp3" descr=""/>
          <p:cNvPicPr/>
          <p:nvPr/>
        </p:nvPicPr>
        <p:blipFill>
          <a:blip r:embed="rId1"/>
          <a:stretch/>
        </p:blipFill>
        <p:spPr>
          <a:xfrm>
            <a:off x="-99072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诗句解释</a:t>
            </a:r>
            <a:endParaRPr b="0" lang="en-US" sz="4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隶书"/>
              </a:rPr>
              <a:t>渡远荆门外，来从楚国游。 </a:t>
            </a:r>
            <a:endParaRPr b="0" lang="en-US" sz="2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76720" y="1447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隶书"/>
              </a:rPr>
              <a:t>诗人乘舟顺流而下，经过漫长的水路，来到荆门之外。 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580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隶书"/>
              </a:rPr>
              <a:t>山随平野尽，江入大荒流。 </a:t>
            </a:r>
            <a:endParaRPr b="0" lang="en-US" sz="2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276720" y="2590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隶书"/>
              </a:rPr>
              <a:t>山已经到了尽头，江水就在这大荒野地上奔流，浩浩漫漫。</a:t>
            </a:r>
            <a:r>
              <a:rPr b="0" lang="zh-CN" sz="2800" spc="-1" strike="noStrike">
                <a:solidFill>
                  <a:srgbClr val="3333cc"/>
                </a:solidFill>
                <a:latin typeface="华文隶书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85800" y="37339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隶书"/>
              </a:rPr>
              <a:t>月下飞天镜，云生结海楼。 </a:t>
            </a:r>
            <a:endParaRPr b="0" lang="en-US" sz="2400" spc="-1" strike="noStrike">
              <a:solidFill>
                <a:srgbClr val="3333cc"/>
              </a:solidFill>
              <a:latin typeface="华文隶书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276720" y="35812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隶书"/>
              </a:rPr>
              <a:t>皎洁的明月在空中流转，如同飞在空中的明镜。云气勃郁，在大江面上变幻莫测，如同海市蜃楼一般。 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1440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隶书"/>
              </a:rPr>
              <a:t>仍怜故乡水，万里送行舟。 </a:t>
            </a:r>
            <a:endParaRPr b="0" lang="en-US" sz="2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276720" y="53341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隶书"/>
              </a:rPr>
              <a:t>虽然进入异地，我仍然依恋着故乡的水水山山，不远万里，一直伴着我这位游子。 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3049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整体感悟</a:t>
            </a:r>
            <a:endParaRPr b="0" lang="en-US" sz="5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38080" y="1447920"/>
            <a:ext cx="7391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华文隶书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华文隶书"/>
              </a:rPr>
              <a:t>渡荆门送别</a:t>
            </a:r>
            <a:r>
              <a:rPr b="1" lang="en-US" sz="2800" spc="-1" strike="noStrike">
                <a:solidFill>
                  <a:srgbClr val="3333cc"/>
                </a:solidFill>
                <a:latin typeface="华文隶书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华文隶书"/>
              </a:rPr>
              <a:t>是一首五言律诗</a:t>
            </a:r>
            <a:r>
              <a:rPr b="1" lang="en-US" sz="2800" spc="-1" strike="noStrike">
                <a:solidFill>
                  <a:srgbClr val="3333cc"/>
                </a:solidFill>
                <a:latin typeface="华文隶书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华文隶书"/>
              </a:rPr>
              <a:t>首联交代了什么？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619280" y="1903320"/>
            <a:ext cx="6324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隶书"/>
              </a:rPr>
              <a:t>远渡的地点和此行的目的。</a:t>
            </a:r>
            <a:endParaRPr b="0" lang="en-US" sz="2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066680" y="25146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颔联写景，描绘了一幅怎样的画面？是从什么角度来写景的？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066680" y="3429000"/>
            <a:ext cx="70866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隶书"/>
              </a:rPr>
              <a:t>描写渡过荆门进入楚地的壮阔景色，画出一幅气势磅礴地万里长江图，写的是远景。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990720" y="4495680"/>
            <a:ext cx="6019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隶书"/>
              </a:rPr>
              <a:t>全诗表达作者什么样的思想感情？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143000" y="4840200"/>
            <a:ext cx="58672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通过对长江两岸秀丽景色的描绘，反映了诗人开阔情怀和奋发进取的精神，同时表现了诗人对故乡山水的无限眷恋、思       念之情。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04920" y="228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深入探究</a:t>
            </a:r>
            <a:endParaRPr b="0" lang="en-US" sz="5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90720" y="10666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颔联中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随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字用的好，谈谈好在何处</a:t>
            </a:r>
            <a:r>
              <a:rPr b="0" lang="zh-CN" sz="2800" spc="-1" strike="noStrike">
                <a:solidFill>
                  <a:srgbClr val="3333cc"/>
                </a:solidFill>
                <a:latin typeface="华文隶书"/>
              </a:rPr>
              <a:t>。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1440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随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字将群山语原野的位置逐渐变换、推移，真切的表现出来，写活了，给人以空间感和流动感。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3808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颈联变换视角，描写长江的近景，谈谈这联诗所描绘的意境</a:t>
            </a:r>
            <a:r>
              <a:rPr b="0" lang="zh-CN" sz="2800" spc="-1" strike="noStrike">
                <a:solidFill>
                  <a:srgbClr val="3333cc"/>
                </a:solidFill>
                <a:latin typeface="华文隶书"/>
              </a:rPr>
              <a:t>。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990720" y="403848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月下飞天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是月夜俯视所见。明月本在天上，倒映在流速缓慢的长江水中，好像从天上飞来一面明镜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云生结海楼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</a:rPr>
              <a:t>是白昼眺望所见。云多，则天空高远，反衬原野低平、江岸辽阔、两岸平旷的景色，在自然美景中融进了诗人见到平       原时欣喜的感受。 </a:t>
            </a: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04920" y="228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深入探究</a:t>
            </a:r>
            <a:endParaRPr b="0" lang="en-US" sz="54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212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隶书"/>
              </a:rPr>
              <a:t>揣摩尾联，体会其中蕴涵的思想感情。</a:t>
            </a: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5800" y="23623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隶书"/>
              </a:rPr>
              <a:t>尾联中的故乡水是指流经故乡的水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华文隶书"/>
              </a:rPr>
              <a:t>万里送行舟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华文隶书"/>
              </a:rPr>
              <a:t>指的是故乡水如今怀着深情厚意载我远行。用拟人的手法，借写故乡水有情，不远万里，依恋不舍送我远别故乡，表达了诗人离开故乡时依依不舍，思念故乡的感情。</a:t>
            </a: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09480" y="457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提问时间</a:t>
            </a:r>
            <a:endParaRPr b="0" lang="en-US" sz="5400" spc="-1" strike="noStrike">
              <a:solidFill>
                <a:srgbClr val="3333cc"/>
              </a:solidFill>
              <a:latin typeface="华文隶书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4:08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04Z</dcterms:modified>
  <cp:revision>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