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04D-8A9B-442C-9207-C6678D49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1B6-9C3C-4174-BFDB-B9FEEA8D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90F-176C-4CAA-80CD-BE7CF1CA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86D-0F57-406B-BEC8-D1E57AA2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17AA-6545-4119-8AD8-06273565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4B86-615F-4D91-A1EC-CB42C5A1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DD65-7C6A-44FD-BAB9-9CB51CA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DAD8-8A39-4C9C-AAA2-184908EE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E0AB-5FAD-42D5-94D5-AA24EEBC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2CC6-36D2-4ABA-A919-0E90BB6F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F484-854D-4395-8B30-C5FEF708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D6F-4E50-43D5-B422-7611EE7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992F-11BC-47EF-9A22-0C16463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54A3-A51D-48CF-A9BD-1086769F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E0FF-14BE-40FC-B7BC-911B76F4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44C0-28A5-4D76-9F70-04B68DF8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8FB7-5ED2-42B9-BE87-18DEE9A9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07D-28FE-4520-B06F-FD373282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8F5-C5C5-4DF5-9633-66D02D92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203-41B8-45C4-BB08-4201C6CB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AA4-0615-4C1E-9DC2-A4FAB5E6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651-F2F6-42E2-8988-4AE0357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EBB-B872-4692-AFD7-F83A460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00A-816D-4E15-8E32-DC84E4C7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073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组合 3074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任意多边形 3075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任意多边形 3076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组合 3077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等腰三角形 3078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任意多边形 3079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任意多边形 3080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任意多边形 3081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矩形 3082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62C7-55B7-4818-B23F-14E605434F6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4FDA-26D4-430D-9BEA-E21EDBBA361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FA96-BF70-4801-A16B-B85A4DDCDA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097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3" name="组合 4098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任意多边形 4099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任意多边形 4100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6" name="组合 4101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等腰三角形 4102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任意多边形 4103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任意多边形 4104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任意多边形 4105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01" name="矩形 4106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38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生态系统的功能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8EED-0E33-4CC4-8DE8-11C58C9E57D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回答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存在形式：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无机环境中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二氧化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碳酸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生物群落中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含碳有机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循环形式：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二氧化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生理过程：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光合作用、（化能合成作用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宋体"/>
              </a:rPr>
              <a:t>呼吸作用、微生物的分解作用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83F8-E694-480C-AD3C-9805FDC3050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碳循环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图片 22531" descr="NA01441_"/>
          <p:cNvPicPr/>
          <p:nvPr/>
        </p:nvPicPr>
        <p:blipFill>
          <a:blip r:embed="rId1"/>
          <a:stretch/>
        </p:blipFill>
        <p:spPr>
          <a:xfrm>
            <a:off x="4300560" y="3124080"/>
            <a:ext cx="811080" cy="9144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2532" descr="AN02479_"/>
          <p:cNvPicPr/>
          <p:nvPr/>
        </p:nvPicPr>
        <p:blipFill>
          <a:blip r:embed="rId2"/>
          <a:stretch/>
        </p:blipFill>
        <p:spPr>
          <a:xfrm>
            <a:off x="2133720" y="32767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2533" descr="IN00357_"/>
          <p:cNvPicPr/>
          <p:nvPr/>
        </p:nvPicPr>
        <p:blipFill>
          <a:blip r:embed="rId3"/>
          <a:stretch/>
        </p:blipFill>
        <p:spPr>
          <a:xfrm>
            <a:off x="6681960" y="990720"/>
            <a:ext cx="1212840" cy="1276200"/>
          </a:xfrm>
          <a:prstGeom prst="rect">
            <a:avLst/>
          </a:prstGeom>
          <a:ln w="0">
            <a:noFill/>
          </a:ln>
        </p:spPr>
      </p:pic>
      <p:sp>
        <p:nvSpPr>
          <p:cNvPr id="210" name="上箭头 22535"/>
          <p:cNvSpPr/>
          <p:nvPr/>
        </p:nvSpPr>
        <p:spPr>
          <a:xfrm>
            <a:off x="2666880" y="1981080"/>
            <a:ext cx="304920" cy="976320"/>
          </a:xfrm>
          <a:prstGeom prst="upArrow">
            <a:avLst>
              <a:gd name="adj1" fmla="val 50000"/>
              <a:gd name="adj2" fmla="val 80032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矩形 22538"/>
          <p:cNvSpPr/>
          <p:nvPr/>
        </p:nvSpPr>
        <p:spPr>
          <a:xfrm>
            <a:off x="2590920" y="1219320"/>
            <a:ext cx="2361960" cy="685800"/>
          </a:xfrm>
          <a:prstGeom prst="rect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左箭头 22540"/>
          <p:cNvSpPr/>
          <p:nvPr/>
        </p:nvSpPr>
        <p:spPr>
          <a:xfrm>
            <a:off x="3352680" y="373392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左箭头 22541"/>
          <p:cNvSpPr/>
          <p:nvPr/>
        </p:nvSpPr>
        <p:spPr>
          <a:xfrm>
            <a:off x="5410080" y="1676520"/>
            <a:ext cx="1143000" cy="304560"/>
          </a:xfrm>
          <a:prstGeom prst="leftArrow">
            <a:avLst>
              <a:gd name="adj1" fmla="val 50000"/>
              <a:gd name="adj2" fmla="val 93824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矩形 22542"/>
          <p:cNvSpPr/>
          <p:nvPr/>
        </p:nvSpPr>
        <p:spPr>
          <a:xfrm>
            <a:off x="2057400" y="5257800"/>
            <a:ext cx="3886200" cy="609480"/>
          </a:xfrm>
          <a:prstGeom prst="rect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文本框 22545"/>
          <p:cNvSpPr/>
          <p:nvPr/>
        </p:nvSpPr>
        <p:spPr>
          <a:xfrm>
            <a:off x="2133720" y="5334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动植物的遗体和排出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矩形 22546"/>
          <p:cNvSpPr/>
          <p:nvPr/>
        </p:nvSpPr>
        <p:spPr>
          <a:xfrm>
            <a:off x="6858000" y="4952880"/>
            <a:ext cx="1752480" cy="990720"/>
          </a:xfrm>
          <a:prstGeom prst="rect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文本框 22547"/>
          <p:cNvSpPr/>
          <p:nvPr/>
        </p:nvSpPr>
        <p:spPr>
          <a:xfrm>
            <a:off x="7010280" y="5257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化石燃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左弧形箭头 22548"/>
          <p:cNvSpPr/>
          <p:nvPr/>
        </p:nvSpPr>
        <p:spPr>
          <a:xfrm>
            <a:off x="2590920" y="4114800"/>
            <a:ext cx="304560" cy="1066680"/>
          </a:xfrm>
          <a:custGeom>
            <a:avLst/>
            <a:gdLst>
              <a:gd name="textAreaLeft" fmla="*/ 40680 w 304560"/>
              <a:gd name="textAreaRight" fmla="*/ 263880 w 3045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右弧形箭头 22549"/>
          <p:cNvSpPr/>
          <p:nvPr/>
        </p:nvSpPr>
        <p:spPr>
          <a:xfrm>
            <a:off x="4648320" y="4267080"/>
            <a:ext cx="228600" cy="990720"/>
          </a:xfrm>
          <a:custGeom>
            <a:avLst/>
            <a:gdLst>
              <a:gd name="textAreaLeft" fmla="*/ 30600 w 228600"/>
              <a:gd name="textAreaRight" fmla="*/ 198000 w 2286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矩形 22552"/>
          <p:cNvSpPr/>
          <p:nvPr/>
        </p:nvSpPr>
        <p:spPr>
          <a:xfrm>
            <a:off x="4329000" y="320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任意多边形 22554"/>
          <p:cNvSpPr/>
          <p:nvPr/>
        </p:nvSpPr>
        <p:spPr>
          <a:xfrm>
            <a:off x="5410080" y="3505320"/>
            <a:ext cx="2210040" cy="914400"/>
          </a:xfrm>
          <a:custGeom>
            <a:avLst/>
            <a:gdLst/>
            <a:ahLst/>
            <a:rect l="l" t="t" r="r" b="b"/>
            <a:pathLst>
              <a:path w="24300" h="16200">
                <a:moveTo>
                  <a:pt x="16200" y="10800"/>
                </a:move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上箭头 22555"/>
          <p:cNvSpPr/>
          <p:nvPr/>
        </p:nvSpPr>
        <p:spPr>
          <a:xfrm>
            <a:off x="7543800" y="2666880"/>
            <a:ext cx="533520" cy="1905120"/>
          </a:xfrm>
          <a:prstGeom prst="upArrow">
            <a:avLst>
              <a:gd name="adj1" fmla="val 50000"/>
              <a:gd name="adj2" fmla="val 89255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任意多边形 22559"/>
          <p:cNvSpPr/>
          <p:nvPr/>
        </p:nvSpPr>
        <p:spPr>
          <a:xfrm>
            <a:off x="1409760" y="1473120"/>
            <a:ext cx="1181160" cy="5372280"/>
          </a:xfrm>
          <a:custGeom>
            <a:avLst/>
            <a:gdLst/>
            <a:ahLst/>
            <a:rect l="l" t="t" r="r" b="b"/>
            <a:pathLst>
              <a:path w="744" h="3384">
                <a:moveTo>
                  <a:pt x="744" y="2768"/>
                </a:moveTo>
                <a:cubicBezTo>
                  <a:pt x="512" y="3076"/>
                  <a:pt x="280" y="3384"/>
                  <a:pt x="168" y="3008"/>
                </a:cubicBezTo>
                <a:cubicBezTo>
                  <a:pt x="56" y="2632"/>
                  <a:pt x="0" y="1000"/>
                  <a:pt x="72" y="512"/>
                </a:cubicBezTo>
                <a:cubicBezTo>
                  <a:pt x="144" y="24"/>
                  <a:pt x="496" y="160"/>
                  <a:pt x="600" y="80"/>
                </a:cubicBezTo>
                <a:cubicBezTo>
                  <a:pt x="704" y="0"/>
                  <a:pt x="700" y="16"/>
                  <a:pt x="696" y="32"/>
                </a:cubicBezTo>
              </a:path>
            </a:pathLst>
          </a:custGeom>
          <a:noFill/>
          <a:ln cap="sq" w="101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57440" y="685440"/>
            <a:ext cx="305280" cy="304920"/>
            <a:chOff x="5257440" y="685440"/>
            <a:chExt cx="305280" cy="304920"/>
          </a:xfrm>
        </p:grpSpPr>
        <p:sp>
          <p:nvSpPr>
            <p:cNvPr id="225" name="直接连接符 22562"/>
            <p:cNvSpPr/>
            <p:nvPr/>
          </p:nvSpPr>
          <p:spPr>
            <a:xfrm flipV="1">
              <a:off x="5257800" y="685440"/>
              <a:ext cx="304920" cy="30492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10800000">
              <a:off x="5257440" y="68544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362320" y="1447560"/>
            <a:ext cx="304560" cy="152280"/>
            <a:chOff x="2362320" y="1447560"/>
            <a:chExt cx="304560" cy="152280"/>
          </a:xfrm>
        </p:grpSpPr>
        <p:sp>
          <p:nvSpPr>
            <p:cNvPr id="228" name="直接连接符 22563"/>
            <p:cNvSpPr/>
            <p:nvPr/>
          </p:nvSpPr>
          <p:spPr>
            <a:xfrm flipV="1">
              <a:off x="2362320" y="1447560"/>
              <a:ext cx="304560" cy="152280"/>
            </a:xfrm>
            <a:prstGeom prst="line">
              <a:avLst/>
            </a:prstGeom>
            <a:ln cap="sq" w="101520">
              <a:solidFill>
                <a:srgbClr val="ff99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 rot="10800000">
              <a:off x="2362320" y="1447560"/>
              <a:ext cx="3045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0" name="上箭头 22564"/>
          <p:cNvSpPr/>
          <p:nvPr/>
        </p:nvSpPr>
        <p:spPr>
          <a:xfrm>
            <a:off x="4343400" y="1981080"/>
            <a:ext cx="152280" cy="838440"/>
          </a:xfrm>
          <a:prstGeom prst="upArrow">
            <a:avLst>
              <a:gd name="adj1" fmla="val 50000"/>
              <a:gd name="adj2" fmla="val 137648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下箭头 22565"/>
          <p:cNvSpPr/>
          <p:nvPr/>
        </p:nvSpPr>
        <p:spPr>
          <a:xfrm>
            <a:off x="4572000" y="205740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文本框 22566"/>
          <p:cNvSpPr/>
          <p:nvPr/>
        </p:nvSpPr>
        <p:spPr>
          <a:xfrm>
            <a:off x="472428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文本框 22567"/>
          <p:cNvSpPr/>
          <p:nvPr/>
        </p:nvSpPr>
        <p:spPr>
          <a:xfrm>
            <a:off x="39625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文本框 22568"/>
          <p:cNvSpPr/>
          <p:nvPr/>
        </p:nvSpPr>
        <p:spPr>
          <a:xfrm>
            <a:off x="28954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文本框 22569"/>
          <p:cNvSpPr/>
          <p:nvPr/>
        </p:nvSpPr>
        <p:spPr>
          <a:xfrm>
            <a:off x="3581280" y="335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文本框 22570"/>
          <p:cNvSpPr/>
          <p:nvPr/>
        </p:nvSpPr>
        <p:spPr>
          <a:xfrm>
            <a:off x="9907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文本框 22571"/>
          <p:cNvSpPr/>
          <p:nvPr/>
        </p:nvSpPr>
        <p:spPr>
          <a:xfrm>
            <a:off x="79246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1C4-C56B-45BD-B8A5-BC7F8D32709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能量流动和物质循环的关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文本框 41987"/>
          <p:cNvSpPr/>
          <p:nvPr/>
        </p:nvSpPr>
        <p:spPr>
          <a:xfrm>
            <a:off x="2438280" y="1676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联系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文本框 41989"/>
          <p:cNvSpPr/>
          <p:nvPr/>
        </p:nvSpPr>
        <p:spPr>
          <a:xfrm>
            <a:off x="3809880" y="167652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能量流动必须伴随着物质循环来进行，两者之间互为因果，相辅相成，具有不可分割的联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文本框 41990"/>
          <p:cNvSpPr/>
          <p:nvPr/>
        </p:nvSpPr>
        <p:spPr>
          <a:xfrm>
            <a:off x="243828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区别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文本框 41991"/>
          <p:cNvSpPr/>
          <p:nvPr/>
        </p:nvSpPr>
        <p:spPr>
          <a:xfrm>
            <a:off x="3809880" y="41148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能量流动是单向流动、逐级递减的，而物质流动是反复出现，循环流动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6830-CD32-4645-B693-7F20D84F56A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50177"/>
          <p:cNvSpPr/>
          <p:nvPr/>
        </p:nvSpPr>
        <p:spPr>
          <a:xfrm>
            <a:off x="5486400" y="685800"/>
            <a:ext cx="3276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能量的最终来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能量流动的渠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能量流动的特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研究目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文本框 50178"/>
          <p:cNvSpPr/>
          <p:nvPr/>
        </p:nvSpPr>
        <p:spPr>
          <a:xfrm>
            <a:off x="5486400" y="3276720"/>
            <a:ext cx="3657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概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物质循环的特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碳循环（形式、意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左大括号 50179"/>
          <p:cNvSpPr/>
          <p:nvPr/>
        </p:nvSpPr>
        <p:spPr>
          <a:xfrm>
            <a:off x="5257800" y="91440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左大括号 50180"/>
          <p:cNvSpPr/>
          <p:nvPr/>
        </p:nvSpPr>
        <p:spPr>
          <a:xfrm>
            <a:off x="5181480" y="34290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文本框 50181"/>
          <p:cNvSpPr/>
          <p:nvPr/>
        </p:nvSpPr>
        <p:spPr>
          <a:xfrm>
            <a:off x="3429000" y="5486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能量流动和物质循环的关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文本框 50182"/>
          <p:cNvSpPr/>
          <p:nvPr/>
        </p:nvSpPr>
        <p:spPr>
          <a:xfrm>
            <a:off x="3429000" y="114300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生态系统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能量流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文本框 50183"/>
          <p:cNvSpPr/>
          <p:nvPr/>
        </p:nvSpPr>
        <p:spPr>
          <a:xfrm>
            <a:off x="3352680" y="342900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生态系统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物质循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左大括号 50184"/>
          <p:cNvSpPr/>
          <p:nvPr/>
        </p:nvSpPr>
        <p:spPr>
          <a:xfrm>
            <a:off x="3048120" y="1828800"/>
            <a:ext cx="304560" cy="3962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文本框 50185"/>
          <p:cNvSpPr/>
          <p:nvPr/>
        </p:nvSpPr>
        <p:spPr>
          <a:xfrm>
            <a:off x="16765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态系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的功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960D-3C59-491D-B28C-206D831AB41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198108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1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能量从无机环境进入生物群落主要依靠（     ）</a:t>
            </a: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A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光合作用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	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B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同化作用</a:t>
            </a: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C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化能合成作用    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D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呼吸作用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76520" y="403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在青草       昆虫       蜘蛛      鸟    猫头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这条食物链中，占生态系统总能量比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最多的生物是（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A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猫头鹰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B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蜘蛛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C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鸟 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D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文本框 37891"/>
          <p:cNvSpPr/>
          <p:nvPr/>
        </p:nvSpPr>
        <p:spPr>
          <a:xfrm>
            <a:off x="1600200" y="457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巩固练习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52680" y="4343400"/>
            <a:ext cx="609840" cy="360"/>
            <a:chOff x="3352680" y="4343400"/>
            <a:chExt cx="609840" cy="360"/>
          </a:xfrm>
        </p:grpSpPr>
        <p:sp>
          <p:nvSpPr>
            <p:cNvPr id="262" name="直接连接符 37892"/>
            <p:cNvSpPr/>
            <p:nvPr/>
          </p:nvSpPr>
          <p:spPr>
            <a:xfrm>
              <a:off x="3352680" y="4343400"/>
              <a:ext cx="60984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3352680" y="43434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800600" y="4343400"/>
            <a:ext cx="609480" cy="360"/>
            <a:chOff x="4800600" y="4343400"/>
            <a:chExt cx="609480" cy="360"/>
          </a:xfrm>
        </p:grpSpPr>
        <p:sp>
          <p:nvSpPr>
            <p:cNvPr id="265" name="直接连接符 37893"/>
            <p:cNvSpPr/>
            <p:nvPr/>
          </p:nvSpPr>
          <p:spPr>
            <a:xfrm>
              <a:off x="4800600" y="4343400"/>
              <a:ext cx="60948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4800600" y="43434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324480" y="4343400"/>
            <a:ext cx="685800" cy="360"/>
            <a:chOff x="6324480" y="4343400"/>
            <a:chExt cx="685800" cy="360"/>
          </a:xfrm>
        </p:grpSpPr>
        <p:sp>
          <p:nvSpPr>
            <p:cNvPr id="268" name="直接连接符 37894"/>
            <p:cNvSpPr/>
            <p:nvPr/>
          </p:nvSpPr>
          <p:spPr>
            <a:xfrm>
              <a:off x="6324480" y="4343400"/>
              <a:ext cx="68580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6324480" y="43434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315200" y="4343400"/>
            <a:ext cx="380880" cy="360"/>
            <a:chOff x="7315200" y="4343400"/>
            <a:chExt cx="380880" cy="360"/>
          </a:xfrm>
        </p:grpSpPr>
        <p:sp>
          <p:nvSpPr>
            <p:cNvPr id="271" name="直接连接符 37895"/>
            <p:cNvSpPr/>
            <p:nvPr/>
          </p:nvSpPr>
          <p:spPr>
            <a:xfrm>
              <a:off x="7315200" y="4343400"/>
              <a:ext cx="38088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7315200" y="43434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3" name="文本框 37896"/>
          <p:cNvSpPr/>
          <p:nvPr/>
        </p:nvSpPr>
        <p:spPr>
          <a:xfrm>
            <a:off x="3200400" y="1828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文本框 37897"/>
          <p:cNvSpPr/>
          <p:nvPr/>
        </p:nvSpPr>
        <p:spPr>
          <a:xfrm>
            <a:off x="49528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8694-C639-4DE9-9A85-D8805443B8D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057040" y="22860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3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要想最经济地利用生产者固定下来的太阳能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,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应选择哪一组食物结构？（    ）</a:t>
            </a: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A.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大米、面粉和水果蔬菜</a:t>
            </a: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B.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牛奶和肉类</a:t>
            </a: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C.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土豆和牛肉</a:t>
            </a: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D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鱼、虾和鸡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文本框 38915"/>
          <p:cNvSpPr/>
          <p:nvPr/>
        </p:nvSpPr>
        <p:spPr>
          <a:xfrm>
            <a:off x="3505320" y="22096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5C4F-D180-45C3-8152-01EDC57C9AB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057040" y="34290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4.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具有三个营养级的能量金字塔，最上层的体积是最下层的（    ）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A.10%~20 %      B.1%~1%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C.1%~4%          D .1%~2%               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文本框 43012"/>
          <p:cNvSpPr/>
          <p:nvPr/>
        </p:nvSpPr>
        <p:spPr>
          <a:xfrm>
            <a:off x="3809880" y="3352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9C92-E872-4620-A8E3-B9B7E1542A8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2209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5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在一条食物链中，随着营养级的递增，各营养级生物量的变化是</a:t>
            </a:r>
            <a:br>
              <a:rPr sz="3600"/>
            </a:b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（     ）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A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依次减少            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B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依次增加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C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没有一定规律    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D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保持不变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文本框 45058"/>
          <p:cNvSpPr/>
          <p:nvPr/>
        </p:nvSpPr>
        <p:spPr>
          <a:xfrm>
            <a:off x="228600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1937-7CCD-4AD6-822F-193C7B3E26C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6.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下图是自然界碳循环的简图，图中的甲、乙、丙各代表生态系统中的什么成分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文本框 48130"/>
          <p:cNvSpPr/>
          <p:nvPr/>
        </p:nvSpPr>
        <p:spPr>
          <a:xfrm>
            <a:off x="4038480" y="1676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文本框 48131"/>
          <p:cNvSpPr/>
          <p:nvPr/>
        </p:nvSpPr>
        <p:spPr>
          <a:xfrm>
            <a:off x="3505320" y="327672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大气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文本框 48132"/>
          <p:cNvSpPr/>
          <p:nvPr/>
        </p:nvSpPr>
        <p:spPr>
          <a:xfrm>
            <a:off x="220968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乙                               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343400" y="2362320"/>
            <a:ext cx="360" cy="838080"/>
            <a:chOff x="4343400" y="2362320"/>
            <a:chExt cx="360" cy="838080"/>
          </a:xfrm>
        </p:grpSpPr>
        <p:sp>
          <p:nvSpPr>
            <p:cNvPr id="295" name="直接连接符 48133"/>
            <p:cNvSpPr/>
            <p:nvPr/>
          </p:nvSpPr>
          <p:spPr>
            <a:xfrm>
              <a:off x="4343400" y="2362320"/>
              <a:ext cx="0" cy="8380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4343400" y="23623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590920" y="2133720"/>
            <a:ext cx="1371600" cy="2819160"/>
            <a:chOff x="2590920" y="2133720"/>
            <a:chExt cx="1371600" cy="2819160"/>
          </a:xfrm>
        </p:grpSpPr>
        <p:sp>
          <p:nvSpPr>
            <p:cNvPr id="298" name="直接连接符 48134"/>
            <p:cNvSpPr/>
            <p:nvPr/>
          </p:nvSpPr>
          <p:spPr>
            <a:xfrm flipH="1">
              <a:off x="2590920" y="2133720"/>
              <a:ext cx="1371600" cy="281916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2590920" y="2133720"/>
              <a:ext cx="1371600" cy="28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95480" y="5257800"/>
            <a:ext cx="3276720" cy="360"/>
            <a:chOff x="2895480" y="5257800"/>
            <a:chExt cx="3276720" cy="360"/>
          </a:xfrm>
        </p:grpSpPr>
        <p:sp>
          <p:nvSpPr>
            <p:cNvPr id="301" name="直接连接符 48135"/>
            <p:cNvSpPr/>
            <p:nvPr/>
          </p:nvSpPr>
          <p:spPr>
            <a:xfrm flipH="1">
              <a:off x="2895480" y="5257800"/>
              <a:ext cx="327672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895480" y="525780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647960" y="1980720"/>
            <a:ext cx="1904760" cy="2971800"/>
            <a:chOff x="4647960" y="1980720"/>
            <a:chExt cx="1904760" cy="2971800"/>
          </a:xfrm>
        </p:grpSpPr>
        <p:sp>
          <p:nvSpPr>
            <p:cNvPr id="304" name="直接连接符 48136"/>
            <p:cNvSpPr/>
            <p:nvPr/>
          </p:nvSpPr>
          <p:spPr>
            <a:xfrm flipH="1" flipV="1">
              <a:off x="4647960" y="1980720"/>
              <a:ext cx="1904760" cy="297180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0800000">
              <a:off x="4647960" y="1980720"/>
              <a:ext cx="19047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0" y="3886200"/>
            <a:ext cx="1295280" cy="1295280"/>
            <a:chOff x="2743200" y="3886200"/>
            <a:chExt cx="1295280" cy="1295280"/>
          </a:xfrm>
        </p:grpSpPr>
        <p:sp>
          <p:nvSpPr>
            <p:cNvPr id="307" name="直接连接符 48138"/>
            <p:cNvSpPr/>
            <p:nvPr/>
          </p:nvSpPr>
          <p:spPr>
            <a:xfrm flipV="1">
              <a:off x="2743200" y="3886200"/>
              <a:ext cx="1295280" cy="12952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 rot="10800000">
              <a:off x="2743200" y="3886200"/>
              <a:ext cx="129528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952880" y="3886200"/>
            <a:ext cx="1219320" cy="1219320"/>
            <a:chOff x="4952880" y="3886200"/>
            <a:chExt cx="1219320" cy="1219320"/>
          </a:xfrm>
        </p:grpSpPr>
        <p:sp>
          <p:nvSpPr>
            <p:cNvPr id="310" name="直接连接符 48139"/>
            <p:cNvSpPr/>
            <p:nvPr/>
          </p:nvSpPr>
          <p:spPr>
            <a:xfrm>
              <a:off x="4952880" y="3886200"/>
              <a:ext cx="1219320" cy="121932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952880" y="3886200"/>
              <a:ext cx="121932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257800" y="3962160"/>
            <a:ext cx="990720" cy="1066680"/>
            <a:chOff x="5257800" y="3962160"/>
            <a:chExt cx="990720" cy="1066680"/>
          </a:xfrm>
        </p:grpSpPr>
        <p:sp>
          <p:nvSpPr>
            <p:cNvPr id="313" name="直接连接符 48140"/>
            <p:cNvSpPr/>
            <p:nvPr/>
          </p:nvSpPr>
          <p:spPr>
            <a:xfrm flipH="1" flipV="1">
              <a:off x="5257800" y="3962160"/>
              <a:ext cx="990720" cy="10666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5257800" y="3962160"/>
              <a:ext cx="9907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15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A0BE-7827-49BD-9002-E6C6668A22E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-3812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7.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下图表示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三条能量流动的渠道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文本框 46082"/>
          <p:cNvSpPr/>
          <p:nvPr/>
        </p:nvSpPr>
        <p:spPr>
          <a:xfrm>
            <a:off x="19051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公斤植物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公斤植物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公斤植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文本框 46083"/>
          <p:cNvSpPr/>
          <p:nvPr/>
        </p:nvSpPr>
        <p:spPr>
          <a:xfrm>
            <a:off x="4495680" y="1295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猪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文本框 46084"/>
          <p:cNvSpPr/>
          <p:nvPr/>
        </p:nvSpPr>
        <p:spPr>
          <a:xfrm>
            <a:off x="5943600" y="1371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植食鱼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文本框 46085"/>
          <p:cNvSpPr/>
          <p:nvPr/>
        </p:nvSpPr>
        <p:spPr>
          <a:xfrm>
            <a:off x="5334120" y="2057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肉食鱼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文本框 46086"/>
          <p:cNvSpPr/>
          <p:nvPr/>
        </p:nvSpPr>
        <p:spPr>
          <a:xfrm>
            <a:off x="449568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矩形 46088"/>
          <p:cNvSpPr/>
          <p:nvPr/>
        </p:nvSpPr>
        <p:spPr>
          <a:xfrm>
            <a:off x="1905120" y="609480"/>
            <a:ext cx="1676160" cy="4572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矩形 46089"/>
          <p:cNvSpPr/>
          <p:nvPr/>
        </p:nvSpPr>
        <p:spPr>
          <a:xfrm>
            <a:off x="4114800" y="609480"/>
            <a:ext cx="1676520" cy="4572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矩形 46090"/>
          <p:cNvSpPr/>
          <p:nvPr/>
        </p:nvSpPr>
        <p:spPr>
          <a:xfrm>
            <a:off x="6172200" y="609480"/>
            <a:ext cx="1676520" cy="4572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矩形 46091"/>
          <p:cNvSpPr/>
          <p:nvPr/>
        </p:nvSpPr>
        <p:spPr>
          <a:xfrm>
            <a:off x="4267080" y="1295280"/>
            <a:ext cx="838440" cy="4572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矩形 46092"/>
          <p:cNvSpPr/>
          <p:nvPr/>
        </p:nvSpPr>
        <p:spPr>
          <a:xfrm>
            <a:off x="5867280" y="1371600"/>
            <a:ext cx="1600200" cy="4572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矩形 46093"/>
          <p:cNvSpPr/>
          <p:nvPr/>
        </p:nvSpPr>
        <p:spPr>
          <a:xfrm>
            <a:off x="5334120" y="2133720"/>
            <a:ext cx="1371600" cy="38088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矩形 46094"/>
          <p:cNvSpPr/>
          <p:nvPr/>
        </p:nvSpPr>
        <p:spPr>
          <a:xfrm>
            <a:off x="3962520" y="2743200"/>
            <a:ext cx="1600200" cy="4572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200400" y="1143000"/>
            <a:ext cx="914400" cy="1447920"/>
            <a:chOff x="3200400" y="1143000"/>
            <a:chExt cx="914400" cy="1447920"/>
          </a:xfrm>
        </p:grpSpPr>
        <p:sp>
          <p:nvSpPr>
            <p:cNvPr id="331" name="直接连接符 46095"/>
            <p:cNvSpPr/>
            <p:nvPr/>
          </p:nvSpPr>
          <p:spPr>
            <a:xfrm>
              <a:off x="3200400" y="1143000"/>
              <a:ext cx="914400" cy="144792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3200400" y="1143000"/>
              <a:ext cx="91440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724280" y="1143000"/>
            <a:ext cx="360" cy="152280"/>
            <a:chOff x="4724280" y="1143000"/>
            <a:chExt cx="360" cy="152280"/>
          </a:xfrm>
        </p:grpSpPr>
        <p:sp>
          <p:nvSpPr>
            <p:cNvPr id="334" name="直接连接符 46096"/>
            <p:cNvSpPr/>
            <p:nvPr/>
          </p:nvSpPr>
          <p:spPr>
            <a:xfrm>
              <a:off x="4724280" y="1143000"/>
              <a:ext cx="0" cy="1522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4724280" y="11430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705360" y="1066680"/>
            <a:ext cx="228960" cy="304920"/>
            <a:chOff x="6705360" y="1066680"/>
            <a:chExt cx="228960" cy="304920"/>
          </a:xfrm>
        </p:grpSpPr>
        <p:sp>
          <p:nvSpPr>
            <p:cNvPr id="337" name="直接连接符 46098"/>
            <p:cNvSpPr/>
            <p:nvPr/>
          </p:nvSpPr>
          <p:spPr>
            <a:xfrm flipH="1">
              <a:off x="6705360" y="1066680"/>
              <a:ext cx="228600" cy="30492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6705720" y="106668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019920" y="1828800"/>
            <a:ext cx="304560" cy="304920"/>
            <a:chOff x="6019920" y="1828800"/>
            <a:chExt cx="304560" cy="304920"/>
          </a:xfrm>
        </p:grpSpPr>
        <p:sp>
          <p:nvSpPr>
            <p:cNvPr id="340" name="直接连接符 46099"/>
            <p:cNvSpPr/>
            <p:nvPr/>
          </p:nvSpPr>
          <p:spPr>
            <a:xfrm flipH="1">
              <a:off x="6019920" y="1828800"/>
              <a:ext cx="304560" cy="30492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6019920" y="18288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648320" y="1905120"/>
            <a:ext cx="360" cy="685800"/>
            <a:chOff x="4648320" y="1905120"/>
            <a:chExt cx="360" cy="685800"/>
          </a:xfrm>
        </p:grpSpPr>
        <p:sp>
          <p:nvSpPr>
            <p:cNvPr id="343" name="直接连接符 46101"/>
            <p:cNvSpPr/>
            <p:nvPr/>
          </p:nvSpPr>
          <p:spPr>
            <a:xfrm>
              <a:off x="4648320" y="1905120"/>
              <a:ext cx="0" cy="68580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4648320" y="19051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257800" y="2590920"/>
            <a:ext cx="380880" cy="152280"/>
            <a:chOff x="5257800" y="2590920"/>
            <a:chExt cx="380880" cy="152280"/>
          </a:xfrm>
        </p:grpSpPr>
        <p:sp>
          <p:nvSpPr>
            <p:cNvPr id="346" name="直接连接符 46102"/>
            <p:cNvSpPr/>
            <p:nvPr/>
          </p:nvSpPr>
          <p:spPr>
            <a:xfrm flipH="1">
              <a:off x="5257800" y="2590920"/>
              <a:ext cx="380880" cy="1522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5257800" y="2590920"/>
              <a:ext cx="3808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8" name="文本框 46103"/>
          <p:cNvSpPr/>
          <p:nvPr/>
        </p:nvSpPr>
        <p:spPr>
          <a:xfrm>
            <a:off x="31240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文本框 46104"/>
          <p:cNvSpPr/>
          <p:nvPr/>
        </p:nvSpPr>
        <p:spPr>
          <a:xfrm>
            <a:off x="51814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文本框 46105"/>
          <p:cNvSpPr/>
          <p:nvPr/>
        </p:nvSpPr>
        <p:spPr>
          <a:xfrm>
            <a:off x="6248520" y="1752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文本框 46106"/>
          <p:cNvSpPr/>
          <p:nvPr/>
        </p:nvSpPr>
        <p:spPr>
          <a:xfrm>
            <a:off x="1981080" y="335268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请回答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对于人体获得能量来说，能量损失最少的途径是                  ，因为                                               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图中的三条渠道中，能量流入人体最少的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。如流经该途径的总能量为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则流入人体的能量最低值约为                                        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438280" y="4648320"/>
            <a:ext cx="1219320" cy="360"/>
            <a:chOff x="2438280" y="4648320"/>
            <a:chExt cx="1219320" cy="360"/>
          </a:xfrm>
        </p:grpSpPr>
        <p:sp>
          <p:nvSpPr>
            <p:cNvPr id="353" name="直接连接符 46107"/>
            <p:cNvSpPr/>
            <p:nvPr/>
          </p:nvSpPr>
          <p:spPr>
            <a:xfrm>
              <a:off x="2438280" y="4648320"/>
              <a:ext cx="121932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2438280" y="464832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648320" y="4648320"/>
            <a:ext cx="3504960" cy="360"/>
            <a:chOff x="4648320" y="4648320"/>
            <a:chExt cx="3504960" cy="360"/>
          </a:xfrm>
        </p:grpSpPr>
        <p:sp>
          <p:nvSpPr>
            <p:cNvPr id="356" name="直接连接符 46108"/>
            <p:cNvSpPr/>
            <p:nvPr/>
          </p:nvSpPr>
          <p:spPr>
            <a:xfrm>
              <a:off x="4648320" y="4648320"/>
              <a:ext cx="350496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4648320" y="4648320"/>
              <a:ext cx="3504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8610480" y="5181480"/>
            <a:ext cx="533520" cy="360"/>
            <a:chOff x="8610480" y="5181480"/>
            <a:chExt cx="533520" cy="360"/>
          </a:xfrm>
        </p:grpSpPr>
        <p:sp>
          <p:nvSpPr>
            <p:cNvPr id="359" name="直接连接符 46109"/>
            <p:cNvSpPr/>
            <p:nvPr/>
          </p:nvSpPr>
          <p:spPr>
            <a:xfrm>
              <a:off x="8610480" y="5181480"/>
              <a:ext cx="53352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8610480" y="518148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905120" y="5715000"/>
            <a:ext cx="685800" cy="360"/>
            <a:chOff x="1905120" y="5715000"/>
            <a:chExt cx="685800" cy="360"/>
          </a:xfrm>
        </p:grpSpPr>
        <p:sp>
          <p:nvSpPr>
            <p:cNvPr id="362" name="直接连接符 46110"/>
            <p:cNvSpPr/>
            <p:nvPr/>
          </p:nvSpPr>
          <p:spPr>
            <a:xfrm>
              <a:off x="1905120" y="5715000"/>
              <a:ext cx="68580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1905120" y="57150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962520" y="6095880"/>
            <a:ext cx="2819160" cy="360"/>
            <a:chOff x="3962520" y="6095880"/>
            <a:chExt cx="2819160" cy="360"/>
          </a:xfrm>
        </p:grpSpPr>
        <p:sp>
          <p:nvSpPr>
            <p:cNvPr id="365" name="直接连接符 46111"/>
            <p:cNvSpPr/>
            <p:nvPr/>
          </p:nvSpPr>
          <p:spPr>
            <a:xfrm>
              <a:off x="3962520" y="6095880"/>
              <a:ext cx="281916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3962520" y="6095880"/>
              <a:ext cx="2819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67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0B57-EE89-46C1-AF7D-0E29E40D6D0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学习目标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识记：生态系统的能量流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理解：生态系统的主要功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             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生态系统的物质循环的概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             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碳的循环途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             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能量流动和物质循环的关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D18-EEE5-46FA-9999-FEC46B85EA9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057040" y="2743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8.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下图为某生态系统的食物网的示意图，请据图回答下列问题：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）该食物网中，含能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量最多的生物种群是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）该食物网中，若只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保留一条食物链，那么保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留          ，可使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F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含有的数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量最多。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）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在生态系统中属于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，它在完成生态系统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功能中的重要作用是                                  。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）从生态因素的角度看，存在于无机环境中的有毒物质，经          渠道，逐渐浓缩，因此          越高的生物受害越大。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）能量流经生态系统各营养级的特点是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514600" y="2971800"/>
            <a:ext cx="838080" cy="360"/>
            <a:chOff x="2514600" y="2971800"/>
            <a:chExt cx="838080" cy="360"/>
          </a:xfrm>
        </p:grpSpPr>
        <p:sp>
          <p:nvSpPr>
            <p:cNvPr id="374" name="直接连接符 47106"/>
            <p:cNvSpPr/>
            <p:nvPr/>
          </p:nvSpPr>
          <p:spPr>
            <a:xfrm>
              <a:off x="2514600" y="2971800"/>
              <a:ext cx="83808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2514600" y="29718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133720" y="4267080"/>
            <a:ext cx="685800" cy="360"/>
            <a:chOff x="2133720" y="4267080"/>
            <a:chExt cx="685800" cy="360"/>
          </a:xfrm>
        </p:grpSpPr>
        <p:sp>
          <p:nvSpPr>
            <p:cNvPr id="377" name="直接连接符 47107"/>
            <p:cNvSpPr/>
            <p:nvPr/>
          </p:nvSpPr>
          <p:spPr>
            <a:xfrm>
              <a:off x="2133720" y="4267080"/>
              <a:ext cx="68580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2133720" y="42670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410080" y="4648320"/>
            <a:ext cx="2971800" cy="360"/>
            <a:chOff x="5410080" y="4648320"/>
            <a:chExt cx="2971800" cy="360"/>
          </a:xfrm>
        </p:grpSpPr>
        <p:sp>
          <p:nvSpPr>
            <p:cNvPr id="380" name="直接连接符 47108"/>
            <p:cNvSpPr/>
            <p:nvPr/>
          </p:nvSpPr>
          <p:spPr>
            <a:xfrm>
              <a:off x="5410080" y="4648320"/>
              <a:ext cx="297180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5410080" y="464832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334120" y="5486400"/>
            <a:ext cx="761760" cy="360"/>
            <a:chOff x="5334120" y="5486400"/>
            <a:chExt cx="761760" cy="360"/>
          </a:xfrm>
        </p:grpSpPr>
        <p:sp>
          <p:nvSpPr>
            <p:cNvPr id="383" name="直接连接符 47109"/>
            <p:cNvSpPr/>
            <p:nvPr/>
          </p:nvSpPr>
          <p:spPr>
            <a:xfrm>
              <a:off x="5334120" y="5486400"/>
              <a:ext cx="76176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5334120" y="54864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895480" y="5943600"/>
            <a:ext cx="762120" cy="360"/>
            <a:chOff x="2895480" y="5943600"/>
            <a:chExt cx="762120" cy="360"/>
          </a:xfrm>
        </p:grpSpPr>
        <p:sp>
          <p:nvSpPr>
            <p:cNvPr id="386" name="直接连接符 47110"/>
            <p:cNvSpPr/>
            <p:nvPr/>
          </p:nvSpPr>
          <p:spPr>
            <a:xfrm>
              <a:off x="2895480" y="5943600"/>
              <a:ext cx="76212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2895480" y="594360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7800" y="1676520"/>
            <a:ext cx="533520" cy="360"/>
            <a:chOff x="5257800" y="1676520"/>
            <a:chExt cx="533520" cy="360"/>
          </a:xfrm>
        </p:grpSpPr>
        <p:sp>
          <p:nvSpPr>
            <p:cNvPr id="389" name="直接连接符 47111"/>
            <p:cNvSpPr/>
            <p:nvPr/>
          </p:nvSpPr>
          <p:spPr>
            <a:xfrm>
              <a:off x="5257800" y="1676520"/>
              <a:ext cx="53352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5257800" y="16765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91" name="文本框 47112"/>
          <p:cNvSpPr/>
          <p:nvPr/>
        </p:nvSpPr>
        <p:spPr>
          <a:xfrm>
            <a:off x="693432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           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文本框 47113"/>
          <p:cNvSpPr/>
          <p:nvPr/>
        </p:nvSpPr>
        <p:spPr>
          <a:xfrm>
            <a:off x="6172200" y="2133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      C                     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文本框 47114"/>
          <p:cNvSpPr/>
          <p:nvPr/>
        </p:nvSpPr>
        <p:spPr>
          <a:xfrm>
            <a:off x="6934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             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477120" y="2362320"/>
            <a:ext cx="457200" cy="360"/>
            <a:chOff x="6477120" y="2362320"/>
            <a:chExt cx="457200" cy="360"/>
          </a:xfrm>
        </p:grpSpPr>
        <p:sp>
          <p:nvSpPr>
            <p:cNvPr id="395" name="直接连接符 47115"/>
            <p:cNvSpPr/>
            <p:nvPr/>
          </p:nvSpPr>
          <p:spPr>
            <a:xfrm>
              <a:off x="6477120" y="2362320"/>
              <a:ext cx="45720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6477120" y="23623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238880" y="2362320"/>
            <a:ext cx="1447920" cy="360"/>
            <a:chOff x="7238880" y="2362320"/>
            <a:chExt cx="1447920" cy="360"/>
          </a:xfrm>
        </p:grpSpPr>
        <p:sp>
          <p:nvSpPr>
            <p:cNvPr id="398" name="直接连接符 47116"/>
            <p:cNvSpPr/>
            <p:nvPr/>
          </p:nvSpPr>
          <p:spPr>
            <a:xfrm>
              <a:off x="7238880" y="2362320"/>
              <a:ext cx="144792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7238880" y="236232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476760" y="1599840"/>
            <a:ext cx="533520" cy="685800"/>
            <a:chOff x="6476760" y="1599840"/>
            <a:chExt cx="533520" cy="685800"/>
          </a:xfrm>
        </p:grpSpPr>
        <p:sp>
          <p:nvSpPr>
            <p:cNvPr id="401" name="直接连接符 47117"/>
            <p:cNvSpPr/>
            <p:nvPr/>
          </p:nvSpPr>
          <p:spPr>
            <a:xfrm flipV="1">
              <a:off x="6477120" y="1599840"/>
              <a:ext cx="533160" cy="68580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 rot="10800000">
              <a:off x="6476760" y="1599840"/>
              <a:ext cx="5331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7238880" y="1447920"/>
            <a:ext cx="838440" cy="360"/>
            <a:chOff x="7238880" y="1447920"/>
            <a:chExt cx="838440" cy="360"/>
          </a:xfrm>
        </p:grpSpPr>
        <p:sp>
          <p:nvSpPr>
            <p:cNvPr id="404" name="直接连接符 47118"/>
            <p:cNvSpPr/>
            <p:nvPr/>
          </p:nvSpPr>
          <p:spPr>
            <a:xfrm>
              <a:off x="7238880" y="1447920"/>
              <a:ext cx="83844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7238880" y="144792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381880" y="1447920"/>
            <a:ext cx="381240" cy="761760"/>
            <a:chOff x="8381880" y="1447920"/>
            <a:chExt cx="381240" cy="761760"/>
          </a:xfrm>
        </p:grpSpPr>
        <p:sp>
          <p:nvSpPr>
            <p:cNvPr id="407" name="直接连接符 47119"/>
            <p:cNvSpPr/>
            <p:nvPr/>
          </p:nvSpPr>
          <p:spPr>
            <a:xfrm>
              <a:off x="8381880" y="1447920"/>
              <a:ext cx="381240" cy="76176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8381880" y="1447920"/>
              <a:ext cx="38124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476760" y="1599840"/>
            <a:ext cx="1524240" cy="762120"/>
            <a:chOff x="6476760" y="1599840"/>
            <a:chExt cx="1524240" cy="762120"/>
          </a:xfrm>
        </p:grpSpPr>
        <p:sp>
          <p:nvSpPr>
            <p:cNvPr id="410" name="直接连接符 47120"/>
            <p:cNvSpPr/>
            <p:nvPr/>
          </p:nvSpPr>
          <p:spPr>
            <a:xfrm flipV="1">
              <a:off x="6477120" y="1599840"/>
              <a:ext cx="1523880" cy="76212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 rot="10800000">
              <a:off x="6476760" y="1599840"/>
              <a:ext cx="15238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400800" y="2514600"/>
            <a:ext cx="533520" cy="609480"/>
            <a:chOff x="6400800" y="2514600"/>
            <a:chExt cx="533520" cy="609480"/>
          </a:xfrm>
        </p:grpSpPr>
        <p:sp>
          <p:nvSpPr>
            <p:cNvPr id="413" name="直接连接符 47121"/>
            <p:cNvSpPr/>
            <p:nvPr/>
          </p:nvSpPr>
          <p:spPr>
            <a:xfrm>
              <a:off x="6400800" y="2514600"/>
              <a:ext cx="533520" cy="6094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400800" y="2514600"/>
              <a:ext cx="5335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086240" y="2514600"/>
            <a:ext cx="360" cy="533520"/>
            <a:chOff x="7086240" y="2514600"/>
            <a:chExt cx="360" cy="533520"/>
          </a:xfrm>
        </p:grpSpPr>
        <p:sp>
          <p:nvSpPr>
            <p:cNvPr id="416" name="直接连接符 47122"/>
            <p:cNvSpPr/>
            <p:nvPr/>
          </p:nvSpPr>
          <p:spPr>
            <a:xfrm flipV="1">
              <a:off x="7086600" y="2514600"/>
              <a:ext cx="0" cy="53352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7086240" y="25146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238520" y="1676160"/>
            <a:ext cx="838800" cy="1523880"/>
            <a:chOff x="7238520" y="1676160"/>
            <a:chExt cx="838800" cy="1523880"/>
          </a:xfrm>
        </p:grpSpPr>
        <p:sp>
          <p:nvSpPr>
            <p:cNvPr id="419" name="直接连接符 47123"/>
            <p:cNvSpPr/>
            <p:nvPr/>
          </p:nvSpPr>
          <p:spPr>
            <a:xfrm flipV="1">
              <a:off x="7238880" y="1676160"/>
              <a:ext cx="838440" cy="15238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 rot="10800000">
              <a:off x="7238520" y="1676160"/>
              <a:ext cx="83844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315200" y="3200400"/>
            <a:ext cx="838080" cy="360"/>
            <a:chOff x="7315200" y="3200400"/>
            <a:chExt cx="838080" cy="360"/>
          </a:xfrm>
        </p:grpSpPr>
        <p:sp>
          <p:nvSpPr>
            <p:cNvPr id="422" name="直接连接符 47124"/>
            <p:cNvSpPr/>
            <p:nvPr/>
          </p:nvSpPr>
          <p:spPr>
            <a:xfrm>
              <a:off x="7315200" y="3200400"/>
              <a:ext cx="83808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7315200" y="32004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8305560" y="1676520"/>
            <a:ext cx="360" cy="1371600"/>
            <a:chOff x="8305560" y="1676520"/>
            <a:chExt cx="360" cy="1371600"/>
          </a:xfrm>
        </p:grpSpPr>
        <p:sp>
          <p:nvSpPr>
            <p:cNvPr id="425" name="直接连接符 47125"/>
            <p:cNvSpPr/>
            <p:nvPr/>
          </p:nvSpPr>
          <p:spPr>
            <a:xfrm flipV="1">
              <a:off x="8305920" y="1676520"/>
              <a:ext cx="0" cy="137160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 rot="10800000">
              <a:off x="8305560" y="167652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458200" y="2590560"/>
            <a:ext cx="380880" cy="609480"/>
            <a:chOff x="8458200" y="2590560"/>
            <a:chExt cx="380880" cy="609480"/>
          </a:xfrm>
        </p:grpSpPr>
        <p:sp>
          <p:nvSpPr>
            <p:cNvPr id="428" name="直接连接符 47126"/>
            <p:cNvSpPr/>
            <p:nvPr/>
          </p:nvSpPr>
          <p:spPr>
            <a:xfrm flipV="1">
              <a:off x="8458200" y="2590560"/>
              <a:ext cx="380880" cy="6094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8458200" y="2590560"/>
              <a:ext cx="38088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905120" y="6858000"/>
            <a:ext cx="6172200" cy="360"/>
            <a:chOff x="1905120" y="6858000"/>
            <a:chExt cx="6172200" cy="360"/>
          </a:xfrm>
        </p:grpSpPr>
        <p:sp>
          <p:nvSpPr>
            <p:cNvPr id="431" name="直接连接符 47127"/>
            <p:cNvSpPr/>
            <p:nvPr/>
          </p:nvSpPr>
          <p:spPr>
            <a:xfrm>
              <a:off x="1905120" y="6858000"/>
              <a:ext cx="617220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905120" y="6858000"/>
              <a:ext cx="6172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33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A4C8-447F-4047-8CB2-A0D40368E76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51203"/>
          <p:cNvSpPr/>
          <p:nvPr/>
        </p:nvSpPr>
        <p:spPr>
          <a:xfrm>
            <a:off x="1981080" y="2819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生态系统的功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文本框 51205"/>
          <p:cNvSpPr/>
          <p:nvPr/>
        </p:nvSpPr>
        <p:spPr>
          <a:xfrm>
            <a:off x="525780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能量流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文本框 51206"/>
          <p:cNvSpPr/>
          <p:nvPr/>
        </p:nvSpPr>
        <p:spPr>
          <a:xfrm>
            <a:off x="5257800" y="3733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物质循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左大括号 51207"/>
          <p:cNvSpPr/>
          <p:nvPr/>
        </p:nvSpPr>
        <p:spPr>
          <a:xfrm>
            <a:off x="4952880" y="228600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7CAA-BD0D-4493-935C-383B892BE59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1.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生态系统的能量流动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阅读思考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⒈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生态系统的能量来源是什么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能量流动的起点是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3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流经生态系统的总能量是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通过什么方式进入生态系统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各营养级能量的来源是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各营养级能量的去路有哪些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9D80-5175-4E86-9A0E-E1BE081E6B6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学生回答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文本框 14341"/>
          <p:cNvSpPr/>
          <p:nvPr/>
        </p:nvSpPr>
        <p:spPr>
          <a:xfrm>
            <a:off x="2286000" y="1219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生态系统的能量来源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文本框 14343"/>
          <p:cNvSpPr/>
          <p:nvPr/>
        </p:nvSpPr>
        <p:spPr>
          <a:xfrm>
            <a:off x="5867280" y="1219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太阳光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文本框 14344"/>
          <p:cNvSpPr/>
          <p:nvPr/>
        </p:nvSpPr>
        <p:spPr>
          <a:xfrm>
            <a:off x="2362320" y="1905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能量流动的起点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文本框 14345"/>
          <p:cNvSpPr/>
          <p:nvPr/>
        </p:nvSpPr>
        <p:spPr>
          <a:xfrm>
            <a:off x="5257800" y="1905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产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文本框 14346"/>
          <p:cNvSpPr/>
          <p:nvPr/>
        </p:nvSpPr>
        <p:spPr>
          <a:xfrm>
            <a:off x="2362320" y="2590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流经生态系统的总能量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文本框 14348"/>
          <p:cNvSpPr/>
          <p:nvPr/>
        </p:nvSpPr>
        <p:spPr>
          <a:xfrm>
            <a:off x="6019920" y="2514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产者所固定的太阳能的总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文本框 14349"/>
          <p:cNvSpPr/>
          <p:nvPr/>
        </p:nvSpPr>
        <p:spPr>
          <a:xfrm>
            <a:off x="243828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来源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左大括号 14350"/>
          <p:cNvSpPr/>
          <p:nvPr/>
        </p:nvSpPr>
        <p:spPr>
          <a:xfrm>
            <a:off x="3733920" y="3352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文本框 14351"/>
          <p:cNvSpPr/>
          <p:nvPr/>
        </p:nvSpPr>
        <p:spPr>
          <a:xfrm>
            <a:off x="3962520" y="32767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生产者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太阳光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文本框 14352"/>
          <p:cNvSpPr/>
          <p:nvPr/>
        </p:nvSpPr>
        <p:spPr>
          <a:xfrm>
            <a:off x="3962520" y="3733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消费者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前一营养级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文本框 14353"/>
          <p:cNvSpPr/>
          <p:nvPr/>
        </p:nvSpPr>
        <p:spPr>
          <a:xfrm>
            <a:off x="3962520" y="4267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分解者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前面各营养级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文本框 14354"/>
          <p:cNvSpPr/>
          <p:nvPr/>
        </p:nvSpPr>
        <p:spPr>
          <a:xfrm>
            <a:off x="2438280" y="5410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去路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左大括号 14356"/>
          <p:cNvSpPr/>
          <p:nvPr/>
        </p:nvSpPr>
        <p:spPr>
          <a:xfrm>
            <a:off x="3657600" y="51055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文本框 14357"/>
          <p:cNvSpPr/>
          <p:nvPr/>
        </p:nvSpPr>
        <p:spPr>
          <a:xfrm>
            <a:off x="3962520" y="5029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呼吸作用消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文本框 14358"/>
          <p:cNvSpPr/>
          <p:nvPr/>
        </p:nvSpPr>
        <p:spPr>
          <a:xfrm>
            <a:off x="3962520" y="5562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被下一营养级的生物所利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文本框 14359"/>
          <p:cNvSpPr/>
          <p:nvPr/>
        </p:nvSpPr>
        <p:spPr>
          <a:xfrm>
            <a:off x="3962520" y="61722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被分解者所利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A235-2018-48C5-A9D8-6A0FC770847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能量流动的特点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33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单向流动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逐级递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172200" y="2895480"/>
            <a:ext cx="360" cy="360"/>
            <a:chOff x="6172200" y="2895480"/>
            <a:chExt cx="360" cy="360"/>
          </a:xfrm>
        </p:grpSpPr>
        <p:sp>
          <p:nvSpPr>
            <p:cNvPr id="180" name="直接连接符 16393"/>
            <p:cNvSpPr/>
            <p:nvPr/>
          </p:nvSpPr>
          <p:spPr>
            <a:xfrm>
              <a:off x="6172200" y="2895480"/>
              <a:ext cx="0" cy="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17220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2" name="文本框 16411"/>
          <p:cNvSpPr/>
          <p:nvPr/>
        </p:nvSpPr>
        <p:spPr>
          <a:xfrm>
            <a:off x="1981080" y="472428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ecff"/>
                </a:solidFill>
                <a:latin typeface="Times New Roman"/>
                <a:ea typeface="华文行楷"/>
              </a:rPr>
              <a:t>能量金字塔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文本框 16412"/>
          <p:cNvSpPr/>
          <p:nvPr/>
        </p:nvSpPr>
        <p:spPr>
          <a:xfrm>
            <a:off x="2057400" y="3657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传递效率：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10%~20%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2F66-5E75-4428-955F-C196281651F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研究目的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设法调整生态系统的能量流动关系，使能量流向对人类最有益的部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0F2C-8F73-4317-90CD-E12549E9F96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2.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生态系统的物质循环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概念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特点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文本框 20483"/>
          <p:cNvSpPr/>
          <p:nvPr/>
        </p:nvSpPr>
        <p:spPr>
          <a:xfrm>
            <a:off x="342900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文本框 20484"/>
          <p:cNvSpPr/>
          <p:nvPr/>
        </p:nvSpPr>
        <p:spPr>
          <a:xfrm>
            <a:off x="3581280" y="23623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反复出现，循环流动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文本框 20485"/>
          <p:cNvSpPr/>
          <p:nvPr/>
        </p:nvSpPr>
        <p:spPr>
          <a:xfrm>
            <a:off x="2057400" y="38862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碳循环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文本框 20486"/>
          <p:cNvSpPr/>
          <p:nvPr/>
        </p:nvSpPr>
        <p:spPr>
          <a:xfrm>
            <a:off x="3505320" y="1752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物质、范围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22F0-F10B-47E3-AD7F-8ADD4C5A04D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-3812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阅读思考题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碳在无机环境和生物群落中存在的形式 分别是什么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碳在无机环境和生物群落之间以什么形式进行循环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碳从无机环境通过什么生理过程进入生物群落？主要是什么生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过程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碳从生物群落通过什么生理过程返回到无机环境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日期占位符 1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灯片编号占位符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CFF7-0738-4452-922F-41C477CB53C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2:15Z</dcterms:created>
  <dc:creator/>
  <dc:description/>
  <cp:keywords>生态 系统 功能</cp:keywords>
  <dc:language>en-US</dc:language>
  <cp:lastModifiedBy>An</cp:lastModifiedBy>
  <dcterms:modified xsi:type="dcterms:W3CDTF">2016-05-01T00:52:1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