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TYPE.WAV" ContentType="audio/x-wav"/>
  <Override PartName="/ppt/media/CAMERA.WAV" ContentType="audio/x-wav"/>
  <Override PartName="/ppt/media/image4.wmf" ContentType="image/x-wmf"/>
  <Override PartName="/ppt/media/LASER.WAV" ContentType="audio/x-wav"/>
  <Override PartName="/ppt/media/image2.wmf" ContentType="image/x-wmf"/>
  <Override PartName="/ppt/media/image3.png" ContentType="image/png"/>
  <Override PartName="/ppt/media/WHOOSH.WAV" ContentType="audio/x-wav"/>
  <Override PartName="/ppt/media/image5.wmf" ContentType="image/x-wmf"/>
  <Override PartName="/ppt/media/image7.jpeg" ContentType="image/jpe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076D-2A27-4D8D-95D0-29044A1E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D4AB-B937-409F-BDAF-D3920DAE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239-D4F3-41FA-B2E3-DF5F844B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2558-A906-46D6-A340-27AB442E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1C98-F3B4-4DC1-956E-DD01A02A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8155-3504-4306-9475-DB95AE9C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FC1F-F09B-45FA-B02E-3A5508AC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C524-0DF1-4034-BB3A-22B9A21C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8423-E0CF-4CD2-88A0-4864ABE2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DE38-90AB-4CBB-8B81-4A2575E6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8DA6-5A33-40FC-BFA9-0F14EABC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711F-6871-4845-8B80-11F6F88C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3468-FAD3-4D2A-A7FE-E0C502DB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0BAC-88BF-4CB2-AD2B-B86AF70F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CAA4-5450-4E68-904F-8C874592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6C22-729D-4E1E-AA10-439C470A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2B22-691E-4141-8FB6-F0D3018A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FEDA8-8090-4F98-8CB6-B110215C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0143C-2EFA-47E8-92EE-7AF9B9F8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3810F-FF54-4478-BD5A-3DF76781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9D61B-F0BD-4E2A-8D6F-7BC416DB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D13C0-F27E-43B8-8E73-E0AEF58D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A45-9912-4543-81F5-C0656C0E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ACCEA-3F41-4577-B604-C5EE54FB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2D1BF-7329-4F7A-9FD7-E094EA43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4B5F2-80B5-40A7-A37C-62FD9A4F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3557E-2A31-4EB6-AADB-B7ED8555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23D38-7FE5-422B-B79F-4ACB13EA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409D7-026E-47D0-AC39-A7101F46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1D2AE-7FD1-4102-AB64-72142A23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7A83-2F8E-4C76-BC78-D13E7ABE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EE2-9FFB-4726-9F99-E5E85DD7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F8A-8EA5-4CC3-9E30-717DF4CF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A930-C084-4D90-A2C5-B196F941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F899-C88F-4FFE-9086-007CBC30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491-47A1-450F-879C-5DC72F35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204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组合 205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矩形 2051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矩形 2052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组合 2053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图片 2054" descr="grapes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组合 2055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矩形 2056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矩形 2057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矩形 2058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106F-8B67-42F7-B436-F5101773C2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743D-E9BD-45C3-8495-7D82C8E0203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4CA3-F358-4F73-9E33-4C74FCB79F1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组合 307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3" name="组合 307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94" name="矩形 3075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5" name="矩形 3076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96" name="图片 3077" descr="grapes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组合 3078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98" name="矩形 3079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9" name="矩形 3080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00" name="矩形 3081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C7EE-9C43-4F7E-9BBB-3EBD665A97ED}" type="slidenum">
              <a:rPr b="0" lang="zh-CN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03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43" name="矩形 8195"/>
          <p:cNvSpPr/>
          <p:nvPr/>
        </p:nvSpPr>
        <p:spPr>
          <a:xfrm>
            <a:off x="1143000" y="1371600"/>
            <a:ext cx="80010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Impact"/>
                <a:ea typeface="楷体_GB2312"/>
              </a:rPr>
              <a:t>有“礼”走遍天下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d60093"/>
                </a:solidFill>
                <a:latin typeface="Impact"/>
              </a:rPr>
              <a:t>                     </a:t>
            </a:r>
            <a:r>
              <a:rPr b="1" lang="zh-CN" sz="4400" spc="-1" strike="noStrike">
                <a:solidFill>
                  <a:srgbClr val="d60093"/>
                </a:solidFill>
                <a:latin typeface="Impact"/>
              </a:rPr>
              <a:t>——</a:t>
            </a:r>
            <a:r>
              <a:rPr b="1" lang="zh-CN" sz="4400" spc="-1" strike="noStrike">
                <a:solidFill>
                  <a:srgbClr val="d60093"/>
                </a:solidFill>
                <a:latin typeface="Impact"/>
              </a:rPr>
              <a:t>商务礼仪训练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Impact"/>
              </a:rPr>
              <a:t>     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Impact"/>
              </a:rPr>
              <a:t>                                 </a:t>
            </a:r>
            <a:r>
              <a:rPr b="1" lang="en-US" sz="4400" spc="-1" strike="noStrike">
                <a:solidFill>
                  <a:srgbClr val="d60093"/>
                </a:solidFill>
                <a:latin typeface="Impact"/>
              </a:rPr>
              <a:t>XXX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Impact"/>
              </a:rPr>
              <a:t>                                 </a:t>
            </a:r>
            <a:r>
              <a:rPr b="0" lang="en-US" sz="3200" spc="-1" strike="noStrike">
                <a:solidFill>
                  <a:srgbClr val="d60093"/>
                </a:solidFill>
                <a:latin typeface="Impact"/>
              </a:rPr>
              <a:t>20XX</a:t>
            </a:r>
            <a:r>
              <a:rPr b="0" lang="zh-CN" sz="3200" spc="-1" strike="noStrike">
                <a:solidFill>
                  <a:srgbClr val="d60093"/>
                </a:solidFill>
                <a:latin typeface="Impact"/>
              </a:rPr>
              <a:t>年</a:t>
            </a:r>
            <a:r>
              <a:rPr b="0" lang="en-US" sz="3200" spc="-1" strike="noStrike">
                <a:solidFill>
                  <a:srgbClr val="d60093"/>
                </a:solidFill>
                <a:latin typeface="Impact"/>
              </a:rPr>
              <a:t>X</a:t>
            </a:r>
            <a:r>
              <a:rPr b="0" lang="zh-CN" sz="3200" spc="-1" strike="noStrike">
                <a:solidFill>
                  <a:srgbClr val="d60093"/>
                </a:solidFill>
                <a:latin typeface="Impact"/>
              </a:rPr>
              <a:t>月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一、仪容、穿着与姿势</a:t>
            </a:r>
            <a:endParaRPr b="0" lang="en-US" sz="5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头发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洁净、整齐，无头屑，不染发，不  做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奇异发型。男性不留长发，发不盖耳；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女性发不披肩，不用华丽头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眼睛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无分泌物，无睡意，不充血，不斜视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眼镜端正、洁净明亮。 不戴墨镜或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有色眼镜。女性不画眼影，不用人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造睫毛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耳朵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内外干净。女性不戴耳环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鼻子：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鼻孔干净。 鼻毛不外露。打喷嚏时注意的 </a:t>
            </a: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                 事项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胡子：每天刮胡；不留长胡子，不留八字胡或其 </a:t>
            </a: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                  他怪状胡子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嘴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牙齿洁白，口中无异味，嘴角无泡沫，会客                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时不嚼口香糖等食物。女性不用深色或艳丽        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口红。不吃蒜、葱等易产生异味的食物，上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班不许吃零食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2193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脸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洁净。女性必须化淡妆，不许浓妆艳抹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脖子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戴项链或其他饰物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手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洁净。指甲整齐，不留长指甲。不涂指甲油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除结婚戒指、手表以外，不戴手镯等其它饰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物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帽子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整洁、端正，颜色与形状符合自己的年龄     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与 身份。进入室内要脱帽。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9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衬衣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领口与袖口保持洁净。视情况最多只能松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第一颗钮扣。不要挽袖子。质地、款式与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颜色与其他服饰相匹配，并符合自己的年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龄、身份和公司的个性。</a:t>
            </a: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领带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端正整洁，不歪不皱。质地、款式与颜色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与其他服饰匹配，符合自己的年龄、身份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和公司的个性。不宜过分华丽和耀眼</a:t>
            </a:r>
            <a:br>
              <a:rPr sz="3600"/>
            </a:b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西装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整洁笔挺，背部无头发和头屑。不打皱，        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不过分华丽。与衬衣、领带和西裤匹配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与人谈话或打招呼时，将第一个纽扣扣上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上口袋不要插笔，所有口袋不要因放置钱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包、名片、香烟、打火机等物品而鼓起来。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9528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2590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胸饰与女性服装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胸卡、徽章佩带端正，不要佩带与工作无关的胸饰。胸部不宜袒露。服装整洁无皱。视场合穿职业装、晚装、休闲装，不穿艳装、透明装、无袖装和超短裙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皮带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高于肚脐，松紧适度，不要选用怪异的皮带头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鞋袜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鞋袜搭配得当。系好鞋带。鞋面洁净亮泽，无尘土和污物，不宜钉铁掌，鞋跟不宜过高、过厚和怪异。袜子干净无异味，不露出腿毛。女性穿肉色袜，袜子不要褪落和脱丝。男性穿深色袜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528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敲门、退出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、站门前正中一步远，以右手中指敲门三下（每次间隔一秒），视场合说“您好”或自报家门；如无人应答，间隔五秒，再重复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、退出时，走到门口要转身面对客人，倒退出门，并将门轻轻关上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8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站    立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男性站姿：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式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双脚自然打开，与肩同宽；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式    双脚靠拢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度；双手交叉握于小腹前或放背后。当下列人员走来时应起立：客户或客人；上级和职位比自己高的人；与自己平级的女职员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女性站姿 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式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双脚靠拢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度；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式   双脚靠拢成丁字步，膝盖打直，双手握于腹前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对象 140289" descr=""/>
          <p:cNvPicPr/>
          <p:nvPr/>
        </p:nvPicPr>
        <p:blipFill>
          <a:blip r:embed="rId1"/>
          <a:stretch/>
        </p:blipFill>
        <p:spPr>
          <a:xfrm>
            <a:off x="3962520" y="1981080"/>
            <a:ext cx="1904760" cy="4876920"/>
          </a:xfrm>
          <a:prstGeom prst="rect">
            <a:avLst/>
          </a:prstGeom>
          <a:ln w="0">
            <a:noFill/>
          </a:ln>
        </p:spPr>
      </p:pic>
      <p:sp>
        <p:nvSpPr>
          <p:cNvPr id="193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就  座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5280" y="99036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男性座姿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般从椅子的左侧入座，坐凳子的三分之一，挺直端正，或略为前倾，一般不要后仰、后靠，双手舒展或轻握于膝盖上，双脚平行，间隔一个拳头的距离，大腿与小腿成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9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度。如坐在深而软的沙发上，应坐在沙发前端，不要仰靠沙发，以免鼻毛外露。忌讳：二郎腿、脱鞋、把脚放到自己的桌椅上或架到别人桌椅上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女性座姿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双脚交叉或并拢，双手轻放于膝盖上，嘴微闭，面带微笑，两眼凝视说话对象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胸部与桌面一个拳头距离，不要扒在桌上，手不要玩弄它物，不要做不雅动作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6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行    走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男士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抬头挺胸，步履稳健、自信。避免八字步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女士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背脊挺直，双脚平行前进，步履轻柔自然，避免做作。可右肩背皮包，手持文件夹置于臂膀间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走路要轻，不许小跑，遇急事可快步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许从他人中间插过，要绕行、稍为等待，急事可先礼貌提示对方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我们需要商务礼仪吗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优质服务的需要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亲和力的需要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专业化、职业化的需要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个人修炼的需要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7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手    势（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）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指引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需要用手指引某样物品或接引顾客和客人时，食指以下靠拢，拇指向内侧轻轻弯曲，指示方向。掌心向上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招手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向远距离的人打招呼时，伸出右手，右胳膊伸直高举，掌心朝着对方，轻轻摆动。不可向上级和长辈招手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手    势（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）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握手：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手要洁净、干燥和温暖。先问候再握手。伸出右手，手掌呈垂直状态，五指并用，握手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秒左右。不要用左手握手。与多人握手时，遵循先尊后卑、先长后幼、先女后男的原则。若戴手套，先脱手套再握手。切忌戴着手套握手或握完手后擦手。握手时注视对方，不要旁顾他人他物。用力要适度，切忌手脏、手湿、手凉和用力过大。与异性握手时用力轻、时间短，不可长时间握手和紧握手。掌心向上，以示谦虚和尊重，切忌掌心向下。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57440" y="11430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为表示格外尊重和亲密，可以双手与对方握手。要按顺序握手，不可越过其他人正在相握的手去同另外一个人握手。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07" name="对象 52228" descr=""/>
          <p:cNvPicPr/>
          <p:nvPr/>
        </p:nvPicPr>
        <p:blipFill>
          <a:blip r:embed="rId1"/>
          <a:stretch/>
        </p:blipFill>
        <p:spPr>
          <a:xfrm>
            <a:off x="5715000" y="3124080"/>
            <a:ext cx="3048120" cy="2430720"/>
          </a:xfrm>
          <a:prstGeom prst="rect">
            <a:avLst/>
          </a:prstGeom>
          <a:ln w="0">
            <a:noFill/>
          </a:ln>
        </p:spPr>
      </p:pic>
      <p:sp>
        <p:nvSpPr>
          <p:cNvPr id="208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鞠    躬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与客户交错而过时，面带微笑，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度鞠躬礼，头和身体自然前倾，低头比抬头慢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接送客户时，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度鞠躬礼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初见或感谢客户时，行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45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度鞠躬礼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1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送行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、道别后，视等级送到门口、电梯口、楼外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、客人走后，挥手致意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、面向客人离开方向，目送客人，直到客人消失在视线之外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4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视    线</a:t>
            </a:r>
            <a:endParaRPr b="0" lang="en-US" sz="36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视线软和，不要紧盯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与顾客交谈时，两眼视线落在对方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鼻间与双眼的三角区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恳请对方时，注视对方的双眼。切忌斜视或光顾他人他物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矩形 56325"/>
          <p:cNvSpPr/>
          <p:nvPr/>
        </p:nvSpPr>
        <p:spPr>
          <a:xfrm>
            <a:off x="2590920" y="3276720"/>
            <a:ext cx="4267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距    离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矩形 56326"/>
          <p:cNvSpPr/>
          <p:nvPr/>
        </p:nvSpPr>
        <p:spPr>
          <a:xfrm>
            <a:off x="1371600" y="3962520"/>
            <a:ext cx="6629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7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至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8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厘米（熟悉）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米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陌生）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  .  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米（站立）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0.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米（坐着）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  .  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米左右（一站一坐）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小结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相反理论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：商务礼仪与我们日常的想法、作法往往相反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三轻：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说话轻、走路轻、动作轻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当客人面，不做不雅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生活动作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：如抠耳、挖鼻、抹头、整衣、搓泥、挤青春痘、玩弄它物、随意涂划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仪容实时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整洁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简洁，实时精神饱满，实时调整自我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只将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完美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优秀、规范、修养的一面表现给客人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zh-CN" sz="5400" spc="-1" strike="noStrike">
                <a:solidFill>
                  <a:srgbClr val="660066"/>
                </a:solidFill>
                <a:latin typeface="Times New Roman"/>
              </a:rPr>
              <a:t>二、介绍、称呼、致意</a:t>
            </a:r>
            <a:endParaRPr b="0" lang="en-US" sz="5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自我介绍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在不妨碍他人工作和交际的情况下进行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介绍的内容：公司名称、职位、姓名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给对方一个自我介绍的机会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您好！我是天高集团公司总经理办公室主任，我叫李竹林。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仿宋_GB2312"/>
              </a:rPr>
              <a:t>请问，我应该怎样称呼您呢？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介绍他人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顺序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把职位低者、晚辈、男士、未婚者分别介绍给职位高者、长辈、女士和已婚者。先介绍我方人员给客方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国际惯例敬语（姓名和职位）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：王小姐，请允许我向您介绍李平董事长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介绍时不可单指指人，而应掌心朝上，拇指微微张开，指尖向上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被介绍者应面向对方。介绍完毕后与对方握手问候，如：您好！很高兴认识您！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避免对某个人特别是女性的过分赞扬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坐着时，除职位高者、长辈和女士外，应起立。但在会议、宴会进行中不必起立，被介绍人只要微笑点头示意即可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0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5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0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5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0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称    呼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94920" y="11430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国际惯例：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称男性为先生，称未婚女性为小姐，称已婚女性为女士、夫人和太太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中国特色：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同志、大爷、大叔、大妈、大娘、大哥、大姐（内地与北方）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根据行政职务、技术职称、学位、职业来称呼。如：陈总、吴局长、王教授、刘工、陈博士、曹律师、龚医生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称呼随时代而变化。服务业（酒店、餐饮）人员过去称服务员，后来称先生、小姐（如空姐），目前又趋于称服务员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培训经历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你接受过严格、标准的商务礼仪培训吗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0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致    意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点头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适合于肃静场合（图书馆、音乐厅、电影院）和特定场合（酒会、舞会）以及一方正忙时。经常见面的人相遇时，可点头相互致意，而不必用有声语言来问候。在社交场合遇见仅有一面之交者，也可相互点头致意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点头的方式：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面带微笑，头部微微向下一点即可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8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95120" y="38088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微    笑</a:t>
            </a:r>
            <a:endParaRPr b="0" lang="en-US" sz="40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94920" y="1295280"/>
            <a:ext cx="7162920" cy="4114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自然、真诚、笑不露齿，笑不出声。切忌做作和皮笑肉不笑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矩形 64517"/>
          <p:cNvSpPr/>
          <p:nvPr/>
        </p:nvSpPr>
        <p:spPr>
          <a:xfrm>
            <a:off x="3276720" y="266688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鼓    掌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矩形 64518"/>
          <p:cNvSpPr/>
          <p:nvPr/>
        </p:nvSpPr>
        <p:spPr>
          <a:xfrm>
            <a:off x="1523880" y="3581280"/>
            <a:ext cx="73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两臂抬起，张开左掌，用合拢的右手四指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拇指除外）轻拍左掌中部，节奏要平稳，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频率要一致。鼓掌时，姿态要端正，并伴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以微笑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75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660066"/>
                </a:solidFill>
                <a:latin typeface="Times New Roman"/>
              </a:rPr>
              <a:t>三、与女性交往的礼仪</a:t>
            </a:r>
            <a:endParaRPr b="0" lang="en-US" sz="5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102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 marL="233280" indent="-233280">
              <a:spcBef>
                <a:spcPts val="10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绅士风度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 marL="233280" indent="-233280">
              <a:spcBef>
                <a:spcPts val="10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ff"/>
                </a:solidFill>
                <a:latin typeface="Times New Roman"/>
              </a:rPr>
              <a:t>女士优先原则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6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75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75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行    路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并肩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女士在右（考虑安全。下同）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前后：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女士在前  （除非前面有障碍物或危险）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上楼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女士在前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下楼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女士在后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9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乘    车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给女士让座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乘坐火车和巴士时，如不拥挤，男士应先上车，接应女士或为女士找座位。到站后，男士先下，接应女士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乘出租车时，男士后上先下，拉开和关闭车门，协助女士上下车。男士坐在女士旁边，或坐在司机旁边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2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社    交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先向女主人问候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女主人走来时，应当起立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与站着的女士交谈时不能坐着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与陌生女士交谈要有分寸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5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餐    饮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餐馆约会，男士不能迟到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同时到餐馆时，女士先进门、入坐，男士在旁协助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点菜应先征求女士意见，但叫菜、卖单由男士负责（女士做东除外）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用餐时照顾身边的女士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用完餐后，协助女士拿东西，并走在前面开门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四、交换名片的礼仪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1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名片放在什么地方？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衬衣左侧口袋或西装的内侧口袋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口袋不要因为放置名片而鼓起来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不要将名片放在裤袋里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4" name="矩形 73733"/>
          <p:cNvSpPr/>
          <p:nvPr/>
        </p:nvSpPr>
        <p:spPr>
          <a:xfrm>
            <a:off x="1066680" y="4419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养成一个基本的习惯：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会客前检查和确认名片夹内是否有足够的名片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5640" y="38088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如何递交名片？</a:t>
            </a:r>
            <a:endParaRPr b="0" lang="en-US" sz="40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右手递，名片正面顺对客人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矩形 75783"/>
          <p:cNvSpPr/>
          <p:nvPr/>
        </p:nvSpPr>
        <p:spPr>
          <a:xfrm>
            <a:off x="1447920" y="38862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双手接拿，认真过目，然后放入自己名片夹的上端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同时交换名片时，可以右手递名片，左手接名片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9" name="矩形 75784"/>
          <p:cNvSpPr/>
          <p:nvPr/>
        </p:nvSpPr>
        <p:spPr>
          <a:xfrm>
            <a:off x="2057400" y="2971800"/>
            <a:ext cx="518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如何接拿名片？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0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礼仪的分类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、外交礼仪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、公务礼仪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、商务礼仪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、民间风俗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5     .  .  .  .  .  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3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外行的表现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无意识地玩弄对方的名片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黑体"/>
              </a:rPr>
              <a:t>把对方名片放入裤兜里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当场在对方名片上写备忘事情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黑体"/>
              </a:rPr>
              <a:t>先于上司向客人递交名片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3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五、会客室入座的礼仪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6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75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75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您该坐哪个位置？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9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座位安排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、以与门相对的上方为尊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、以右为尊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、以中为尊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2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六、共同乘车或电梯的礼仪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5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如何共同乘车？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88" name="对象 83972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5275440" cy="395280"/>
          </a:xfrm>
          <a:prstGeom prst="rect">
            <a:avLst/>
          </a:prstGeom>
          <a:ln w="0">
            <a:noFill/>
          </a:ln>
        </p:spPr>
      </p:pic>
      <p:pic>
        <p:nvPicPr>
          <p:cNvPr id="289" name="对象 83974" descr=""/>
          <p:cNvPicPr/>
          <p:nvPr/>
        </p:nvPicPr>
        <p:blipFill>
          <a:blip r:embed="rId2"/>
          <a:stretch/>
        </p:blipFill>
        <p:spPr>
          <a:xfrm>
            <a:off x="1676520" y="2438280"/>
            <a:ext cx="7467480" cy="3962520"/>
          </a:xfrm>
          <a:prstGeom prst="rect">
            <a:avLst/>
          </a:prstGeom>
          <a:ln w="0">
            <a:noFill/>
          </a:ln>
        </p:spPr>
      </p:pic>
      <p:sp>
        <p:nvSpPr>
          <p:cNvPr id="290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如何共乘电梯？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先按电梯，让客人先进。若客人不止一人时，可先进电梯，一手按“开”，一手按住电梯侧门，对客人礼貌地说：“请进！”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进入电梯后，按下客人要去的楼层数。侧身面对客人。如无旁人，可略做寒暄。如有他人，应主动询问去几楼，并帮忙按下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到目的地后，一手按“开”，一手做请出的动作，说：“到了，您先请！”客人走出电梯后，自己立即步出电梯，在前面引导方向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3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七、电话礼仪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6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您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接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电话吗？</a:t>
            </a:r>
            <a:endParaRPr b="0" lang="en-US" sz="40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94920" y="11430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不让铃声响得太久，应尽快接电话。若周围吵嚷，应安静后再接电话。接电话时，与话筒保持适当距离，说话声大小适度。嘴里不含东西。因为有急事或在接另一个电话而耽搁时，应表示歉意。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热情问候并报出公司或部门名称。如：“您好！天高集团！”如果对方打错电话，不要责备对方，知情时还应告诉对方正确的号码。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确认对方单位与姓名，询问来电事项，按５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１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H</a:t>
            </a: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的原则记录。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听对方讲话时不能沉默，否则对方会以为您不在听或没有兴趣。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扼要汇总和确认来电事项。谢谢对方，并表示会尽快处理。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说声“再见”，对方挂后再挂。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上班时在电话里不谈私事，不闲聊。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9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您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打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电话吗？</a:t>
            </a:r>
            <a:endParaRPr b="0" lang="en-US" sz="40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准备好电话号码，确保周围安静，嘴里不含东西，琢磨好说话内容、措词和语气语调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如无急事，非上班时间不打电话。给客户家里打电话，上午不早于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点，晚上不晚于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点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拨错号码，要向对方表示歉意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做自我介绍，扼要说明打电话的目的和事项。询问和确认对方的姓名、所在部门和职位。记录对方谈话内容并予以确认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果对方不在，而事情不重要或不保密时，可请代接电话者转告。相反，应向代接电话者询问对方的去处和联系方式，或把自己的联系方式留下，让对方回来后回电话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感谢对方或代接电话者，并有礼貌地说声“再见”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2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定义：仪容＋行为＋态度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商务礼仪要素：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态度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 －谦和、礼貌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行为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规范、严谨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仪容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－精神、简洁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您埋怨过代接电话的人吗？（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391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来电找的人不在时：告诉对方不在的理由，如出差。如对方问到，应尽量告诉他所找的人什么时间回来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礼貌地询问对方的工作单位、姓名和职位，主动询问对方是否留言，如留言，应详细记录并予以确定，并表示会尽快转达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如果对方不留言，则挂断电话。对方挂后再挂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接到抱怨和投诉电话时，要有涵养，不与对方争执，并表示尽快处理。如不是本部门的责任，应把电话转给相关部门和人士，或告诉来电者该找哪个部门，找谁和怎么找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5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您埋怨过代接电话的人吗？（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来电找的人正在接电话时，告诉对方他所找的人正在接电话，主动询问对方是留言还是等一会儿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如果留言，则记录对方的留言、单位、姓名和联系方式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如果等一会儿，则将话筒轻轻放下，通知被找的人接电话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果被叫人正在接一个重要电话，一时难以结束，则请对方过一会儿再来电话。切忌让对方莫名地久等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8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打手机的讲究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315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双向收费的情况下，说话更要简洁明了，以节约话费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先拨客户的固定电话，找不到时再拨手机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嘈杂环境中，听不清楚对方声音时要说明，并让对方过一会儿再打过来或您打过去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在公共场合打手机，说话声不要太大，以免影响他人或泄露公务与机密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特定场合（如会场、飞机上、加油站等）要关闭手机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1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八、怎样拜访客户？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4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、约定时间和地点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事先打电话说明拜访的目的，并约定拜访的时间和地点。不要在客户刚上班、快下班、异常繁忙、正在开重要会议时去拜访。也不要在客户休息和用餐时间去拜访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7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、需要做哪些准备工作？</a:t>
            </a:r>
            <a:endParaRPr b="0" lang="en-US" sz="40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阅读拜访对象的个人和公司资料。准备拜访时可能用到的资料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穿着与仪容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检查各项携带物是否齐备（名片、笔和记录本、电话本、磁卡或现金、计算器、公司和产品介绍、合同）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明确谈话主题、思路和话语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0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３、出发前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最好与客户通电话确认一下，以防临时发生变化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选好交通路线，算好时间出发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确保提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至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钟到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3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、到了客户办公大楼门前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再整装一次。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如提前到达，不要在被访公司溜达。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6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、进入室内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面带微笑，向接待员说明身份、拜访对象和目的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从容地等待接待员将自己引到会客室或受访者的办公室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如果是雨天，不要将雨具带入办公室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在会客室等候时，不要看无关的资料或在纸上图画。接待员奉茶时，要表示谢意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等候超过一刻钟，可向接待员询问有关情况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如受访者实在脱不开身，则留下自己的名片和相关资料，请接待员转交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9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6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、见到拜访对象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如拜访对象的办公室关着门，应先敲门，听到“请进”后再进入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问候、握手、交换名片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客户请人奉上茶水或咖啡时，应表示谢意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2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商务礼仪的进一步理解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方便客人，以客为本（不方便留给自 己， 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               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自我克制）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细节把握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语言策略与技巧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行为策略与技巧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7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、会    谈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注意称呼、遣词用字、语速、语气、语调。会谈过程中，如无急事，不打电话或接电话。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5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8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、告    辞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根据对方的反应和态度来确定告辞的时间和时机。说完告辞就应起身离开座位，不要久说久坐不走。感谢对方的接待。握手告辞。如办公室门原来是关闭的，出门后应轻轻把门关上。客户如要相送，应礼貌地请客户留步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8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ll dir="ld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7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九、接待预约和临时访客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41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、接待预约访客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看到客户后，微笑着打招呼。如坐着，则应立即起身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握手和交换名片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将客户引到会议室。奉茶或咖啡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会谈。会谈结束。送客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44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、接待临时访客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949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确认访客所在单位、姓名、拜访对象、拜访事宜和目的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本人无时间接待，尽量安排他人接待，不要让访客空手而归。如果暂时脱不开身，则请访客在指定地点等候，并按约定时间会见访客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看到访客后，微笑着问候，并握手和交换名片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果访客找的是本人，则直接带访客到会议室会谈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如果访客找的是其他人，则迅速联系受访对象，告之访客的所在单位、姓名和来意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依受访者的指示行事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带到会客室。奉茶或咖啡。告之受访对象何时到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将访客带到办公室，将其引导给受访对象后告退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告诉访客，受访者不在或没空接待，请访客留下名片和资料，代为转交。约定其他时间来访。表示歉意。礼貌送客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47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十、餐饮礼仪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0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、您会奉茶或咖啡？</a:t>
            </a:r>
            <a:endParaRPr b="0" lang="en-US" sz="40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准备好杯子、杯垫、托盘、奶精、糖、抹布等器具。各项器具要洁净、完好无缺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管份数多少，一律使用托盘端送。右手拿抹布，以便茶水或咖啡洒在桌面上时，可以立即擦拭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先将托盘放在桌面上，再端送给客人。若会客室关着门，应先敲门再进入。进入时面带微笑，点头示意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奉茶或咖啡的顺序：客人优先；职位高者在先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留意奉茶或咖啡的动作：双手捧杯，视状况从客人的正面或斜后方奉上。奶精和糖放在大家方便取用处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双手拿起托盘，后退一步，鞠躬或致意说一句“打扰了”，然后退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面对客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把门关上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3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、中餐礼仪（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将餐巾放在膝盖上，不可用餐巾擦脸或嘴。完餐后，将餐巾叠好，不可揉成一团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照顾他人时，要使用公共筷子和汤匙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传染病毒携带者应自觉谢绝参加餐会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喝汤用汤匙，不出声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嘴里有食物时，不张口与人交谈。嘴角和脸上不可留有食物残余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剃牙时用手挡住嘴。咳嗽、打喷嚏或打哈欠时，应转身低头用手绢或餐巾纸捂着，转回身时说声“抱歉”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说话时不可喷出唾沫，嘴角不可留有白沫。不可高声谈话，影响他人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6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、中餐礼仪（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忌用筷子敲打桌面或餐饮器具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忌往桌子对面的客人扔筷子或其他餐具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忌把筷子架在或杯子上，忌把筷子插在饭碗或菜盘里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忌讳筷子交叉放置、放反了、一头大一头小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谈话时不要挥舞筷子，也不要把筷子当牙签用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要把筷子伸到他人面前，也不要插入菜盘深处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不要翻覆挑拣，也不要使筷子在菜盘上游动，不知夹什么菜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夹菜时不要一路滴汤，筷子不要粘满了食物，也不要用嘴吮吸筷子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9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、中餐礼仪（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用双手举杯敬酒，眼镜注视对方，喝完后再举杯表示谢意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碰杯时，杯子不要高于对方的杯子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尊重对方的饮酒习惯和意愿，不以各种理由逼迫对方喝酒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不抽烟，不往地上和桌子底下扔东西。不慎摔碎餐具，应道歉并赔偿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用完餐离座时，将椅子往内紧靠着边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2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Times New Roman"/>
              </a:rPr>
              <a:t>顾客喜欢谁？</a:t>
            </a:r>
            <a:endParaRPr b="0" lang="en-US" sz="7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895480" y="2438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adies and Gentlemen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62" name="联机映像占位符 22531" descr=""/>
          <p:cNvPicPr/>
          <p:nvPr/>
        </p:nvPicPr>
        <p:blipFill>
          <a:blip r:embed="rId1"/>
          <a:stretch/>
        </p:blipFill>
        <p:spPr>
          <a:xfrm>
            <a:off x="2971800" y="3124080"/>
            <a:ext cx="3962520" cy="2590920"/>
          </a:xfrm>
          <a:prstGeom prst="rect">
            <a:avLst/>
          </a:prstGeom>
          <a:ln w="0">
            <a:noFill/>
          </a:ln>
        </p:spPr>
      </p:pic>
      <p:sp>
        <p:nvSpPr>
          <p:cNvPr id="163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75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1960" y="761760"/>
            <a:ext cx="563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、怎样吃西式自助餐？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5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95280" y="-39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原则上按照生菜、色拉、主食、甜点、水果顺序取菜，一次取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至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样。盘子如果堆得太满，既不雅观，又混淆原味。选用牛排、猪排、鱼排等食物时，须遵照西餐的礼仪食用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不要混用专用菜夹。用过的餐盘不可再用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既不可浪费，又不可抱着“捞本”和“不吃白不吃”的心态，暴饮暴食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8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、您知道西餐的基本礼仪吗？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1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餐具的使用</a:t>
            </a:r>
            <a:endParaRPr b="0" lang="en-US" sz="36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左叉固定食物，右叉切割食物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餐具由外向内取用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几道菜会放置几把餐具，每个餐具使用一次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使用完的餐具向右斜放在餐盘上，刀叉向上，刀齿朝内，握把皆向右，等待服务的侍者来收取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4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）进食的方法</a:t>
            </a:r>
            <a:endParaRPr b="0" lang="en-US" sz="40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主菜：用刀切割，一次吃一块。不可一次切完再逐一食用。口中有骨头或鱼刺时，用拇指和食指从紧闭的唇间取出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色拉：用小叉食用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面条和面包：面条用叉子卷妥食用。面包用手撕成小块放入口中，不可用嘴啃食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汤：用汤匙由内往外舀，不可将汤碗端起来喝，喝汤时不可出声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水果：用叉子取用。嘴里有果核，先轻轻吐在叉子上，再放入盘内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7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）座姿与话语</a:t>
            </a:r>
            <a:endParaRPr b="0" lang="en-US" sz="40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座姿端正，不可用嘴就碗，应将食物拿起放入口中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取用较远的东西，应请别人递过来，不要离座伸手去拿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嘴里有食物，不可谈话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说话文明，并不要影响邻座的客人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80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十一、集体外出商务礼仪注意事项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集体外出商务包括：外出考察、谈判、参展、施工、招商、招聘、设台受理业务等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客人在场时，不要内部聊天、开玩笑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遇到客户问题，不要当面指责内部同事 ，先协同商务，整体代表公司处置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注意公司现象，不做有违其它礼仪之事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离开时，收拾垃圾，座椅归位，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恢复原貌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83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6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1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6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1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6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86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0066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祝您成功！</a:t>
            </a: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女士：容貌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+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气质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男士：风度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+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学识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2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商务礼仪六忌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忌轻浮、举止粗俗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要沉稳、干练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忌张扬，正确处理个性化与标准化的关系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忌乱发脾气、说话过头、随意承诺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忌当客人面贬低、诋毁第三方（竞争对手、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前任上司、同事等）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忌自由，要约束自己、中规中距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“心到”不如“行到”，必须刻意讲究“形式”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商务礼仪与“放纵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”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风格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商务礼仪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传统的、保守的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文雅、沉稳、成熟、老练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规范、中规中距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展示教养、风度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讲究形式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放纵风格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自由奔放、张扬个性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张扬、夸张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自由、随意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充分展示个性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不局形式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0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34:33Z</dcterms:created>
  <dc:creator/>
  <dc:description/>
  <cp:keywords>商务 礼仪 训练</cp:keywords>
  <dc:language>en-US</dc:language>
  <cp:lastModifiedBy>An</cp:lastModifiedBy>
  <dcterms:modified xsi:type="dcterms:W3CDTF">2016-05-01T00:34:3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