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LASER.WAV" ContentType="audio/x-wav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0AB6-7BE8-48D5-8A58-F59D7BF6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178-9C1C-487A-AC91-E4B69DA5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326-D3E1-4410-A1D0-A7EDAE6D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E3AC-3387-40E0-958F-18154255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E408-51A7-4D2C-9ABB-5BF04048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E1F3-6C34-4161-86F6-3097DCF6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99D2-93C9-462B-9F4F-CE5122B9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0475-80D9-4432-853B-672D445D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27C5-EEC3-48D3-BB36-90AE200D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A522-06B0-4036-B6D7-FA348BA2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E5AC-3BB8-49C0-B7A4-E9ACCB94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E2A8-6BD1-45CD-B979-5208244C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5440-01E9-4276-9CBC-99406DE6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05E0-D45F-445B-B99E-89E77E56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BB38-7601-410C-9A12-D28DB5C4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85F6-3CDD-4598-9189-A11AAE11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134F-273E-4DD0-A3DC-AC91DCF1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C89E-8011-4115-9E22-3190A468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ED2C-0D24-4000-8B9D-39E59E9E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096-8081-45BF-8F11-CF1D2D30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292-B5DF-404A-B112-8EE50726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0E2-C277-4195-B9FB-4F86A305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242-D00D-45C8-98CC-ACECEFAC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2E3-A354-43E5-A8F8-7F08C3E6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66D3-8378-4645-B8B4-608D8A881A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891C-1519-4A05-9817-241B28BB490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2C13-F7A5-417C-A244-36971C0B85D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049" descr="mat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2050"/>
          <p:cNvSpPr/>
          <p:nvPr/>
        </p:nvSpPr>
        <p:spPr>
          <a:xfrm>
            <a:off x="2562120" y="251460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cc"/>
                </a:solidFill>
                <a:latin typeface="Times New Roman"/>
                <a:ea typeface="隶书"/>
              </a:rPr>
              <a:t>升学考前心理辅导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1265" descr="pansy2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5" name="矩形 11266"/>
          <p:cNvSpPr/>
          <p:nvPr/>
        </p:nvSpPr>
        <p:spPr>
          <a:xfrm>
            <a:off x="838080" y="1752480"/>
            <a:ext cx="7728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0" lang="zh-CN" sz="4800" spc="-1" strike="noStrike">
                <a:solidFill>
                  <a:srgbClr val="3333cc"/>
                </a:solidFill>
                <a:latin typeface="宋体"/>
              </a:rPr>
              <a:t>把自己的担忧、焦虑倾诉给自己的好友、父母等，取得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别</a:t>
            </a:r>
            <a:r>
              <a:rPr b="0" lang="zh-CN" sz="4800" spc="-1" strike="noStrike">
                <a:solidFill>
                  <a:srgbClr val="3333cc"/>
                </a:solidFill>
                <a:latin typeface="宋体"/>
              </a:rPr>
              <a:t>人的谅解，从而减轻担忧和焦虑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矩形 11267"/>
          <p:cNvSpPr/>
          <p:nvPr/>
        </p:nvSpPr>
        <p:spPr>
          <a:xfrm>
            <a:off x="3675960" y="609480"/>
            <a:ext cx="212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宣  泄  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1828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紧张吹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2289" descr="pansy2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12290"/>
          <p:cNvSpPr/>
          <p:nvPr/>
        </p:nvSpPr>
        <p:spPr>
          <a:xfrm>
            <a:off x="304920" y="685800"/>
            <a:ext cx="8534160" cy="31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幻想放松，在轻松音乐的伴奏下，跟随着老师的指导语，充分展开想象力，使学员处于轻松、愉悦的氛围之中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矩形 12291"/>
          <p:cNvSpPr/>
          <p:nvPr/>
        </p:nvSpPr>
        <p:spPr>
          <a:xfrm>
            <a:off x="534960" y="228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紧张吹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矩形 12292"/>
          <p:cNvSpPr/>
          <p:nvPr/>
        </p:nvSpPr>
        <p:spPr>
          <a:xfrm>
            <a:off x="3675960" y="380880"/>
            <a:ext cx="212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冥  想  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3313" descr="pansy2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25" name="矩形 13314"/>
          <p:cNvSpPr/>
          <p:nvPr/>
        </p:nvSpPr>
        <p:spPr>
          <a:xfrm>
            <a:off x="1752480" y="3808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300" spc="-1" strike="noStrike">
                <a:solidFill>
                  <a:srgbClr val="003399"/>
                </a:solidFill>
                <a:latin typeface="Times New Roman"/>
                <a:ea typeface="黑体"/>
              </a:rPr>
              <a:t>向  自  我  挑  战 ！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57200" y="1752480"/>
            <a:ext cx="8381880" cy="360"/>
            <a:chOff x="457200" y="1752480"/>
            <a:chExt cx="8381880" cy="360"/>
          </a:xfrm>
        </p:grpSpPr>
        <p:sp>
          <p:nvSpPr>
            <p:cNvPr id="127" name="直接连接符 13316"/>
            <p:cNvSpPr/>
            <p:nvPr/>
          </p:nvSpPr>
          <p:spPr>
            <a:xfrm>
              <a:off x="457200" y="1752480"/>
              <a:ext cx="838188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457200" y="1752480"/>
              <a:ext cx="8381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矩形 13317"/>
          <p:cNvSpPr txBox="1"/>
          <p:nvPr/>
        </p:nvSpPr>
        <p:spPr>
          <a:xfrm>
            <a:off x="0" y="0"/>
            <a:ext cx="9137520" cy="686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" name="文本框 13318"/>
          <p:cNvSpPr/>
          <p:nvPr/>
        </p:nvSpPr>
        <p:spPr>
          <a:xfrm>
            <a:off x="685800" y="2590920"/>
            <a:ext cx="6095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隶书"/>
              </a:rPr>
              <a:t>考场上最强大的对手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矩形 13319"/>
          <p:cNvSpPr/>
          <p:nvPr/>
        </p:nvSpPr>
        <p:spPr>
          <a:xfrm>
            <a:off x="2259360" y="396252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你自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4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4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4337" descr="pansy2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14338"/>
          <p:cNvSpPr/>
          <p:nvPr/>
        </p:nvSpPr>
        <p:spPr>
          <a:xfrm>
            <a:off x="0" y="1440"/>
            <a:ext cx="8915400" cy="5042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Veni, vidi, vici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相传古罗马著名统帅凯撒公元前</a:t>
            </a:r>
            <a:r>
              <a:rPr b="1" lang="en-US" sz="3600" spc="-1" strike="noStrike">
                <a:solidFill>
                  <a:srgbClr val="0000ff"/>
                </a:solidFill>
                <a:latin typeface="幼圆"/>
                <a:ea typeface="幼圆"/>
              </a:rPr>
              <a:t>47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年率部在小亚细亚吉拉城一举击溃帕尔纳凯斯的军队。整个战役只用了五天时间。撒在写信给罗的一个友人报捷时只用了三个音节简练、音响铿锵的拉丁词：</a:t>
            </a:r>
            <a:r>
              <a:rPr b="1" lang="en-US" sz="3600" spc="-1" strike="noStrike">
                <a:solidFill>
                  <a:srgbClr val="0000ff"/>
                </a:solidFill>
                <a:latin typeface="幼圆"/>
                <a:ea typeface="幼圆"/>
              </a:rPr>
              <a:t>Veni, vidi, vici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（我来了，我看见了，我征服了。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对象 14339" descr=""/>
          <p:cNvPicPr/>
          <p:nvPr/>
        </p:nvPicPr>
        <p:blipFill>
          <a:blip r:embed="rId2"/>
          <a:stretch/>
        </p:blipFill>
        <p:spPr>
          <a:xfrm flipH="1" rot="10800000">
            <a:off x="380880" y="1751760"/>
            <a:ext cx="75438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5361" descr="pansy2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15362"/>
          <p:cNvSpPr/>
          <p:nvPr/>
        </p:nvSpPr>
        <p:spPr>
          <a:xfrm>
            <a:off x="380880" y="1066680"/>
            <a:ext cx="7010640" cy="85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幼圆"/>
              </a:rPr>
              <a:t>我来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幼圆"/>
              </a:rPr>
              <a:t>我看见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0066"/>
                </a:solidFill>
                <a:latin typeface="Times New Roman"/>
                <a:ea typeface="幼圆"/>
              </a:rPr>
              <a:t>我征服了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对象 15363" descr=""/>
          <p:cNvPicPr/>
          <p:nvPr/>
        </p:nvPicPr>
        <p:blipFill>
          <a:blip r:embed="rId2"/>
          <a:stretch/>
        </p:blipFill>
        <p:spPr>
          <a:xfrm>
            <a:off x="6248520" y="1295280"/>
            <a:ext cx="21333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3073" descr="pansy2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86" name="矩形 3074"/>
          <p:cNvSpPr/>
          <p:nvPr/>
        </p:nvSpPr>
        <p:spPr>
          <a:xfrm>
            <a:off x="2793600" y="1066680"/>
            <a:ext cx="365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“</a:t>
            </a: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十秒击掌”活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图片 3075" descr="0012@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514600" y="29718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8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4097" descr="pansy2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4098"/>
          <p:cNvSpPr/>
          <p:nvPr/>
        </p:nvSpPr>
        <p:spPr>
          <a:xfrm>
            <a:off x="2590920" y="990720"/>
            <a:ext cx="35812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合理计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宋体"/>
              </a:rPr>
              <a:t>调整目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宋体"/>
              </a:rPr>
              <a:t>积极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心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宋体"/>
              </a:rPr>
              <a:t>应对压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5121" descr="pansy2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93" name="矩形 5122"/>
          <p:cNvSpPr/>
          <p:nvPr/>
        </p:nvSpPr>
        <p:spPr>
          <a:xfrm>
            <a:off x="380880" y="533520"/>
            <a:ext cx="838224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遇到困难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自我激励  我能行，我一定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自我提醒  我不能轻易放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遇到挫折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自我期望  准能达到我的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自我暗示  我能取得好成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自我慰籍  不是失败，只是暂时没有成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145" descr="pansy2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96" name="矩形 6146"/>
          <p:cNvSpPr/>
          <p:nvPr/>
        </p:nvSpPr>
        <p:spPr>
          <a:xfrm>
            <a:off x="304920" y="0"/>
            <a:ext cx="990576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面对成功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自我表扬  我真是好样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自我欣赏  我的状态是如此的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自我总结  做的对，继续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状态不稳定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自我要求  我一定要做好充分的准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自我关心  我要注意身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自我命令  立刻行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7169" descr="pansy2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7170"/>
          <p:cNvSpPr/>
          <p:nvPr/>
        </p:nvSpPr>
        <p:spPr>
          <a:xfrm>
            <a:off x="380880" y="272880"/>
            <a:ext cx="8534520" cy="67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教室醒目处的倒计时每天都在提醒我离中（高）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考越来越近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下岗的父母对我说“家里的未来全靠你了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父母为我补课和买教辅材料花了很多钱，自己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省吃俭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最近一次摸底考，我总分退步很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爸爸说，亲戚的孩子都考上名牌大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妈妈说，同事的孩子都是重点中学的学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8193" descr="pansy2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8194"/>
          <p:cNvSpPr/>
          <p:nvPr/>
        </p:nvSpPr>
        <p:spPr>
          <a:xfrm>
            <a:off x="1143000" y="1371600"/>
            <a:ext cx="800100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Times New Roman"/>
                <a:ea typeface="隶书"/>
              </a:rPr>
              <a:t>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问题本身不是本题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怎能样看待问题才是问题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9217" descr="pansy2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05" name="矩形 9218"/>
          <p:cNvSpPr/>
          <p:nvPr/>
        </p:nvSpPr>
        <p:spPr>
          <a:xfrm>
            <a:off x="380880" y="16765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3333cc"/>
                </a:solidFill>
                <a:latin typeface="宋体"/>
              </a:rPr>
              <a:t>当你坐在书桌前时，脑海中先浮现出令你最自豪、最愉快的画面一分钟，并在心中默念：“考试前我一定能复习好”、“考场上我一定能够发挥好”，然后充满信心、精神振奋地投入学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矩形 9219"/>
          <p:cNvSpPr/>
          <p:nvPr/>
        </p:nvSpPr>
        <p:spPr>
          <a:xfrm>
            <a:off x="3762000" y="3808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隶书"/>
                <a:ea typeface="隶书"/>
              </a:rPr>
              <a:t>想  象  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流程图: 顺序访问存储器 9220"/>
          <p:cNvSpPr/>
          <p:nvPr/>
        </p:nvSpPr>
        <p:spPr>
          <a:xfrm>
            <a:off x="533520" y="228600"/>
            <a:ext cx="1981080" cy="914400"/>
          </a:xfrm>
          <a:prstGeom prst="flowChartMagnetic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把紧张吹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0241" descr="pansy2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0" name="矩形 10242"/>
          <p:cNvSpPr/>
          <p:nvPr/>
        </p:nvSpPr>
        <p:spPr>
          <a:xfrm>
            <a:off x="533520" y="1219320"/>
            <a:ext cx="822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交替呼吸式，请学员坐好，将右手的中指和食指放在前额，用姆指将右鼻翼压住，用左鼻口慢慢吸气。用无名指按住左鼻翼，将姆指放松，张开右鼻孔。慢慢将空气由右鼻孔呼出。然后以相同方法，由右鼻也吸气，由左鼻也呼出，两鼻孔交替进行呼吸，如引进行五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矩形 10243"/>
          <p:cNvSpPr/>
          <p:nvPr/>
        </p:nvSpPr>
        <p:spPr>
          <a:xfrm>
            <a:off x="3908160" y="304920"/>
            <a:ext cx="17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放  松  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矩形 10244"/>
          <p:cNvSpPr/>
          <p:nvPr/>
        </p:nvSpPr>
        <p:spPr>
          <a:xfrm>
            <a:off x="839880" y="380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紧张吹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33:00Z</dcterms:created>
  <dc:creator/>
  <dc:description/>
  <cp:keywords>心理 辅导</cp:keywords>
  <dc:language>en-US</dc:language>
  <cp:lastModifiedBy>An</cp:lastModifiedBy>
  <dcterms:modified xsi:type="dcterms:W3CDTF">2016-05-01T00:33:0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