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5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3.jpeg" ContentType="image/jpeg"/>
  <Override PartName="/ppt/media/image21.gif" ContentType="image/gif"/>
  <Override PartName="/ppt/media/image1.png" ContentType="image/png"/>
  <Override PartName="/ppt/media/M11B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596-F254-4074-9013-56EEAF2B59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A1B-A9F6-4119-B34B-874C66D813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1E5-5DE1-4123-97CB-AC5D38D7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92C-D020-49DF-945C-DC83CD5B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094-E4F2-470C-8D69-DF0E2E5C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048-EBDA-454C-85F3-78BDEAF5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269-E491-4C3B-999B-F8F8A46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B01-A081-4ABC-81F7-B89678C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725-4483-4D16-9587-F2B85BC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DEF-1420-417D-9160-AE02FB49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A98-43A5-456B-A86E-4495AAFB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387-0DCB-4174-A538-6DCEEC7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4D4-FEE9-478F-B202-ACBA764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854-D7CA-426D-80C7-41E1892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38C-D7B8-4868-92F9-3A14A9E7E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0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M11B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2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00000" y="155736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11280" y="479736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328760" y="1023840"/>
            <a:ext cx="4392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声音是怎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产生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213372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71640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411280" y="3141720"/>
            <a:ext cx="1008360" cy="2016000"/>
          </a:xfrm>
          <a:prstGeom prst="downArrow">
            <a:avLst>
              <a:gd name="adj1" fmla="val 50000"/>
              <a:gd name="adj2" fmla="val 49973"/>
            </a:avLst>
          </a:prstGeom>
          <a:gradFill rotWithShape="0">
            <a:gsLst>
              <a:gs pos="0">
                <a:srgbClr val="dbd603"/>
              </a:gs>
              <a:gs pos="100000">
                <a:srgbClr val="070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340000" y="2276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195640" y="5229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b6-6"/>
          <p:cNvPicPr/>
          <p:nvPr/>
        </p:nvPicPr>
        <p:blipFill>
          <a:blip r:embed="rId1"/>
          <a:stretch/>
        </p:blipFill>
        <p:spPr>
          <a:xfrm>
            <a:off x="4643280" y="404640"/>
            <a:ext cx="3745080" cy="166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大鼓"/>
          <p:cNvPicPr/>
          <p:nvPr/>
        </p:nvPicPr>
        <p:blipFill>
          <a:blip r:embed="rId2"/>
          <a:stretch/>
        </p:blipFill>
        <p:spPr>
          <a:xfrm>
            <a:off x="684360" y="404640"/>
            <a:ext cx="1703160" cy="155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钹"/>
          <p:cNvPicPr/>
          <p:nvPr/>
        </p:nvPicPr>
        <p:blipFill>
          <a:blip r:embed="rId3"/>
          <a:stretch/>
        </p:blipFill>
        <p:spPr>
          <a:xfrm>
            <a:off x="2989440" y="404640"/>
            <a:ext cx="150156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直尺1"/>
          <p:cNvPicPr/>
          <p:nvPr/>
        </p:nvPicPr>
        <p:blipFill>
          <a:blip r:embed="rId4"/>
          <a:stretch/>
        </p:blipFill>
        <p:spPr>
          <a:xfrm>
            <a:off x="6084720" y="2421000"/>
            <a:ext cx="1787760" cy="184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92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192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192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192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6094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气体可以传播声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657600" y="4419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可以传播声音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340000" y="2276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振动停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195640" y="5229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没有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b6-6"/>
          <p:cNvPicPr/>
          <p:nvPr/>
        </p:nvPicPr>
        <p:blipFill>
          <a:blip r:embed="rId1"/>
          <a:stretch/>
        </p:blipFill>
        <p:spPr>
          <a:xfrm>
            <a:off x="4643280" y="404640"/>
            <a:ext cx="3745080" cy="1660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大鼓"/>
          <p:cNvPicPr/>
          <p:nvPr/>
        </p:nvPicPr>
        <p:blipFill>
          <a:blip r:embed="rId2"/>
          <a:stretch/>
        </p:blipFill>
        <p:spPr>
          <a:xfrm>
            <a:off x="684360" y="404640"/>
            <a:ext cx="1703160" cy="155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钹"/>
          <p:cNvPicPr/>
          <p:nvPr/>
        </p:nvPicPr>
        <p:blipFill>
          <a:blip r:embed="rId3"/>
          <a:stretch/>
        </p:blipFill>
        <p:spPr>
          <a:xfrm>
            <a:off x="2989440" y="404640"/>
            <a:ext cx="1501560" cy="15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直尺1"/>
          <p:cNvPicPr/>
          <p:nvPr/>
        </p:nvPicPr>
        <p:blipFill>
          <a:blip r:embed="rId4"/>
          <a:stretch/>
        </p:blipFill>
        <p:spPr>
          <a:xfrm>
            <a:off x="6588000" y="2349360"/>
            <a:ext cx="1787760" cy="184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4572000" y="2565360"/>
            <a:ext cx="1905120" cy="350532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716040 h 3505320"/>
              <a:gd name="textAreaBottom" fmla="*/ 23814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8" stAng="-5400000" swAng="5400000"/>
                <a:lnTo>
                  <a:pt x="21600" y="10259"/>
                </a:lnTo>
                <a:arcTo wR="21600" hR="8828" stAng="0" swAng="2506593"/>
                <a:lnTo>
                  <a:pt x="8986" y="20800"/>
                </a:lnTo>
                <a:lnTo>
                  <a:pt x="0" y="18372"/>
                </a:lnTo>
                <a:lnTo>
                  <a:pt x="8986" y="14343"/>
                </a:lnTo>
                <a:lnTo>
                  <a:pt x="8986" y="16856"/>
                </a:lnTo>
                <a:arcTo wR="21600" hR="8828" stAng="2506593" swAng="-2392384"/>
                <a:lnTo>
                  <a:pt x="21529" y="9544"/>
                </a:lnTo>
                <a:arcTo wR="21600" hR="8828" stAng="-114209" swAng="-5285791"/>
                <a:close/>
              </a:path>
              <a:path fill="darkenLess" w="21600" h="21600">
                <a:moveTo>
                  <a:pt x="0" y="0"/>
                </a:moveTo>
                <a:arcTo wR="21600" hR="8828" stAng="-5400000" swAng="5400000"/>
                <a:lnTo>
                  <a:pt x="21600" y="10259"/>
                </a:lnTo>
                <a:arcTo wR="21600" hR="8828" stAng="0" swAng="-114209"/>
                <a:lnTo>
                  <a:pt x="21529" y="9544"/>
                </a:lnTo>
                <a:arcTo wR="21600" hR="8828" stAng="-114209" swAng="-5285791"/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907200" y="836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假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958760" y="2708280"/>
            <a:ext cx="515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声音是由物体的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______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产生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427640" y="242100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振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79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敲击大小的音叉会发生什么现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01-01-002-04"/>
          <p:cNvPicPr/>
          <p:nvPr/>
        </p:nvPicPr>
        <p:blipFill>
          <a:blip r:embed="rId2"/>
          <a:stretch/>
        </p:blipFill>
        <p:spPr>
          <a:xfrm>
            <a:off x="7467480" y="33336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5208D"/>
          <p:cNvPicPr/>
          <p:nvPr/>
        </p:nvPicPr>
        <p:blipFill>
          <a:blip r:embed="rId3"/>
          <a:stretch/>
        </p:blipFill>
        <p:spPr>
          <a:xfrm>
            <a:off x="1403280" y="1341360"/>
            <a:ext cx="6264360" cy="452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图片2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539640" y="90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用手摸敲响后的音叉会有什么感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28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将敲响后的音叉放入水中又会发生什么现象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01-01-003-03"/>
          <p:cNvPicPr/>
          <p:nvPr/>
        </p:nvPicPr>
        <p:blipFill>
          <a:blip r:embed="rId2"/>
          <a:stretch/>
        </p:blipFill>
        <p:spPr>
          <a:xfrm>
            <a:off x="250920" y="5300640"/>
            <a:ext cx="140004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音叉5"/>
          <p:cNvPicPr/>
          <p:nvPr/>
        </p:nvPicPr>
        <p:blipFill>
          <a:blip r:embed="rId3"/>
          <a:stretch/>
        </p:blipFill>
        <p:spPr>
          <a:xfrm>
            <a:off x="5219640" y="260280"/>
            <a:ext cx="363528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音叉2"/>
          <p:cNvPicPr/>
          <p:nvPr/>
        </p:nvPicPr>
        <p:blipFill>
          <a:blip r:embed="rId4"/>
          <a:stretch/>
        </p:blipFill>
        <p:spPr>
          <a:xfrm>
            <a:off x="250920" y="189000"/>
            <a:ext cx="4249800" cy="4319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2411280" y="4508640"/>
            <a:ext cx="5040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这个现象说明了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Q_011"/>
          <p:cNvPicPr/>
          <p:nvPr/>
        </p:nvPicPr>
        <p:blipFill>
          <a:blip r:embed="rId5"/>
          <a:stretch/>
        </p:blipFill>
        <p:spPr>
          <a:xfrm>
            <a:off x="7236000" y="422028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958760" y="2708280"/>
            <a:ext cx="515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声音是由物体的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______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产生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427640" y="242100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振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钹"/>
          <p:cNvPicPr/>
          <p:nvPr/>
        </p:nvPicPr>
        <p:blipFill>
          <a:blip r:embed="rId2"/>
          <a:stretch/>
        </p:blipFill>
        <p:spPr>
          <a:xfrm>
            <a:off x="2195640" y="4149720"/>
            <a:ext cx="1968480" cy="2075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大鼓"/>
          <p:cNvPicPr/>
          <p:nvPr/>
        </p:nvPicPr>
        <p:blipFill>
          <a:blip r:embed="rId3"/>
          <a:stretch/>
        </p:blipFill>
        <p:spPr>
          <a:xfrm>
            <a:off x="6588000" y="1773360"/>
            <a:ext cx="1589040" cy="180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直尺1"/>
          <p:cNvPicPr/>
          <p:nvPr/>
        </p:nvPicPr>
        <p:blipFill>
          <a:blip r:embed="rId4"/>
          <a:stretch/>
        </p:blipFill>
        <p:spPr>
          <a:xfrm>
            <a:off x="4859280" y="3716280"/>
            <a:ext cx="1968480" cy="2075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01-01-004-04"/>
          <p:cNvPicPr/>
          <p:nvPr/>
        </p:nvPicPr>
        <p:blipFill>
          <a:blip r:embed="rId5"/>
          <a:stretch/>
        </p:blipFill>
        <p:spPr>
          <a:xfrm>
            <a:off x="-393840" y="620640"/>
            <a:ext cx="2337120" cy="164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be_1_b"/>
          <p:cNvPicPr/>
          <p:nvPr/>
        </p:nvPicPr>
        <p:blipFill>
          <a:blip r:embed="rId6"/>
          <a:stretch/>
        </p:blipFill>
        <p:spPr>
          <a:xfrm>
            <a:off x="1835280" y="184464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403280" y="33336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如果使这些发声的物体停止震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结果会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图片2"/>
          <p:cNvPicPr/>
          <p:nvPr/>
        </p:nvPicPr>
        <p:blipFill>
          <a:blip r:embed="rId1"/>
          <a:stretch/>
        </p:blipFill>
        <p:spPr>
          <a:xfrm>
            <a:off x="250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2205000" y="1916280"/>
            <a:ext cx="515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声音是由物体的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______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产生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716360" y="155736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振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375000"/>
            <a:ext cx="84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振动一旦停止，声音也就停止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筷子（或小木棒）击打盛有水的玻璃杯，填写观察睡眠变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73080" y="1981080"/>
          <a:ext cx="7486560" cy="2744640"/>
        </p:xfrm>
        <a:graphic>
          <a:graphicData uri="http://schemas.openxmlformats.org/drawingml/2006/table">
            <a:tbl>
              <a:tblPr/>
              <a:tblGrid>
                <a:gridCol w="2495520"/>
                <a:gridCol w="2494080"/>
                <a:gridCol w="249696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极大程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轻轻击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重一点击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声音的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水面的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4726080"/>
          <a:ext cx="7489800" cy="8650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验观察小结：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3"/>
          <p:cNvSpPr/>
          <p:nvPr/>
        </p:nvSpPr>
        <p:spPr>
          <a:xfrm>
            <a:off x="2484360" y="1587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动手做一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436680" y="5851440"/>
            <a:ext cx="69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牛"/>
          <p:cNvPicPr/>
          <p:nvPr/>
        </p:nvPicPr>
        <p:blipFill>
          <a:blip r:embed="rId2"/>
          <a:stretch/>
        </p:blipFill>
        <p:spPr>
          <a:xfrm>
            <a:off x="1042920" y="400536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71640" y="1413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其实，无论在什么时候，什么地方，我们总能听到各种声音，大自然的风声、雨声、雷声，乡间的蛙叫蝉鸣，城里车水马龙的声音。那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78000" y="30909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声音是怎样产生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11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筷子（或小木棒）击打盛有水的玻璃杯，填写观察睡眠变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73080" y="1981080"/>
          <a:ext cx="7486560" cy="2744640"/>
        </p:xfrm>
        <a:graphic>
          <a:graphicData uri="http://schemas.openxmlformats.org/drawingml/2006/table">
            <a:tbl>
              <a:tblPr/>
              <a:tblGrid>
                <a:gridCol w="2495520"/>
                <a:gridCol w="2494080"/>
                <a:gridCol w="249696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极大程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轻轻击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重一点击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声音的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声音低，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声音高，大，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水面的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水面波纹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水面波纹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971640" y="4726080"/>
          <a:ext cx="7489800" cy="8650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验观察小结：   轻轻敲打时，振动小、声音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一点敲打时，振动大、声音大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3"/>
          <p:cNvSpPr/>
          <p:nvPr/>
        </p:nvSpPr>
        <p:spPr>
          <a:xfrm>
            <a:off x="2484360" y="1587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动手做一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B70-E6FD-486D-9EFB-BF27C832F6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lip_image007"/>
          <p:cNvPicPr/>
          <p:nvPr/>
        </p:nvPicPr>
        <p:blipFill>
          <a:blip r:embed="rId2"/>
          <a:stretch/>
        </p:blipFill>
        <p:spPr>
          <a:xfrm>
            <a:off x="1042920" y="3645000"/>
            <a:ext cx="3240000" cy="230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钹"/>
          <p:cNvPicPr/>
          <p:nvPr/>
        </p:nvPicPr>
        <p:blipFill>
          <a:blip r:embed="rId3"/>
          <a:stretch/>
        </p:blipFill>
        <p:spPr>
          <a:xfrm>
            <a:off x="3348000" y="3213000"/>
            <a:ext cx="196848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大鼓"/>
          <p:cNvPicPr/>
          <p:nvPr/>
        </p:nvPicPr>
        <p:blipFill>
          <a:blip r:embed="rId4"/>
          <a:stretch/>
        </p:blipFill>
        <p:spPr>
          <a:xfrm>
            <a:off x="2340000" y="148428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直尺1"/>
          <p:cNvPicPr/>
          <p:nvPr/>
        </p:nvPicPr>
        <p:blipFill>
          <a:blip r:embed="rId5"/>
          <a:stretch/>
        </p:blipFill>
        <p:spPr>
          <a:xfrm>
            <a:off x="5867280" y="4076640"/>
            <a:ext cx="1968480" cy="2075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826920" y="549360"/>
            <a:ext cx="7561440" cy="581400"/>
          </a:xfrm>
          <a:prstGeom prst="rect">
            <a:avLst/>
          </a:prstGeom>
          <a:gradFill rotWithShape="0">
            <a:gsLst>
              <a:gs pos="0">
                <a:srgbClr val="6666ff">
                  <a:alpha val="57254"/>
                </a:srgbClr>
              </a:gs>
              <a:gs pos="50000">
                <a:srgbClr val="ffffff">
                  <a:alpha val="52156"/>
                </a:srgbClr>
              </a:gs>
              <a:gs pos="100000">
                <a:srgbClr val="6666ff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这些物体你不动它，它会发出声音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01-01-004-04"/>
          <p:cNvPicPr/>
          <p:nvPr/>
        </p:nvPicPr>
        <p:blipFill>
          <a:blip r:embed="rId6"/>
          <a:stretch/>
        </p:blipFill>
        <p:spPr>
          <a:xfrm>
            <a:off x="324000" y="2708280"/>
            <a:ext cx="2340000" cy="16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be_1_b"/>
          <p:cNvPicPr/>
          <p:nvPr/>
        </p:nvPicPr>
        <p:blipFill>
          <a:blip r:embed="rId7"/>
          <a:stretch/>
        </p:blipFill>
        <p:spPr>
          <a:xfrm>
            <a:off x="5364000" y="1628640"/>
            <a:ext cx="2305080" cy="1729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826920" y="6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你能用不同的方法使它们发出声音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钹"/>
          <p:cNvPicPr/>
          <p:nvPr/>
        </p:nvPicPr>
        <p:blipFill>
          <a:blip r:embed="rId2"/>
          <a:stretch/>
        </p:blipFill>
        <p:spPr>
          <a:xfrm>
            <a:off x="6072120" y="1441440"/>
            <a:ext cx="163692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大鼓"/>
          <p:cNvPicPr/>
          <p:nvPr/>
        </p:nvPicPr>
        <p:blipFill>
          <a:blip r:embed="rId3"/>
          <a:stretch/>
        </p:blipFill>
        <p:spPr>
          <a:xfrm>
            <a:off x="3708360" y="1370160"/>
            <a:ext cx="1419120" cy="1800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564000" y="3086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92360" y="3086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敲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3733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拍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763640" y="479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Q_011"/>
          <p:cNvPicPr/>
          <p:nvPr/>
        </p:nvPicPr>
        <p:blipFill>
          <a:blip r:embed="rId4"/>
          <a:stretch/>
        </p:blipFill>
        <p:spPr>
          <a:xfrm>
            <a:off x="6226920" y="4941720"/>
            <a:ext cx="1513080" cy="1262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419640" y="5229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为什么会这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012000" y="3086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578400" y="37497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26040" y="3735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676520" y="43513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按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3406680" y="4349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没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864400" y="43513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没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直尺1"/>
          <p:cNvPicPr/>
          <p:nvPr/>
        </p:nvPicPr>
        <p:blipFill>
          <a:blip r:embed="rId2"/>
          <a:stretch/>
        </p:blipFill>
        <p:spPr>
          <a:xfrm rot="7465800">
            <a:off x="4468320" y="1299600"/>
            <a:ext cx="1501920" cy="158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500720" y="26082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19280" y="2638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拨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19280" y="3359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拍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663560" y="452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427640" y="4006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没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332000" y="4006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用力弯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930240" y="5130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什么用力弯曲会没有声音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Q_011"/>
          <p:cNvPicPr/>
          <p:nvPr/>
        </p:nvPicPr>
        <p:blipFill>
          <a:blip r:embed="rId3"/>
          <a:stretch/>
        </p:blipFill>
        <p:spPr>
          <a:xfrm>
            <a:off x="6848640" y="4641840"/>
            <a:ext cx="1512720" cy="1262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4500720" y="3357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3"/>
          <p:cNvSpPr/>
          <p:nvPr/>
        </p:nvSpPr>
        <p:spPr>
          <a:xfrm>
            <a:off x="3341520" y="206388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356000" y="285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19280" y="285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拨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92360" y="44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0024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211640" y="378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没有声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476360" y="386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用力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b6-6"/>
          <p:cNvPicPr/>
          <p:nvPr/>
        </p:nvPicPr>
        <p:blipFill>
          <a:blip r:embed="rId2"/>
          <a:stretch/>
        </p:blipFill>
        <p:spPr>
          <a:xfrm>
            <a:off x="3203640" y="1413000"/>
            <a:ext cx="3744720" cy="1299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826920" y="5157720"/>
            <a:ext cx="684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9900"/>
                </a:solidFill>
                <a:latin typeface="Times New Roman"/>
                <a:ea typeface="黑体"/>
              </a:rPr>
              <a:t>为什么用力拉没有声音，轻轻拨动却有声音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Q_011"/>
          <p:cNvPicPr/>
          <p:nvPr/>
        </p:nvPicPr>
        <p:blipFill>
          <a:blip r:embed="rId3"/>
          <a:stretch/>
        </p:blipFill>
        <p:spPr>
          <a:xfrm>
            <a:off x="7163640" y="4724280"/>
            <a:ext cx="1513080" cy="126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AND"/>
          <p:cNvPicPr/>
          <p:nvPr/>
        </p:nvPicPr>
        <p:blipFill>
          <a:blip r:embed="rId4"/>
          <a:stretch/>
        </p:blipFill>
        <p:spPr>
          <a:xfrm>
            <a:off x="900000" y="1341360"/>
            <a:ext cx="839880" cy="100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5280" y="30686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比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大鼓"/>
          <p:cNvPicPr/>
          <p:nvPr/>
        </p:nvPicPr>
        <p:blipFill>
          <a:blip r:embed="rId1"/>
          <a:stretch/>
        </p:blipFill>
        <p:spPr>
          <a:xfrm>
            <a:off x="4572000" y="189000"/>
            <a:ext cx="1703520" cy="15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钹"/>
          <p:cNvPicPr/>
          <p:nvPr/>
        </p:nvPicPr>
        <p:blipFill>
          <a:blip r:embed="rId2"/>
          <a:stretch/>
        </p:blipFill>
        <p:spPr>
          <a:xfrm>
            <a:off x="6877080" y="189000"/>
            <a:ext cx="1501920" cy="1584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900000" y="3068640"/>
            <a:ext cx="1008000" cy="201600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dbd603"/>
              </a:gs>
              <a:gs pos="100000">
                <a:srgbClr val="070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87280" y="227664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不发声时：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187280" y="515772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发声时：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780000" y="2133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492360" y="486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6094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气体可以传播声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588000" y="32846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比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657600" y="4419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可以传播声音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6227640" y="2349360"/>
            <a:ext cx="1905120" cy="350532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716040 h 3505320"/>
              <a:gd name="textAreaBottom" fmla="*/ 23814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8" stAng="-5400000" swAng="5400000"/>
                <a:lnTo>
                  <a:pt x="21600" y="10259"/>
                </a:lnTo>
                <a:arcTo wR="21600" hR="8828" stAng="0" swAng="2506593"/>
                <a:lnTo>
                  <a:pt x="8986" y="20800"/>
                </a:lnTo>
                <a:lnTo>
                  <a:pt x="0" y="18372"/>
                </a:lnTo>
                <a:lnTo>
                  <a:pt x="8986" y="14343"/>
                </a:lnTo>
                <a:lnTo>
                  <a:pt x="8986" y="16856"/>
                </a:lnTo>
                <a:arcTo wR="21600" hR="8828" stAng="2506593" swAng="-2392384"/>
                <a:lnTo>
                  <a:pt x="21529" y="9544"/>
                </a:lnTo>
                <a:arcTo wR="21600" hR="8828" stAng="-114209" swAng="-5285791"/>
                <a:close/>
              </a:path>
              <a:path fill="darkenLess" w="21600" h="21600">
                <a:moveTo>
                  <a:pt x="0" y="0"/>
                </a:moveTo>
                <a:arcTo wR="21600" hR="8828" stAng="-5400000" swAng="5400000"/>
                <a:lnTo>
                  <a:pt x="21600" y="10259"/>
                </a:lnTo>
                <a:arcTo wR="21600" hR="8828" stAng="0" swAng="-114209"/>
                <a:lnTo>
                  <a:pt x="21529" y="9544"/>
                </a:lnTo>
                <a:arcTo wR="21600" hR="8828" stAng="-114209" swAng="-5285791"/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00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不发声时：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258920" y="5157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发声时：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直尺1"/>
          <p:cNvPicPr/>
          <p:nvPr/>
        </p:nvPicPr>
        <p:blipFill>
          <a:blip r:embed="rId1"/>
          <a:stretch/>
        </p:blipFill>
        <p:spPr>
          <a:xfrm>
            <a:off x="3635280" y="0"/>
            <a:ext cx="2448000" cy="2525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3348000" y="2565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276720" y="4941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95280" y="306864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比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900000" y="3068640"/>
            <a:ext cx="1008000" cy="201600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dbd603"/>
              </a:gs>
              <a:gs pos="100000">
                <a:srgbClr val="070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187280" y="227664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不发声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5157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发声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b6-6"/>
          <p:cNvPicPr/>
          <p:nvPr/>
        </p:nvPicPr>
        <p:blipFill>
          <a:blip r:embed="rId1"/>
          <a:stretch/>
        </p:blipFill>
        <p:spPr>
          <a:xfrm>
            <a:off x="2411280" y="620640"/>
            <a:ext cx="374508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20364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059280" y="5157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振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92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192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6:34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6:48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b01a000000000001024120</vt:lpwstr>
  </property>
</Properties>
</file>