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288-06C6-438D-9E73-34944129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388-6440-4681-9A98-D08AE93C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BF8-679C-430E-979B-CBDBA8A2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C8F-7F6A-4373-B841-E83047A2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5FC-89CC-4BBB-8294-5E5CE269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8CD-0BA0-4DC2-8BA2-83C93D82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B5E-56BF-4E5A-BD1D-F2222A2A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2424-3AF1-40BE-82F7-B448E36A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A1E-1974-499E-A0CE-B1776B8E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B31-BB21-48F7-BAA2-3AB92A16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C34-40B8-49F7-A7F4-39913B1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0B4-84FF-49BB-B2D4-861CDDE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F579-CD44-4EFD-833E-6C78A535F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3348000" y="2060640"/>
            <a:ext cx="554508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我背上了新书包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375804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E7EB-B38B-4DD1-A48F-069ABFE12F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3-0307_sx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716360" y="0"/>
            <a:ext cx="421164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同学们还记得今天早上上学的情景吗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我们上学了，心情怎么样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家里人对你说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48784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x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 rot="16854600">
            <a:off x="529200" y="-397440"/>
            <a:ext cx="1412640" cy="2338560"/>
          </a:xfrm>
          <a:prstGeom prst="wedgeEllipseCallout">
            <a:avLst>
              <a:gd name="adj1" fmla="val -87356"/>
              <a:gd name="adj2" fmla="val 62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Arial"/>
                <a:ea typeface="楷体_GB2312"/>
              </a:rPr>
              <a:t>我会认识很多新伙伴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  <a:ea typeface="楷体_GB2312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u=3155577997,3122659042&amp;fm=0&amp;gp=42"/>
          <p:cNvPicPr/>
          <p:nvPr/>
        </p:nvPicPr>
        <p:blipFill>
          <a:blip r:embed="rId1"/>
          <a:stretch/>
        </p:blipFill>
        <p:spPr>
          <a:xfrm>
            <a:off x="684360" y="2708280"/>
            <a:ext cx="2446200" cy="3357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6443640" y="0"/>
            <a:ext cx="2700360" cy="2176560"/>
          </a:xfrm>
          <a:prstGeom prst="cloudCallout">
            <a:avLst>
              <a:gd name="adj1" fmla="val -71046"/>
              <a:gd name="adj2" fmla="val 7107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老师会喜欢我吗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同学愿意和我一块儿玩吗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u=2500066470,3022806096&amp;fm=0&amp;gp=38"/>
          <p:cNvPicPr/>
          <p:nvPr/>
        </p:nvPicPr>
        <p:blipFill>
          <a:blip r:embed="rId2"/>
          <a:stretch/>
        </p:blipFill>
        <p:spPr>
          <a:xfrm>
            <a:off x="4500720" y="2708280"/>
            <a:ext cx="2708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u=2728827355,2711457938&amp;fm=0&amp;gp=32[1]"/>
          <p:cNvPicPr/>
          <p:nvPr/>
        </p:nvPicPr>
        <p:blipFill>
          <a:blip r:embed="rId1"/>
          <a:stretch/>
        </p:blipFill>
        <p:spPr>
          <a:xfrm>
            <a:off x="5435640" y="981000"/>
            <a:ext cx="3230640" cy="453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u=88819424,2077702057&amp;fm=0&amp;gp=4[1]"/>
          <p:cNvPicPr/>
          <p:nvPr/>
        </p:nvPicPr>
        <p:blipFill>
          <a:blip r:embed="rId2"/>
          <a:stretch/>
        </p:blipFill>
        <p:spPr>
          <a:xfrm>
            <a:off x="3564000" y="3068640"/>
            <a:ext cx="1954080" cy="24480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"/>
          <p:cNvSpPr/>
          <p:nvPr/>
        </p:nvSpPr>
        <p:spPr>
          <a:xfrm>
            <a:off x="250920" y="1052640"/>
            <a:ext cx="4465440" cy="2808000"/>
          </a:xfrm>
          <a:prstGeom prst="cloudCallout">
            <a:avLst>
              <a:gd name="adj1" fmla="val 21416"/>
              <a:gd name="adj2" fmla="val 5243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华文隶书"/>
                <a:ea typeface="华文隶书"/>
              </a:rPr>
              <a:t>小学生的生活和幼儿园的生活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华文隶书"/>
                <a:ea typeface="华文隶书"/>
              </a:rPr>
              <a:t>P6-P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"/>
          <p:cNvSpPr/>
          <p:nvPr/>
        </p:nvSpPr>
        <p:spPr>
          <a:xfrm>
            <a:off x="380880" y="537696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u=2749401707,3676685160&amp;fm=0&amp;gp=10[1]"/>
          <p:cNvPicPr/>
          <p:nvPr/>
        </p:nvPicPr>
        <p:blipFill>
          <a:blip r:embed="rId1"/>
          <a:stretch/>
        </p:blipFill>
        <p:spPr>
          <a:xfrm>
            <a:off x="0" y="2852640"/>
            <a:ext cx="4788000" cy="400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u=3930646724,2736407192&amp;fm=0&amp;gp=2[1]"/>
          <p:cNvPicPr/>
          <p:nvPr/>
        </p:nvPicPr>
        <p:blipFill>
          <a:blip r:embed="rId2"/>
          <a:stretch/>
        </p:blipFill>
        <p:spPr>
          <a:xfrm>
            <a:off x="4748040" y="2852640"/>
            <a:ext cx="4395960" cy="4005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u=2402624514,147910923&amp;fm=0&amp;gp=42"/>
          <p:cNvPicPr/>
          <p:nvPr/>
        </p:nvPicPr>
        <p:blipFill>
          <a:blip r:embed="rId3"/>
          <a:stretch/>
        </p:blipFill>
        <p:spPr>
          <a:xfrm>
            <a:off x="0" y="0"/>
            <a:ext cx="2000160" cy="292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u=1524347133,3863119459&amp;fm=0&amp;gp=2"/>
          <p:cNvPicPr/>
          <p:nvPr/>
        </p:nvPicPr>
        <p:blipFill>
          <a:blip r:embed="rId4"/>
          <a:stretch/>
        </p:blipFill>
        <p:spPr>
          <a:xfrm>
            <a:off x="1979640" y="0"/>
            <a:ext cx="2284560" cy="2852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u=2264447446,2814840528&amp;fm=0&amp;gp=22"/>
          <p:cNvPicPr/>
          <p:nvPr/>
        </p:nvPicPr>
        <p:blipFill>
          <a:blip r:embed="rId5"/>
          <a:stretch/>
        </p:blipFill>
        <p:spPr>
          <a:xfrm>
            <a:off x="6877080" y="0"/>
            <a:ext cx="2266920" cy="285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u=1463255639,3737478979&amp;fm=0&amp;gp=42"/>
          <p:cNvPicPr/>
          <p:nvPr/>
        </p:nvPicPr>
        <p:blipFill>
          <a:blip r:embed="rId6"/>
          <a:stretch/>
        </p:blipFill>
        <p:spPr>
          <a:xfrm>
            <a:off x="4284720" y="0"/>
            <a:ext cx="2592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412"/>
          <p:cNvPicPr/>
          <p:nvPr/>
        </p:nvPicPr>
        <p:blipFill>
          <a:blip r:embed="rId1"/>
          <a:stretch/>
        </p:blipFill>
        <p:spPr>
          <a:xfrm>
            <a:off x="6156360" y="0"/>
            <a:ext cx="2416320" cy="175104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755640" y="620640"/>
            <a:ext cx="205416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讨论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755640" y="2924280"/>
            <a:ext cx="7561440" cy="3529080"/>
          </a:xfrm>
          <a:prstGeom prst="cloudCallout">
            <a:avLst>
              <a:gd name="adj1" fmla="val 36856"/>
              <a:gd name="adj2" fmla="val -85851"/>
            </a:avLst>
          </a:prstGeom>
          <a:solidFill>
            <a:srgbClr val="ffffff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上学了，你最想干什么呢？把你的想法说给你的好朋友听听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mph" presetID="2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nimClr clrSpc="hsl" dir="cw">
                                      <p:cBhvr>
                                        <p:cTn id="146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9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2" dur="1" fill="hold"/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03:01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51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9a03000000000001024120</vt:lpwstr>
  </property>
</Properties>
</file>