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36.jpeg" ContentType="image/jpeg"/>
  <Override PartName="/ppt/media/image57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MTC_001.WAV" ContentType="audio/x-wav"/>
  <Override PartName="/ppt/media/image12.jpeg" ContentType="image/jpeg"/>
  <Override PartName="/ppt/media/image6.png" ContentType="image/png"/>
  <Override PartName="/ppt/media/image3.gif" ContentType="image/gif"/>
  <Override PartName="/ppt/media/image1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2.png" ContentType="image/png"/>
  <Override PartName="/ppt/media/image8.gif" ContentType="image/gif"/>
  <Override PartName="/ppt/media/image18.jpeg" ContentType="image/jpeg"/>
  <Override PartName="/ppt/media/image38.png" ContentType="image/png"/>
  <Override PartName="/ppt/media/Fx10383_switch_OUTPUT.wav" ContentType="audio/x-wav"/>
  <Override PartName="/ppt/media/image39.png" ContentType="image/png"/>
  <Override PartName="/ppt/media/image50.jpeg" ContentType="image/jpeg"/>
  <Override PartName="/ppt/media/image9.jpeg" ContentType="image/jpeg"/>
  <Override PartName="/ppt/media/image48.png" ContentType="image/png"/>
  <Override PartName="/ppt/media/image56.jpeg" ContentType="image/jpeg"/>
  <Override PartName="/ppt/media/image33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0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25.png" ContentType="image/png"/>
  <Override PartName="/ppt/media/image2.gif" ContentType="image/gif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E7D4-7CD2-4707-B6F9-0FAB925D567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3E72-E277-4C41-8EBB-28478419A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F706-80B0-4899-946C-3C23DBBF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2018-B1FC-42F5-8989-66F0A784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88F1-0F7D-408D-B894-5EAFDB731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D940-4474-4234-B2D2-BF0542507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A92-9BEA-4816-9FB6-586E71D6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756-738C-4050-8CD5-91575558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C6E-E80C-41C0-A2AB-F51079AD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AFC-3AA1-49EE-B1ED-D865CAE6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886-B256-4022-9B79-D3F6FE3A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888-F78B-43F1-BF09-79653FBD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B13-E5E6-4962-B808-A2C8DEE6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5A0-123A-4373-8E19-2FE8360D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7CE-8582-437C-B4FC-D6C52557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190-7044-44FB-BB2A-40EF637F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392-78EE-42B5-8E23-981D229A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36C-163C-4BB7-8700-5337F17E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66D8-22B3-4450-B866-C0094A4F9E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83D6-A717-46F1-9660-0C759B4EE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9.png"/><Relationship Id="rId7" Type="http://schemas.openxmlformats.org/officeDocument/2006/relationships/audio" Target="../media/Fx10383_switch_OUTPUT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image" Target="../media/image46.jpe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3.jpeg"/><Relationship Id="rId3" Type="http://schemas.openxmlformats.org/officeDocument/2006/relationships/image" Target="../media/image5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MTC_00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gif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42960" y="1052640"/>
          <a:ext cx="5929200" cy="6397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Unit 2  What time is it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642960" y="2703600"/>
            <a:ext cx="7866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第五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239616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1"/>
          <p:cNvPicPr/>
          <p:nvPr/>
        </p:nvPicPr>
        <p:blipFill>
          <a:blip r:embed="rId1"/>
          <a:stretch/>
        </p:blipFill>
        <p:spPr>
          <a:xfrm>
            <a:off x="-190440" y="-144360"/>
            <a:ext cx="9524880" cy="7146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mubu2"/>
          <p:cNvPicPr/>
          <p:nvPr/>
        </p:nvPicPr>
        <p:blipFill>
          <a:blip r:embed="rId2"/>
          <a:stretch/>
        </p:blipFill>
        <p:spPr>
          <a:xfrm>
            <a:off x="1042920" y="476280"/>
            <a:ext cx="3819600" cy="5562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mubu1"/>
          <p:cNvPicPr/>
          <p:nvPr/>
        </p:nvPicPr>
        <p:blipFill>
          <a:blip r:embed="rId3"/>
          <a:stretch/>
        </p:blipFill>
        <p:spPr>
          <a:xfrm>
            <a:off x="4500720" y="476280"/>
            <a:ext cx="3676320" cy="5589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2"/>
          <p:cNvPicPr/>
          <p:nvPr/>
        </p:nvPicPr>
        <p:blipFill>
          <a:blip r:embed="rId4"/>
          <a:stretch/>
        </p:blipFill>
        <p:spPr>
          <a:xfrm>
            <a:off x="0" y="404640"/>
            <a:ext cx="9524880" cy="7143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light2"/>
          <p:cNvPicPr/>
          <p:nvPr/>
        </p:nvPicPr>
        <p:blipFill>
          <a:blip r:embed="rId5"/>
          <a:stretch/>
        </p:blipFill>
        <p:spPr>
          <a:xfrm>
            <a:off x="2916360" y="907920"/>
            <a:ext cx="3657600" cy="5448600"/>
          </a:xfrm>
          <a:prstGeom prst="rect">
            <a:avLst/>
          </a:prstGeom>
          <a:ln w="0">
            <a:noFill/>
          </a:ln>
        </p:spPr>
      </p:pic>
      <p:pic>
        <p:nvPicPr>
          <p:cNvPr id="192" name="Fx103019.wav" descr=""/>
          <p:cNvPicPr/>
          <p:nvPr/>
        </p:nvPicPr>
        <p:blipFill>
          <a:blip r:embed="rId6"/>
          <a:stretch/>
        </p:blipFill>
        <p:spPr>
          <a:xfrm>
            <a:off x="8991720" y="6705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17"/>
          <p:cNvSpPr txBox="1"/>
          <p:nvPr/>
        </p:nvSpPr>
        <p:spPr>
          <a:xfrm>
            <a:off x="2340000" y="3213000"/>
            <a:ext cx="475308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Story time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x10383_switch_OUTP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3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32" dur="3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34" dur="2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36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334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page-0024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20090423175423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4"/>
          <p:cNvPicPr/>
          <p:nvPr/>
        </p:nvPicPr>
        <p:blipFill>
          <a:blip r:embed="rId2"/>
          <a:stretch/>
        </p:blipFill>
        <p:spPr>
          <a:xfrm>
            <a:off x="539640" y="260280"/>
            <a:ext cx="1905120" cy="1971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6"/>
          <p:cNvPicPr/>
          <p:nvPr/>
        </p:nvPicPr>
        <p:blipFill>
          <a:blip r:embed="rId3"/>
          <a:stretch/>
        </p:blipFill>
        <p:spPr>
          <a:xfrm>
            <a:off x="4067280" y="4437000"/>
            <a:ext cx="1714320" cy="1868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4"/>
          <a:stretch/>
        </p:blipFill>
        <p:spPr>
          <a:xfrm>
            <a:off x="5003640" y="2349360"/>
            <a:ext cx="2071800" cy="1930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clock"/>
          <p:cNvPicPr/>
          <p:nvPr/>
        </p:nvPicPr>
        <p:blipFill>
          <a:blip r:embed="rId5"/>
          <a:srcRect l="15379" t="0" r="14564" b="48188"/>
          <a:stretch/>
        </p:blipFill>
        <p:spPr>
          <a:xfrm>
            <a:off x="395280" y="4437000"/>
            <a:ext cx="2031840" cy="2158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6"/>
          <a:stretch/>
        </p:blipFill>
        <p:spPr>
          <a:xfrm>
            <a:off x="4788000" y="404640"/>
            <a:ext cx="2249280" cy="1702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7"/>
          <a:stretch/>
        </p:blipFill>
        <p:spPr>
          <a:xfrm>
            <a:off x="539640" y="2349360"/>
            <a:ext cx="1943280" cy="2089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2885400" y="1197000"/>
            <a:ext cx="13993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来找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20090423175506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a 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20120321143011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u=3261674594,2839011849&amp;fm=59"/>
          <p:cNvPicPr/>
          <p:nvPr/>
        </p:nvPicPr>
        <p:blipFill>
          <a:blip r:embed="rId2"/>
          <a:stretch/>
        </p:blipFill>
        <p:spPr>
          <a:xfrm>
            <a:off x="0" y="189000"/>
            <a:ext cx="8712360" cy="5472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2700360" y="1484280"/>
            <a:ext cx="1728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00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6227640" y="1125360"/>
            <a:ext cx="1916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00 p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203640" y="3068640"/>
            <a:ext cx="2082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澳大利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1979640" y="404640"/>
            <a:ext cx="453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Make a dialogue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20120321143011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u=3261674594,2839011849&amp;fm=59"/>
          <p:cNvPicPr/>
          <p:nvPr/>
        </p:nvPicPr>
        <p:blipFill>
          <a:blip r:embed="rId2"/>
          <a:stretch/>
        </p:blipFill>
        <p:spPr>
          <a:xfrm>
            <a:off x="0" y="189000"/>
            <a:ext cx="8712360" cy="5472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2700360" y="1484280"/>
            <a:ext cx="187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00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227640" y="1125360"/>
            <a:ext cx="1916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00 p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203640" y="3068640"/>
            <a:ext cx="21542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澳大利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195640" y="4149720"/>
            <a:ext cx="489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here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I'm i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hat time is it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It's... o'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t's time to/fo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Oh.Let's g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10"/>
          <p:cNvSpPr txBox="1"/>
          <p:nvPr/>
        </p:nvSpPr>
        <p:spPr>
          <a:xfrm>
            <a:off x="1979640" y="404640"/>
            <a:ext cx="453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Make a dialogue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20120307081028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9640" y="1413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1"/>
          <p:cNvPicPr/>
          <p:nvPr/>
        </p:nvPicPr>
        <p:blipFill>
          <a:blip r:embed="rId2"/>
          <a:stretch/>
        </p:blipFill>
        <p:spPr>
          <a:xfrm>
            <a:off x="611280" y="2565360"/>
            <a:ext cx="1265040" cy="1312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2"/>
          <p:cNvPicPr/>
          <p:nvPr/>
        </p:nvPicPr>
        <p:blipFill>
          <a:blip r:embed="rId3"/>
          <a:stretch/>
        </p:blipFill>
        <p:spPr>
          <a:xfrm>
            <a:off x="2124000" y="2637000"/>
            <a:ext cx="1268640" cy="1144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6"/>
          <p:cNvPicPr/>
          <p:nvPr/>
        </p:nvPicPr>
        <p:blipFill>
          <a:blip r:embed="rId4"/>
          <a:stretch/>
        </p:blipFill>
        <p:spPr>
          <a:xfrm>
            <a:off x="3851280" y="2708280"/>
            <a:ext cx="1368360" cy="1068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5"/>
          <a:stretch/>
        </p:blipFill>
        <p:spPr>
          <a:xfrm>
            <a:off x="5580000" y="2708280"/>
            <a:ext cx="1125720" cy="1069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360截图20130930201318768"/>
          <p:cNvPicPr/>
          <p:nvPr/>
        </p:nvPicPr>
        <p:blipFill>
          <a:blip r:embed="rId6"/>
          <a:stretch/>
        </p:blipFill>
        <p:spPr>
          <a:xfrm>
            <a:off x="7236000" y="2708280"/>
            <a:ext cx="10191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20120307081028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1042920" y="1125360"/>
            <a:ext cx="6672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情境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    ）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别人问你几点了，你应回答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What time is it?      B It’s 10 o’c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    )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晚上七点了，你该吃晚饭了，你会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It time for lunch.     B. It’s time for di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    )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你想叫杨明和你一起去上学，你会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. Let’s go to school, Yang M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. It’s time to go to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,f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选词填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's time _____ get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's time _____ lu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's time _____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's time _____ go to 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2008121401847937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418680" y="2003400"/>
            <a:ext cx="838152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)Listen to and repeat “Story tim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)Make a new story according to “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m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826920" y="907920"/>
            <a:ext cx="2665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mework: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OOOPIC_ling_200905084efecc088a66c65b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2124000" y="2781360"/>
            <a:ext cx="338472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724280" y="2949480"/>
            <a:ext cx="144000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284720" y="2708280"/>
            <a:ext cx="3384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012000" y="3103560"/>
            <a:ext cx="14396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62520" y="2247840"/>
            <a:ext cx="129528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ShanZi0086"/>
          <p:cNvPicPr/>
          <p:nvPr/>
        </p:nvPicPr>
        <p:blipFill>
          <a:blip r:embed="rId2"/>
          <a:stretch/>
        </p:blipFill>
        <p:spPr>
          <a:xfrm>
            <a:off x="1908000" y="2205000"/>
            <a:ext cx="662472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941480" y="38480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32857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908000" y="1698480"/>
            <a:ext cx="5256360" cy="19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Who can tell me your typical day?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7" name="Picture 6" descr="1416093_13617931478CR9"/>
          <p:cNvPicPr/>
          <p:nvPr/>
        </p:nvPicPr>
        <p:blipFill>
          <a:blip r:embed="rId2"/>
          <a:stretch/>
        </p:blipFill>
        <p:spPr>
          <a:xfrm>
            <a:off x="3492360" y="4078440"/>
            <a:ext cx="1905120" cy="190332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"/>
          <p:cNvSpPr/>
          <p:nvPr/>
        </p:nvSpPr>
        <p:spPr>
          <a:xfrm>
            <a:off x="541440" y="6245280"/>
            <a:ext cx="62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C_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2C1F-7EE9-4231-95B6-CF4E8883A1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258187363hhc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 a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79280" y="1773360"/>
            <a:ext cx="8604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kety  tackety tack. I just saw a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kety tacety toe. It’s twelve o’clock, you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kety tackety tack. I just heard a sn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kety tackety toe. He caught a mouse, you k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"/>
          <p:cNvGrpSpPr/>
          <p:nvPr/>
        </p:nvGrpSpPr>
        <p:grpSpPr>
          <a:xfrm>
            <a:off x="6713640" y="260280"/>
            <a:ext cx="2430360" cy="2735280"/>
            <a:chOff x="6713640" y="260280"/>
            <a:chExt cx="2430360" cy="2735280"/>
          </a:xfrm>
        </p:grpSpPr>
        <p:pic>
          <p:nvPicPr>
            <p:cNvPr id="64" name="Picture 3" descr=""/>
            <p:cNvPicPr/>
            <p:nvPr/>
          </p:nvPicPr>
          <p:blipFill>
            <a:blip r:embed="rId2"/>
            <a:stretch/>
          </p:blipFill>
          <p:spPr>
            <a:xfrm>
              <a:off x="6713640" y="260280"/>
              <a:ext cx="243036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4" descr=""/>
            <p:cNvPicPr/>
            <p:nvPr/>
          </p:nvPicPr>
          <p:blipFill>
            <a:blip r:embed="rId3"/>
            <a:stretch/>
          </p:blipFill>
          <p:spPr>
            <a:xfrm>
              <a:off x="7956720" y="1454040"/>
              <a:ext cx="19836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4"/>
            <a:stretch/>
          </p:blipFill>
          <p:spPr>
            <a:xfrm rot="2673000">
              <a:off x="7926840" y="1603080"/>
              <a:ext cx="307800" cy="34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2008217985025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192600" y="1341360"/>
            <a:ext cx="16426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"/>
              </a:rPr>
              <a:t>考考你眼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起床2"/>
          <p:cNvPicPr/>
          <p:nvPr/>
        </p:nvPicPr>
        <p:blipFill>
          <a:blip r:embed="rId2"/>
          <a:stretch/>
        </p:blipFill>
        <p:spPr>
          <a:xfrm>
            <a:off x="3564000" y="1844640"/>
            <a:ext cx="1987560" cy="288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564000" y="1916280"/>
            <a:ext cx="2303280" cy="284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4"/>
          <a:stretch/>
        </p:blipFill>
        <p:spPr>
          <a:xfrm>
            <a:off x="3564000" y="1916280"/>
            <a:ext cx="2232000" cy="288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睡觉1"/>
          <p:cNvPicPr/>
          <p:nvPr/>
        </p:nvPicPr>
        <p:blipFill>
          <a:blip r:embed="rId5"/>
          <a:stretch/>
        </p:blipFill>
        <p:spPr>
          <a:xfrm>
            <a:off x="3348000" y="1989000"/>
            <a:ext cx="2664000" cy="2710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1"/>
          <p:cNvPicPr/>
          <p:nvPr/>
        </p:nvPicPr>
        <p:blipFill>
          <a:blip r:embed="rId6"/>
          <a:stretch/>
        </p:blipFill>
        <p:spPr>
          <a:xfrm>
            <a:off x="3419640" y="1989000"/>
            <a:ext cx="2522520" cy="268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6"/>
          <p:cNvPicPr/>
          <p:nvPr/>
        </p:nvPicPr>
        <p:blipFill>
          <a:blip r:embed="rId7"/>
          <a:stretch/>
        </p:blipFill>
        <p:spPr>
          <a:xfrm>
            <a:off x="3419640" y="1773360"/>
            <a:ext cx="257796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5"/>
          <p:cNvPicPr/>
          <p:nvPr/>
        </p:nvPicPr>
        <p:blipFill>
          <a:blip r:embed="rId8"/>
          <a:stretch/>
        </p:blipFill>
        <p:spPr>
          <a:xfrm>
            <a:off x="3419640" y="1700280"/>
            <a:ext cx="24033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           o’clock.   It’s time to g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            o’clock.  It’s time to go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863640" cy="1125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2124000" y="4365720"/>
            <a:ext cx="100800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【鼓点】.mp3" descr=""/>
          <p:cNvPicPr/>
          <p:nvPr/>
        </p:nvPicPr>
        <p:blipFill>
          <a:blip r:embed="rId4"/>
          <a:stretch/>
        </p:blipFill>
        <p:spPr>
          <a:xfrm>
            <a:off x="7308720" y="5589720"/>
            <a:ext cx="73836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85863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3"/>
          <p:cNvGrpSpPr/>
          <p:nvPr/>
        </p:nvGrpSpPr>
        <p:grpSpPr>
          <a:xfrm>
            <a:off x="1433520" y="6230520"/>
            <a:ext cx="316080" cy="627480"/>
            <a:chOff x="1433520" y="6230520"/>
            <a:chExt cx="316080" cy="627480"/>
          </a:xfrm>
        </p:grpSpPr>
        <p:sp>
          <p:nvSpPr>
            <p:cNvPr id="86" name="任意多边形 14"/>
            <p:cNvSpPr/>
            <p:nvPr/>
          </p:nvSpPr>
          <p:spPr>
            <a:xfrm>
              <a:off x="1433520" y="6230520"/>
              <a:ext cx="316080" cy="627480"/>
            </a:xfrm>
            <a:custGeom>
              <a:avLst/>
              <a:gdLst/>
              <a:ahLst/>
              <a:rect l="l" t="t" r="r" b="b"/>
              <a:pathLst>
                <a:path w="847165" h="1586753">
                  <a:moveTo>
                    <a:pt x="336176" y="134470"/>
                  </a:moveTo>
                  <a:lnTo>
                    <a:pt x="309282" y="632011"/>
                  </a:lnTo>
                  <a:lnTo>
                    <a:pt x="67235" y="605117"/>
                  </a:lnTo>
                  <a:lnTo>
                    <a:pt x="40341" y="457200"/>
                  </a:lnTo>
                  <a:lnTo>
                    <a:pt x="0" y="524435"/>
                  </a:lnTo>
                  <a:lnTo>
                    <a:pt x="40341" y="632011"/>
                  </a:lnTo>
                  <a:lnTo>
                    <a:pt x="336176" y="672353"/>
                  </a:lnTo>
                  <a:lnTo>
                    <a:pt x="309282" y="1425388"/>
                  </a:lnTo>
                  <a:lnTo>
                    <a:pt x="147918" y="1573306"/>
                  </a:lnTo>
                  <a:lnTo>
                    <a:pt x="847165" y="1586753"/>
                  </a:lnTo>
                  <a:lnTo>
                    <a:pt x="833718" y="1492623"/>
                  </a:lnTo>
                  <a:lnTo>
                    <a:pt x="699247" y="1183341"/>
                  </a:lnTo>
                  <a:lnTo>
                    <a:pt x="820271" y="1183341"/>
                  </a:lnTo>
                  <a:lnTo>
                    <a:pt x="820271" y="1129553"/>
                  </a:lnTo>
                  <a:lnTo>
                    <a:pt x="699247" y="1143000"/>
                  </a:lnTo>
                  <a:lnTo>
                    <a:pt x="537882" y="0"/>
                  </a:lnTo>
                  <a:lnTo>
                    <a:pt x="336176" y="134470"/>
                  </a:lnTo>
                  <a:close/>
                </a:path>
              </a:pathLst>
            </a:custGeom>
            <a:solidFill>
              <a:srgbClr val="171745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88" name="组合 25"/>
          <p:cNvGrpSpPr/>
          <p:nvPr/>
        </p:nvGrpSpPr>
        <p:grpSpPr>
          <a:xfrm>
            <a:off x="2788920" y="5687640"/>
            <a:ext cx="379440" cy="746640"/>
            <a:chOff x="2788920" y="5687640"/>
            <a:chExt cx="379440" cy="746640"/>
          </a:xfrm>
        </p:grpSpPr>
        <p:sp>
          <p:nvSpPr>
            <p:cNvPr id="89" name="任意多边形 26"/>
            <p:cNvSpPr/>
            <p:nvPr/>
          </p:nvSpPr>
          <p:spPr>
            <a:xfrm>
              <a:off x="2788920" y="5687640"/>
              <a:ext cx="379440" cy="746640"/>
            </a:xfrm>
            <a:custGeom>
              <a:avLst/>
              <a:gdLst/>
              <a:ahLst/>
              <a:rect l="l" t="t" r="r" b="b"/>
              <a:pathLst>
                <a:path w="847165" h="1586753">
                  <a:moveTo>
                    <a:pt x="336176" y="134470"/>
                  </a:moveTo>
                  <a:lnTo>
                    <a:pt x="309282" y="632011"/>
                  </a:lnTo>
                  <a:lnTo>
                    <a:pt x="67235" y="605117"/>
                  </a:lnTo>
                  <a:lnTo>
                    <a:pt x="40341" y="457200"/>
                  </a:lnTo>
                  <a:lnTo>
                    <a:pt x="0" y="524435"/>
                  </a:lnTo>
                  <a:lnTo>
                    <a:pt x="40341" y="632011"/>
                  </a:lnTo>
                  <a:lnTo>
                    <a:pt x="336176" y="672353"/>
                  </a:lnTo>
                  <a:lnTo>
                    <a:pt x="309282" y="1425388"/>
                  </a:lnTo>
                  <a:lnTo>
                    <a:pt x="147918" y="1573306"/>
                  </a:lnTo>
                  <a:lnTo>
                    <a:pt x="847165" y="1586753"/>
                  </a:lnTo>
                  <a:lnTo>
                    <a:pt x="833718" y="1492623"/>
                  </a:lnTo>
                  <a:lnTo>
                    <a:pt x="699247" y="1183341"/>
                  </a:lnTo>
                  <a:lnTo>
                    <a:pt x="820271" y="1183341"/>
                  </a:lnTo>
                  <a:lnTo>
                    <a:pt x="820271" y="1129553"/>
                  </a:lnTo>
                  <a:lnTo>
                    <a:pt x="699247" y="1143000"/>
                  </a:lnTo>
                  <a:lnTo>
                    <a:pt x="537882" y="0"/>
                  </a:lnTo>
                  <a:lnTo>
                    <a:pt x="336176" y="134470"/>
                  </a:lnTo>
                  <a:close/>
                </a:path>
              </a:pathLst>
            </a:custGeom>
            <a:solidFill>
              <a:srgbClr val="171745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组合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91" name="组合 37"/>
          <p:cNvGrpSpPr/>
          <p:nvPr/>
        </p:nvGrpSpPr>
        <p:grpSpPr>
          <a:xfrm>
            <a:off x="2241360" y="5905080"/>
            <a:ext cx="338040" cy="667080"/>
            <a:chOff x="2241360" y="5905080"/>
            <a:chExt cx="338040" cy="667080"/>
          </a:xfrm>
        </p:grpSpPr>
        <p:sp>
          <p:nvSpPr>
            <p:cNvPr id="92" name="任意多边形 38"/>
            <p:cNvSpPr/>
            <p:nvPr/>
          </p:nvSpPr>
          <p:spPr>
            <a:xfrm>
              <a:off x="2241360" y="5905080"/>
              <a:ext cx="338040" cy="667080"/>
            </a:xfrm>
            <a:custGeom>
              <a:avLst/>
              <a:gdLst/>
              <a:ahLst/>
              <a:rect l="l" t="t" r="r" b="b"/>
              <a:pathLst>
                <a:path w="847165" h="1586753">
                  <a:moveTo>
                    <a:pt x="336176" y="134470"/>
                  </a:moveTo>
                  <a:lnTo>
                    <a:pt x="309282" y="632011"/>
                  </a:lnTo>
                  <a:lnTo>
                    <a:pt x="67235" y="605117"/>
                  </a:lnTo>
                  <a:lnTo>
                    <a:pt x="40341" y="457200"/>
                  </a:lnTo>
                  <a:lnTo>
                    <a:pt x="0" y="524435"/>
                  </a:lnTo>
                  <a:lnTo>
                    <a:pt x="40341" y="632011"/>
                  </a:lnTo>
                  <a:lnTo>
                    <a:pt x="336176" y="672353"/>
                  </a:lnTo>
                  <a:lnTo>
                    <a:pt x="309282" y="1425388"/>
                  </a:lnTo>
                  <a:lnTo>
                    <a:pt x="147918" y="1573306"/>
                  </a:lnTo>
                  <a:lnTo>
                    <a:pt x="847165" y="1586753"/>
                  </a:lnTo>
                  <a:lnTo>
                    <a:pt x="833718" y="1492623"/>
                  </a:lnTo>
                  <a:lnTo>
                    <a:pt x="699247" y="1183341"/>
                  </a:lnTo>
                  <a:lnTo>
                    <a:pt x="820271" y="1183341"/>
                  </a:lnTo>
                  <a:lnTo>
                    <a:pt x="820271" y="1129553"/>
                  </a:lnTo>
                  <a:lnTo>
                    <a:pt x="699247" y="1143000"/>
                  </a:lnTo>
                  <a:lnTo>
                    <a:pt x="537882" y="0"/>
                  </a:lnTo>
                  <a:lnTo>
                    <a:pt x="336176" y="134470"/>
                  </a:lnTo>
                  <a:close/>
                </a:path>
              </a:pathLst>
            </a:custGeom>
            <a:solidFill>
              <a:srgbClr val="171745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94" name="组合 49"/>
          <p:cNvGrpSpPr/>
          <p:nvPr/>
        </p:nvGrpSpPr>
        <p:grpSpPr>
          <a:xfrm>
            <a:off x="3523680" y="5871600"/>
            <a:ext cx="464760" cy="905400"/>
            <a:chOff x="3523680" y="5871600"/>
            <a:chExt cx="464760" cy="905400"/>
          </a:xfrm>
        </p:grpSpPr>
        <p:sp>
          <p:nvSpPr>
            <p:cNvPr id="95" name="任意多边形 50"/>
            <p:cNvSpPr/>
            <p:nvPr/>
          </p:nvSpPr>
          <p:spPr>
            <a:xfrm>
              <a:off x="3523680" y="5871600"/>
              <a:ext cx="464760" cy="905400"/>
            </a:xfrm>
            <a:custGeom>
              <a:avLst/>
              <a:gdLst/>
              <a:ahLst/>
              <a:rect l="l" t="t" r="r" b="b"/>
              <a:pathLst>
                <a:path w="847165" h="1586753">
                  <a:moveTo>
                    <a:pt x="336176" y="134470"/>
                  </a:moveTo>
                  <a:lnTo>
                    <a:pt x="309282" y="632011"/>
                  </a:lnTo>
                  <a:lnTo>
                    <a:pt x="67235" y="605117"/>
                  </a:lnTo>
                  <a:lnTo>
                    <a:pt x="40341" y="457200"/>
                  </a:lnTo>
                  <a:lnTo>
                    <a:pt x="0" y="524435"/>
                  </a:lnTo>
                  <a:lnTo>
                    <a:pt x="40341" y="632011"/>
                  </a:lnTo>
                  <a:lnTo>
                    <a:pt x="336176" y="672353"/>
                  </a:lnTo>
                  <a:lnTo>
                    <a:pt x="309282" y="1425388"/>
                  </a:lnTo>
                  <a:lnTo>
                    <a:pt x="147918" y="1573306"/>
                  </a:lnTo>
                  <a:lnTo>
                    <a:pt x="847165" y="1586753"/>
                  </a:lnTo>
                  <a:lnTo>
                    <a:pt x="833718" y="1492623"/>
                  </a:lnTo>
                  <a:lnTo>
                    <a:pt x="699247" y="1183341"/>
                  </a:lnTo>
                  <a:lnTo>
                    <a:pt x="820271" y="1183341"/>
                  </a:lnTo>
                  <a:lnTo>
                    <a:pt x="820271" y="1129553"/>
                  </a:lnTo>
                  <a:lnTo>
                    <a:pt x="699247" y="1143000"/>
                  </a:lnTo>
                  <a:lnTo>
                    <a:pt x="537882" y="0"/>
                  </a:lnTo>
                  <a:lnTo>
                    <a:pt x="336176" y="134470"/>
                  </a:lnTo>
                  <a:close/>
                </a:path>
              </a:pathLst>
            </a:custGeom>
            <a:solidFill>
              <a:srgbClr val="171745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组合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97" name="组合 61"/>
          <p:cNvGrpSpPr/>
          <p:nvPr/>
        </p:nvGrpSpPr>
        <p:grpSpPr>
          <a:xfrm>
            <a:off x="4546080" y="5854320"/>
            <a:ext cx="550080" cy="1065600"/>
            <a:chOff x="4546080" y="5854320"/>
            <a:chExt cx="550080" cy="1065600"/>
          </a:xfrm>
        </p:grpSpPr>
        <p:sp>
          <p:nvSpPr>
            <p:cNvPr id="98" name="任意多边形 62"/>
            <p:cNvSpPr/>
            <p:nvPr/>
          </p:nvSpPr>
          <p:spPr>
            <a:xfrm>
              <a:off x="4546080" y="5854320"/>
              <a:ext cx="550080" cy="1065600"/>
            </a:xfrm>
            <a:custGeom>
              <a:avLst/>
              <a:gdLst/>
              <a:ahLst/>
              <a:rect l="l" t="t" r="r" b="b"/>
              <a:pathLst>
                <a:path w="847165" h="1586753">
                  <a:moveTo>
                    <a:pt x="336176" y="134470"/>
                  </a:moveTo>
                  <a:lnTo>
                    <a:pt x="309282" y="632011"/>
                  </a:lnTo>
                  <a:lnTo>
                    <a:pt x="67235" y="605117"/>
                  </a:lnTo>
                  <a:lnTo>
                    <a:pt x="40341" y="457200"/>
                  </a:lnTo>
                  <a:lnTo>
                    <a:pt x="0" y="524435"/>
                  </a:lnTo>
                  <a:lnTo>
                    <a:pt x="40341" y="632011"/>
                  </a:lnTo>
                  <a:lnTo>
                    <a:pt x="336176" y="672353"/>
                  </a:lnTo>
                  <a:lnTo>
                    <a:pt x="309282" y="1425388"/>
                  </a:lnTo>
                  <a:lnTo>
                    <a:pt x="147918" y="1573306"/>
                  </a:lnTo>
                  <a:lnTo>
                    <a:pt x="847165" y="1586753"/>
                  </a:lnTo>
                  <a:lnTo>
                    <a:pt x="833718" y="1492623"/>
                  </a:lnTo>
                  <a:lnTo>
                    <a:pt x="699247" y="1183341"/>
                  </a:lnTo>
                  <a:lnTo>
                    <a:pt x="820271" y="1183341"/>
                  </a:lnTo>
                  <a:lnTo>
                    <a:pt x="820271" y="1129553"/>
                  </a:lnTo>
                  <a:lnTo>
                    <a:pt x="699247" y="1143000"/>
                  </a:lnTo>
                  <a:lnTo>
                    <a:pt x="537882" y="0"/>
                  </a:lnTo>
                  <a:lnTo>
                    <a:pt x="336176" y="134470"/>
                  </a:lnTo>
                  <a:close/>
                </a:path>
              </a:pathLst>
            </a:custGeom>
            <a:solidFill>
              <a:srgbClr val="171745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组合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00" name="组合 73"/>
          <p:cNvGrpSpPr/>
          <p:nvPr/>
        </p:nvGrpSpPr>
        <p:grpSpPr>
          <a:xfrm>
            <a:off x="5961600" y="5871600"/>
            <a:ext cx="464760" cy="905400"/>
            <a:chOff x="5961600" y="5871600"/>
            <a:chExt cx="464760" cy="905400"/>
          </a:xfrm>
        </p:grpSpPr>
        <p:sp>
          <p:nvSpPr>
            <p:cNvPr id="101" name="任意多边形 74"/>
            <p:cNvSpPr/>
            <p:nvPr/>
          </p:nvSpPr>
          <p:spPr>
            <a:xfrm flipH="1">
              <a:off x="5961240" y="5871600"/>
              <a:ext cx="464760" cy="905400"/>
            </a:xfrm>
            <a:custGeom>
              <a:avLst/>
              <a:gdLst/>
              <a:ahLst/>
              <a:rect l="l" t="t" r="r" b="b"/>
              <a:pathLst>
                <a:path w="847165" h="1586753">
                  <a:moveTo>
                    <a:pt x="336176" y="134470"/>
                  </a:moveTo>
                  <a:lnTo>
                    <a:pt x="309282" y="632011"/>
                  </a:lnTo>
                  <a:lnTo>
                    <a:pt x="67235" y="605117"/>
                  </a:lnTo>
                  <a:lnTo>
                    <a:pt x="40341" y="457200"/>
                  </a:lnTo>
                  <a:lnTo>
                    <a:pt x="0" y="524435"/>
                  </a:lnTo>
                  <a:lnTo>
                    <a:pt x="40341" y="632011"/>
                  </a:lnTo>
                  <a:lnTo>
                    <a:pt x="336176" y="672353"/>
                  </a:lnTo>
                  <a:lnTo>
                    <a:pt x="309282" y="1425388"/>
                  </a:lnTo>
                  <a:lnTo>
                    <a:pt x="147918" y="1573306"/>
                  </a:lnTo>
                  <a:lnTo>
                    <a:pt x="847165" y="1586753"/>
                  </a:lnTo>
                  <a:lnTo>
                    <a:pt x="833718" y="1492623"/>
                  </a:lnTo>
                  <a:lnTo>
                    <a:pt x="699247" y="1183341"/>
                  </a:lnTo>
                  <a:lnTo>
                    <a:pt x="820271" y="1183341"/>
                  </a:lnTo>
                  <a:lnTo>
                    <a:pt x="820271" y="1129553"/>
                  </a:lnTo>
                  <a:lnTo>
                    <a:pt x="699247" y="1143000"/>
                  </a:lnTo>
                  <a:lnTo>
                    <a:pt x="537882" y="0"/>
                  </a:lnTo>
                  <a:lnTo>
                    <a:pt x="336176" y="134470"/>
                  </a:lnTo>
                  <a:close/>
                </a:path>
              </a:pathLst>
            </a:custGeom>
            <a:solidFill>
              <a:srgbClr val="171745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03" name="组合 85"/>
          <p:cNvGrpSpPr/>
          <p:nvPr/>
        </p:nvGrpSpPr>
        <p:grpSpPr>
          <a:xfrm>
            <a:off x="7452720" y="5751000"/>
            <a:ext cx="528120" cy="1026000"/>
            <a:chOff x="7452720" y="5751000"/>
            <a:chExt cx="528120" cy="1026000"/>
          </a:xfrm>
        </p:grpSpPr>
        <p:sp>
          <p:nvSpPr>
            <p:cNvPr id="104" name="任意多边形 86"/>
            <p:cNvSpPr/>
            <p:nvPr/>
          </p:nvSpPr>
          <p:spPr>
            <a:xfrm>
              <a:off x="7452720" y="5751000"/>
              <a:ext cx="528120" cy="1026000"/>
            </a:xfrm>
            <a:custGeom>
              <a:avLst/>
              <a:gdLst/>
              <a:ahLst/>
              <a:rect l="l" t="t" r="r" b="b"/>
              <a:pathLst>
                <a:path w="847165" h="1586753">
                  <a:moveTo>
                    <a:pt x="336176" y="134470"/>
                  </a:moveTo>
                  <a:lnTo>
                    <a:pt x="309282" y="632011"/>
                  </a:lnTo>
                  <a:lnTo>
                    <a:pt x="67235" y="605117"/>
                  </a:lnTo>
                  <a:lnTo>
                    <a:pt x="40341" y="457200"/>
                  </a:lnTo>
                  <a:lnTo>
                    <a:pt x="0" y="524435"/>
                  </a:lnTo>
                  <a:lnTo>
                    <a:pt x="40341" y="632011"/>
                  </a:lnTo>
                  <a:lnTo>
                    <a:pt x="336176" y="672353"/>
                  </a:lnTo>
                  <a:lnTo>
                    <a:pt x="309282" y="1425388"/>
                  </a:lnTo>
                  <a:lnTo>
                    <a:pt x="147918" y="1573306"/>
                  </a:lnTo>
                  <a:lnTo>
                    <a:pt x="847165" y="1586753"/>
                  </a:lnTo>
                  <a:lnTo>
                    <a:pt x="833718" y="1492623"/>
                  </a:lnTo>
                  <a:lnTo>
                    <a:pt x="699247" y="1183341"/>
                  </a:lnTo>
                  <a:lnTo>
                    <a:pt x="820271" y="1183341"/>
                  </a:lnTo>
                  <a:lnTo>
                    <a:pt x="820271" y="1129553"/>
                  </a:lnTo>
                  <a:lnTo>
                    <a:pt x="699247" y="1143000"/>
                  </a:lnTo>
                  <a:lnTo>
                    <a:pt x="537882" y="0"/>
                  </a:lnTo>
                  <a:lnTo>
                    <a:pt x="336176" y="134470"/>
                  </a:lnTo>
                  <a:close/>
                </a:path>
              </a:pathLst>
            </a:custGeom>
            <a:solidFill>
              <a:srgbClr val="171745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组合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06" name="组合 97"/>
          <p:cNvGrpSpPr/>
          <p:nvPr/>
        </p:nvGrpSpPr>
        <p:grpSpPr>
          <a:xfrm>
            <a:off x="6689160" y="5854320"/>
            <a:ext cx="550080" cy="1065600"/>
            <a:chOff x="6689160" y="5854320"/>
            <a:chExt cx="550080" cy="1065600"/>
          </a:xfrm>
        </p:grpSpPr>
        <p:sp>
          <p:nvSpPr>
            <p:cNvPr id="107" name="任意多边形 98"/>
            <p:cNvSpPr/>
            <p:nvPr/>
          </p:nvSpPr>
          <p:spPr>
            <a:xfrm>
              <a:off x="6689160" y="5854320"/>
              <a:ext cx="550080" cy="1065600"/>
            </a:xfrm>
            <a:custGeom>
              <a:avLst/>
              <a:gdLst/>
              <a:ahLst/>
              <a:rect l="l" t="t" r="r" b="b"/>
              <a:pathLst>
                <a:path w="847165" h="1586753">
                  <a:moveTo>
                    <a:pt x="336176" y="134470"/>
                  </a:moveTo>
                  <a:lnTo>
                    <a:pt x="309282" y="632011"/>
                  </a:lnTo>
                  <a:lnTo>
                    <a:pt x="67235" y="605117"/>
                  </a:lnTo>
                  <a:lnTo>
                    <a:pt x="40341" y="457200"/>
                  </a:lnTo>
                  <a:lnTo>
                    <a:pt x="0" y="524435"/>
                  </a:lnTo>
                  <a:lnTo>
                    <a:pt x="40341" y="632011"/>
                  </a:lnTo>
                  <a:lnTo>
                    <a:pt x="336176" y="672353"/>
                  </a:lnTo>
                  <a:lnTo>
                    <a:pt x="309282" y="1425388"/>
                  </a:lnTo>
                  <a:lnTo>
                    <a:pt x="147918" y="1573306"/>
                  </a:lnTo>
                  <a:lnTo>
                    <a:pt x="847165" y="1586753"/>
                  </a:lnTo>
                  <a:lnTo>
                    <a:pt x="833718" y="1492623"/>
                  </a:lnTo>
                  <a:lnTo>
                    <a:pt x="699247" y="1183341"/>
                  </a:lnTo>
                  <a:lnTo>
                    <a:pt x="820271" y="1183341"/>
                  </a:lnTo>
                  <a:lnTo>
                    <a:pt x="820271" y="1129553"/>
                  </a:lnTo>
                  <a:lnTo>
                    <a:pt x="699247" y="1143000"/>
                  </a:lnTo>
                  <a:lnTo>
                    <a:pt x="537882" y="0"/>
                  </a:lnTo>
                  <a:lnTo>
                    <a:pt x="336176" y="134470"/>
                  </a:lnTo>
                  <a:close/>
                </a:path>
              </a:pathLst>
            </a:custGeom>
            <a:solidFill>
              <a:srgbClr val="171745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09" name="组合 109"/>
          <p:cNvGrpSpPr/>
          <p:nvPr/>
        </p:nvGrpSpPr>
        <p:grpSpPr>
          <a:xfrm>
            <a:off x="8475120" y="5854320"/>
            <a:ext cx="550080" cy="1065600"/>
            <a:chOff x="8475120" y="5854320"/>
            <a:chExt cx="550080" cy="1065600"/>
          </a:xfrm>
        </p:grpSpPr>
        <p:sp>
          <p:nvSpPr>
            <p:cNvPr id="110" name="任意多边形 110"/>
            <p:cNvSpPr/>
            <p:nvPr/>
          </p:nvSpPr>
          <p:spPr>
            <a:xfrm>
              <a:off x="8475120" y="5854320"/>
              <a:ext cx="550080" cy="1065600"/>
            </a:xfrm>
            <a:custGeom>
              <a:avLst/>
              <a:gdLst/>
              <a:ahLst/>
              <a:rect l="l" t="t" r="r" b="b"/>
              <a:pathLst>
                <a:path w="847165" h="1586753">
                  <a:moveTo>
                    <a:pt x="336176" y="134470"/>
                  </a:moveTo>
                  <a:lnTo>
                    <a:pt x="309282" y="632011"/>
                  </a:lnTo>
                  <a:lnTo>
                    <a:pt x="67235" y="605117"/>
                  </a:lnTo>
                  <a:lnTo>
                    <a:pt x="40341" y="457200"/>
                  </a:lnTo>
                  <a:lnTo>
                    <a:pt x="0" y="524435"/>
                  </a:lnTo>
                  <a:lnTo>
                    <a:pt x="40341" y="632011"/>
                  </a:lnTo>
                  <a:lnTo>
                    <a:pt x="336176" y="672353"/>
                  </a:lnTo>
                  <a:lnTo>
                    <a:pt x="309282" y="1425388"/>
                  </a:lnTo>
                  <a:lnTo>
                    <a:pt x="147918" y="1573306"/>
                  </a:lnTo>
                  <a:lnTo>
                    <a:pt x="847165" y="1586753"/>
                  </a:lnTo>
                  <a:lnTo>
                    <a:pt x="833718" y="1492623"/>
                  </a:lnTo>
                  <a:lnTo>
                    <a:pt x="699247" y="1183341"/>
                  </a:lnTo>
                  <a:lnTo>
                    <a:pt x="820271" y="1183341"/>
                  </a:lnTo>
                  <a:lnTo>
                    <a:pt x="820271" y="1129553"/>
                  </a:lnTo>
                  <a:lnTo>
                    <a:pt x="699247" y="1143000"/>
                  </a:lnTo>
                  <a:lnTo>
                    <a:pt x="537882" y="0"/>
                  </a:lnTo>
                  <a:lnTo>
                    <a:pt x="336176" y="134470"/>
                  </a:lnTo>
                  <a:close/>
                </a:path>
              </a:pathLst>
            </a:custGeom>
            <a:solidFill>
              <a:srgbClr val="171745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组合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12" name="组合 1"/>
          <p:cNvGrpSpPr/>
          <p:nvPr/>
        </p:nvGrpSpPr>
        <p:grpSpPr>
          <a:xfrm>
            <a:off x="210600" y="5633640"/>
            <a:ext cx="634320" cy="1224360"/>
            <a:chOff x="210600" y="5633640"/>
            <a:chExt cx="634320" cy="1224360"/>
          </a:xfrm>
        </p:grpSpPr>
        <p:sp>
          <p:nvSpPr>
            <p:cNvPr id="113" name="任意多边形 2"/>
            <p:cNvSpPr/>
            <p:nvPr/>
          </p:nvSpPr>
          <p:spPr>
            <a:xfrm>
              <a:off x="210600" y="5633640"/>
              <a:ext cx="634320" cy="1224360"/>
            </a:xfrm>
            <a:custGeom>
              <a:avLst/>
              <a:gdLst/>
              <a:ahLst/>
              <a:rect l="l" t="t" r="r" b="b"/>
              <a:pathLst>
                <a:path w="847165" h="1586753">
                  <a:moveTo>
                    <a:pt x="336176" y="134470"/>
                  </a:moveTo>
                  <a:lnTo>
                    <a:pt x="309282" y="632011"/>
                  </a:lnTo>
                  <a:lnTo>
                    <a:pt x="67235" y="605117"/>
                  </a:lnTo>
                  <a:lnTo>
                    <a:pt x="40341" y="457200"/>
                  </a:lnTo>
                  <a:lnTo>
                    <a:pt x="0" y="524435"/>
                  </a:lnTo>
                  <a:lnTo>
                    <a:pt x="40341" y="632011"/>
                  </a:lnTo>
                  <a:lnTo>
                    <a:pt x="336176" y="672353"/>
                  </a:lnTo>
                  <a:lnTo>
                    <a:pt x="309282" y="1425388"/>
                  </a:lnTo>
                  <a:lnTo>
                    <a:pt x="147918" y="1573306"/>
                  </a:lnTo>
                  <a:lnTo>
                    <a:pt x="847165" y="1586753"/>
                  </a:lnTo>
                  <a:lnTo>
                    <a:pt x="833718" y="1492623"/>
                  </a:lnTo>
                  <a:lnTo>
                    <a:pt x="699247" y="1183341"/>
                  </a:lnTo>
                  <a:lnTo>
                    <a:pt x="820271" y="1183341"/>
                  </a:lnTo>
                  <a:lnTo>
                    <a:pt x="820271" y="1129553"/>
                  </a:lnTo>
                  <a:lnTo>
                    <a:pt x="699247" y="1143000"/>
                  </a:lnTo>
                  <a:lnTo>
                    <a:pt x="537882" y="0"/>
                  </a:lnTo>
                  <a:lnTo>
                    <a:pt x="336176" y="134470"/>
                  </a:lnTo>
                  <a:close/>
                </a:path>
              </a:pathLst>
            </a:custGeom>
            <a:solidFill>
              <a:srgbClr val="171745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pic>
        <p:nvPicPr>
          <p:cNvPr id="115" name="组合 300" descr=""/>
          <p:cNvPicPr/>
          <p:nvPr/>
        </p:nvPicPr>
        <p:blipFill>
          <a:blip r:embed="rId1"/>
          <a:stretch/>
        </p:blipFill>
        <p:spPr>
          <a:xfrm>
            <a:off x="4971960" y="-1438200"/>
            <a:ext cx="4641840" cy="2887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6"/>
          <p:cNvSpPr/>
          <p:nvPr/>
        </p:nvSpPr>
        <p:spPr>
          <a:xfrm rot="11193000">
            <a:off x="77040" y="-39600"/>
            <a:ext cx="576360" cy="13669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2"/>
          <p:cNvSpPr/>
          <p:nvPr/>
        </p:nvSpPr>
        <p:spPr>
          <a:xfrm rot="9586800">
            <a:off x="515520" y="-122760"/>
            <a:ext cx="144360" cy="16542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2"/>
          <p:cNvSpPr/>
          <p:nvPr/>
        </p:nvSpPr>
        <p:spPr>
          <a:xfrm rot="8523600">
            <a:off x="826200" y="-157320"/>
            <a:ext cx="344520" cy="16527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4"/>
          <p:cNvSpPr/>
          <p:nvPr/>
        </p:nvSpPr>
        <p:spPr>
          <a:xfrm flipV="1" rot="8209200">
            <a:off x="9360" y="-844200"/>
            <a:ext cx="144720" cy="1729080"/>
          </a:xfrm>
          <a:prstGeom prst="rect">
            <a:avLst/>
          </a:prstGeom>
          <a:gradFill rotWithShape="0">
            <a:gsLst>
              <a:gs pos="0">
                <a:srgbClr val="ffffff">
                  <a:alpha val="3607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8"/>
          <p:cNvSpPr/>
          <p:nvPr/>
        </p:nvSpPr>
        <p:spPr>
          <a:xfrm rot="13029600">
            <a:off x="538200" y="122040"/>
            <a:ext cx="71280" cy="7272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9"/>
          <p:cNvSpPr/>
          <p:nvPr/>
        </p:nvSpPr>
        <p:spPr>
          <a:xfrm rot="13029600">
            <a:off x="581040" y="64440"/>
            <a:ext cx="71280" cy="730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0"/>
          <p:cNvSpPr/>
          <p:nvPr/>
        </p:nvSpPr>
        <p:spPr>
          <a:xfrm rot="13029600">
            <a:off x="536040" y="122040"/>
            <a:ext cx="71640" cy="7272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1"/>
          <p:cNvSpPr/>
          <p:nvPr/>
        </p:nvSpPr>
        <p:spPr>
          <a:xfrm rot="13029600">
            <a:off x="480240" y="80640"/>
            <a:ext cx="71640" cy="698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42"/>
          <p:cNvSpPr/>
          <p:nvPr/>
        </p:nvSpPr>
        <p:spPr>
          <a:xfrm rot="13029600">
            <a:off x="421920" y="36000"/>
            <a:ext cx="71280" cy="698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3"/>
          <p:cNvSpPr/>
          <p:nvPr/>
        </p:nvSpPr>
        <p:spPr>
          <a:xfrm rot="13029600">
            <a:off x="423000" y="36000"/>
            <a:ext cx="71640" cy="698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4"/>
          <p:cNvSpPr/>
          <p:nvPr/>
        </p:nvSpPr>
        <p:spPr>
          <a:xfrm rot="13029600">
            <a:off x="480240" y="80640"/>
            <a:ext cx="71640" cy="698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5"/>
          <p:cNvSpPr/>
          <p:nvPr/>
        </p:nvSpPr>
        <p:spPr>
          <a:xfrm rot="13029600">
            <a:off x="364680" y="-7920"/>
            <a:ext cx="71640" cy="712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6"/>
          <p:cNvSpPr/>
          <p:nvPr/>
        </p:nvSpPr>
        <p:spPr>
          <a:xfrm rot="13029600">
            <a:off x="496080" y="-182160"/>
            <a:ext cx="71640" cy="730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0"/>
          <p:cNvSpPr/>
          <p:nvPr/>
        </p:nvSpPr>
        <p:spPr>
          <a:xfrm rot="10948800">
            <a:off x="170640" y="-773280"/>
            <a:ext cx="344520" cy="2087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4"/>
          <p:cNvSpPr/>
          <p:nvPr/>
        </p:nvSpPr>
        <p:spPr>
          <a:xfrm rot="17352000">
            <a:off x="-80280" y="-721440"/>
            <a:ext cx="344520" cy="13683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7"/>
          <p:cNvSpPr/>
          <p:nvPr/>
        </p:nvSpPr>
        <p:spPr>
          <a:xfrm rot="8502600">
            <a:off x="522000" y="-70920"/>
            <a:ext cx="576360" cy="13665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9"/>
          <p:cNvSpPr/>
          <p:nvPr/>
        </p:nvSpPr>
        <p:spPr>
          <a:xfrm rot="17352000">
            <a:off x="-120600" y="-408960"/>
            <a:ext cx="277920" cy="9349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0"/>
          <p:cNvSpPr/>
          <p:nvPr/>
        </p:nvSpPr>
        <p:spPr>
          <a:xfrm rot="15409800">
            <a:off x="-108360" y="-146520"/>
            <a:ext cx="142920" cy="11509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1"/>
          <p:cNvSpPr/>
          <p:nvPr/>
        </p:nvSpPr>
        <p:spPr>
          <a:xfrm rot="12168600">
            <a:off x="333000" y="61200"/>
            <a:ext cx="142920" cy="12920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3"/>
          <p:cNvSpPr/>
          <p:nvPr/>
        </p:nvSpPr>
        <p:spPr>
          <a:xfrm rot="14497200">
            <a:off x="188640" y="-243000"/>
            <a:ext cx="142560" cy="12225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4"/>
          <p:cNvSpPr/>
          <p:nvPr/>
        </p:nvSpPr>
        <p:spPr>
          <a:xfrm rot="15864600">
            <a:off x="135000" y="-468360"/>
            <a:ext cx="141480" cy="11509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6"/>
          <p:cNvSpPr/>
          <p:nvPr/>
        </p:nvSpPr>
        <p:spPr>
          <a:xfrm rot="8353800">
            <a:off x="999360" y="-138240"/>
            <a:ext cx="142920" cy="129708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7"/>
          <p:cNvSpPr/>
          <p:nvPr/>
        </p:nvSpPr>
        <p:spPr>
          <a:xfrm rot="13029600">
            <a:off x="595080" y="165240"/>
            <a:ext cx="71280" cy="712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68"/>
          <p:cNvSpPr/>
          <p:nvPr/>
        </p:nvSpPr>
        <p:spPr>
          <a:xfrm rot="13029600">
            <a:off x="637920" y="108000"/>
            <a:ext cx="71280" cy="712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9"/>
          <p:cNvSpPr/>
          <p:nvPr/>
        </p:nvSpPr>
        <p:spPr>
          <a:xfrm rot="13029600">
            <a:off x="593280" y="165960"/>
            <a:ext cx="71640" cy="730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0"/>
          <p:cNvSpPr/>
          <p:nvPr/>
        </p:nvSpPr>
        <p:spPr>
          <a:xfrm rot="13029600">
            <a:off x="536040" y="122040"/>
            <a:ext cx="71640" cy="7272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1"/>
          <p:cNvSpPr/>
          <p:nvPr/>
        </p:nvSpPr>
        <p:spPr>
          <a:xfrm rot="13029600">
            <a:off x="479160" y="80640"/>
            <a:ext cx="71280" cy="698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2"/>
          <p:cNvSpPr/>
          <p:nvPr/>
        </p:nvSpPr>
        <p:spPr>
          <a:xfrm rot="13029600">
            <a:off x="479520" y="77040"/>
            <a:ext cx="71280" cy="730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3"/>
          <p:cNvSpPr/>
          <p:nvPr/>
        </p:nvSpPr>
        <p:spPr>
          <a:xfrm rot="13029600">
            <a:off x="536040" y="122040"/>
            <a:ext cx="71640" cy="7272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74"/>
          <p:cNvSpPr/>
          <p:nvPr/>
        </p:nvSpPr>
        <p:spPr>
          <a:xfrm rot="13029600">
            <a:off x="421920" y="36000"/>
            <a:ext cx="71280" cy="698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5"/>
          <p:cNvSpPr/>
          <p:nvPr/>
        </p:nvSpPr>
        <p:spPr>
          <a:xfrm rot="13029600">
            <a:off x="553680" y="-138240"/>
            <a:ext cx="71280" cy="698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6"/>
          <p:cNvSpPr/>
          <p:nvPr/>
        </p:nvSpPr>
        <p:spPr>
          <a:xfrm rot="7351200">
            <a:off x="435960" y="-366480"/>
            <a:ext cx="574560" cy="13683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8"/>
          <p:cNvSpPr/>
          <p:nvPr/>
        </p:nvSpPr>
        <p:spPr>
          <a:xfrm flipV="1" rot="14866800">
            <a:off x="726840" y="-775440"/>
            <a:ext cx="576360" cy="13669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9"/>
          <p:cNvSpPr/>
          <p:nvPr/>
        </p:nvSpPr>
        <p:spPr>
          <a:xfrm flipV="1" rot="17557200">
            <a:off x="704160" y="-567360"/>
            <a:ext cx="576000" cy="13669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0"/>
          <p:cNvSpPr/>
          <p:nvPr/>
        </p:nvSpPr>
        <p:spPr>
          <a:xfrm flipV="1" rot="10650000">
            <a:off x="417600" y="-743760"/>
            <a:ext cx="576000" cy="194328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1"/>
          <p:cNvSpPr/>
          <p:nvPr/>
        </p:nvSpPr>
        <p:spPr>
          <a:xfrm flipV="1" rot="8707800">
            <a:off x="36360" y="-741240"/>
            <a:ext cx="277560" cy="9363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3"/>
          <p:cNvSpPr/>
          <p:nvPr/>
        </p:nvSpPr>
        <p:spPr>
          <a:xfrm flipV="1" rot="16473000">
            <a:off x="860040" y="-752760"/>
            <a:ext cx="146160" cy="16538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组合 344" descr=""/>
          <p:cNvPicPr/>
          <p:nvPr/>
        </p:nvPicPr>
        <p:blipFill>
          <a:blip r:embed="rId2"/>
          <a:stretch/>
        </p:blipFill>
        <p:spPr>
          <a:xfrm>
            <a:off x="441360" y="-1598760"/>
            <a:ext cx="5457960" cy="2887920"/>
          </a:xfrm>
          <a:prstGeom prst="rect">
            <a:avLst/>
          </a:prstGeom>
          <a:ln w="0">
            <a:noFill/>
          </a:ln>
        </p:spPr>
      </p:pic>
      <p:pic>
        <p:nvPicPr>
          <p:cNvPr id="154" name="组合 351" descr=""/>
          <p:cNvPicPr/>
          <p:nvPr/>
        </p:nvPicPr>
        <p:blipFill>
          <a:blip r:embed="rId3"/>
          <a:stretch/>
        </p:blipFill>
        <p:spPr>
          <a:xfrm>
            <a:off x="2185920" y="108000"/>
            <a:ext cx="2614680" cy="1404720"/>
          </a:xfrm>
          <a:prstGeom prst="rect">
            <a:avLst/>
          </a:prstGeom>
          <a:ln w="0">
            <a:noFill/>
          </a:ln>
        </p:spPr>
      </p:pic>
      <p:pic>
        <p:nvPicPr>
          <p:cNvPr id="155" name="组合 358" descr=""/>
          <p:cNvPicPr/>
          <p:nvPr/>
        </p:nvPicPr>
        <p:blipFill>
          <a:blip r:embed="rId4"/>
          <a:stretch/>
        </p:blipFill>
        <p:spPr>
          <a:xfrm>
            <a:off x="5952960" y="-4680"/>
            <a:ext cx="2614680" cy="1403280"/>
          </a:xfrm>
          <a:prstGeom prst="rect">
            <a:avLst/>
          </a:prstGeom>
          <a:ln w="0">
            <a:noFill/>
          </a:ln>
        </p:spPr>
      </p:pic>
      <p:pic>
        <p:nvPicPr>
          <p:cNvPr id="156" name="组合 365" descr=""/>
          <p:cNvPicPr/>
          <p:nvPr/>
        </p:nvPicPr>
        <p:blipFill>
          <a:blip r:embed="rId5"/>
          <a:stretch/>
        </p:blipFill>
        <p:spPr>
          <a:xfrm>
            <a:off x="876240" y="488880"/>
            <a:ext cx="1771560" cy="965160"/>
          </a:xfrm>
          <a:prstGeom prst="rect">
            <a:avLst/>
          </a:prstGeom>
          <a:ln w="0">
            <a:noFill/>
          </a:ln>
        </p:spPr>
      </p:pic>
      <p:pic>
        <p:nvPicPr>
          <p:cNvPr id="157" name="组合 372" descr=""/>
          <p:cNvPicPr/>
          <p:nvPr/>
        </p:nvPicPr>
        <p:blipFill>
          <a:blip r:embed="rId6"/>
          <a:stretch/>
        </p:blipFill>
        <p:spPr>
          <a:xfrm>
            <a:off x="-658800" y="480960"/>
            <a:ext cx="2295360" cy="10778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97"/>
          <p:cNvSpPr/>
          <p:nvPr/>
        </p:nvSpPr>
        <p:spPr>
          <a:xfrm rot="10800000">
            <a:off x="-71280" y="-71280"/>
            <a:ext cx="9712080" cy="1427040"/>
          </a:xfrm>
          <a:prstGeom prst="rect">
            <a:avLst/>
          </a:prstGeom>
          <a:gradFill rotWithShape="0">
            <a:gsLst>
              <a:gs pos="0">
                <a:srgbClr val="c2d1ed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13"/>
          <p:cNvSpPr/>
          <p:nvPr/>
        </p:nvSpPr>
        <p:spPr>
          <a:xfrm>
            <a:off x="826920" y="1484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time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7" descr="gif027"/>
          <p:cNvPicPr/>
          <p:nvPr/>
        </p:nvPicPr>
        <p:blipFill>
          <a:blip r:embed="rId7"/>
          <a:stretch/>
        </p:blipFill>
        <p:spPr>
          <a:xfrm>
            <a:off x="468360" y="3933720"/>
            <a:ext cx="1484280" cy="1486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8"/>
          <p:cNvSpPr/>
          <p:nvPr/>
        </p:nvSpPr>
        <p:spPr>
          <a:xfrm>
            <a:off x="82692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…o’clo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9"/>
          <p:cNvSpPr/>
          <p:nvPr/>
        </p:nvSpPr>
        <p:spPr>
          <a:xfrm>
            <a:off x="900000" y="299736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time to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0"/>
          <p:cNvSpPr/>
          <p:nvPr/>
        </p:nvSpPr>
        <p:spPr>
          <a:xfrm>
            <a:off x="4751280" y="3068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time fo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3" descr=""/>
          <p:cNvPicPr/>
          <p:nvPr/>
        </p:nvPicPr>
        <p:blipFill>
          <a:blip r:embed="rId8"/>
          <a:stretch/>
        </p:blipFill>
        <p:spPr>
          <a:xfrm>
            <a:off x="5364000" y="3645000"/>
            <a:ext cx="1995480" cy="22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9"/>
          <a:stretch/>
        </p:blipFill>
        <p:spPr>
          <a:xfrm>
            <a:off x="2627280" y="3573360"/>
            <a:ext cx="2016000" cy="18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7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L 0.18334 0 E">
                                      <p:cBhvr>
                                        <p:cTn id="163" dur="15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11007 3.33333E-006 E">
                                      <p:cBhvr>
                                        <p:cTn id="165" dur="10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7" dur="1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0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3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3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3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6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8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0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4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3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6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8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1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2" dur="indefinite" autoRev="1" nodeType="withEffect" fill="hold" presetClass="emph" presetID="6" repeatCount="indefinite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193" dur="5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4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1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6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8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1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1" dur="1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2" dur="indefinite" autoRev="1" nodeType="withEffect" fill="hold" presetClass="emph" presetID="6" repeatCount="indefinite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203" dur="1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4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6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8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0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dur="indefinite" autoRev="1" nodeType="withEffect" fill="hold" presetClass="emph" presetID="6" repeatCount="indefinite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4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3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8" dur="indefinite" autoRev="1" nodeType="withEffect" fill="hold" presetClass="emph" presetID="6" repeatCount="indefinite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219" dur="5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0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4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5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6" dur="indefinite" autoRev="1" nodeType="withEffect" fill="hold" presetClass="emph" presetID="6" repeatCount="indefinite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227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8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" dur="3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0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3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3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4" dur="indefinite" autoRev="1" nodeType="withEffect" fill="hold" presetClass="emph" presetID="6" repeatCount="indefinite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6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8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7356E-007 L 0.12656 -1.17356E-007 E">
                                      <p:cBhvr>
                                        <p:cTn id="239" dur="17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65658E-006 L 0.22517 3.65658E-006 E">
                                      <p:cBhvr>
                                        <p:cTn id="241" dur="20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L 0.18334 0 E">
                                      <p:cBhvr>
                                        <p:cTn id="243" dur="1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20102222081582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完成下列几个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763640" y="1844640"/>
            <a:ext cx="59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What ______ is ________?  (2)It’s _________ o’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It’s _______. It’s time for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I have _______ class at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)I go home at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2009042317570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2009042317542527"/>
          <p:cNvPicPr/>
          <p:nvPr/>
        </p:nvPicPr>
        <p:blipFill>
          <a:blip r:embed="rId2"/>
          <a:stretch/>
        </p:blipFill>
        <p:spPr>
          <a:xfrm>
            <a:off x="900000" y="333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2268360" y="1844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I want 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to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1511280" cy="1727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4"/>
          <a:stretch/>
        </p:blipFill>
        <p:spPr>
          <a:xfrm>
            <a:off x="324000" y="3789360"/>
            <a:ext cx="1942920" cy="2089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2411280" y="494172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I want 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to b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900000" y="2997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want to …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想做什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2009042317570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u=2437633633,3763368845&amp;fm=21&amp;gp=0"/>
          <p:cNvPicPr/>
          <p:nvPr/>
        </p:nvPicPr>
        <p:blipFill>
          <a:blip r:embed="rId2"/>
          <a:stretch/>
        </p:blipFill>
        <p:spPr>
          <a:xfrm>
            <a:off x="2195640" y="836640"/>
            <a:ext cx="4681440" cy="2968560"/>
          </a:xfrm>
          <a:prstGeom prst="rect">
            <a:avLst/>
          </a:prstGeom>
          <a:ln w="0">
            <a:noFill/>
          </a:ln>
        </p:spPr>
      </p:pic>
      <p:pic>
        <p:nvPicPr>
          <p:cNvPr id="185" name="WordArt 7" descr=""/>
          <p:cNvPicPr/>
          <p:nvPr/>
        </p:nvPicPr>
        <p:blipFill>
          <a:blip r:embed="rId3"/>
          <a:stretch/>
        </p:blipFill>
        <p:spPr>
          <a:xfrm>
            <a:off x="1467000" y="4282920"/>
            <a:ext cx="602136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09:04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7:23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