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5.gif" ContentType="image/gif"/>
  <Override PartName="/ppt/media/image25.png" ContentType="image/png"/>
  <Override PartName="/ppt/media/image19.jpeg" ContentType="image/jpeg"/>
  <Override PartName="/ppt/media/image5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22.jpeg" ContentType="image/jpeg"/>
  <Override PartName="/ppt/media/image32.png" ContentType="image/png"/>
  <Override PartName="/ppt/media/image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12.png" ContentType="image/png"/>
  <Override PartName="/ppt/media/image30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1.gif" ContentType="image/gif"/>
  <Override PartName="/ppt/media/image33.png" ContentType="image/png"/>
  <Override PartName="/ppt/media/image3.png" ContentType="image/png"/>
  <Override PartName="/ppt/media/image26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20.png" ContentType="image/png"/>
  <Override PartName="/ppt/media/image2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B018-0914-4AA4-A916-E67B9AF1D9D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6B1A-76DF-400F-B61B-BC2240898A0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CDC-4D01-4CE4-9128-ADD55246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37C-76FE-4FDF-A12F-9BD0B794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A5C-AF0B-4639-BF44-FAEFB7B5B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6CDF-B7E5-436C-AFDC-08A6FE5ED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3ECF-069D-45CD-BBE6-79C81B0FD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9B74-5AD1-40F1-ADB7-819F729B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1383-5054-4E09-A636-55CD1863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7D020-F326-4870-8CCC-211197D0F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464E-12B7-4178-A048-410C4693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90AC-05CD-4832-B4BB-AE14E782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F7C71-922D-4281-8A95-2EEBCAF9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18B0-CD22-4ACE-BAC0-28C42442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AEDE-44D4-4A7C-A8B1-CAFF9202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37D7-E145-4F09-97A8-0E8477E8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8FCD-069A-4692-ADDF-2BBF48B8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4688-DD2D-4306-B636-B5CDFEF5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C2F9-5485-4DC7-A1A9-C36EE5B74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7FC-CC5D-4BC9-A874-A42F7FE6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B27B-D182-42CC-A22A-6E0993B2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28F1-3E3D-4AFF-9E2D-ADA4C8DB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5B5B-F3D3-470F-8103-4E43F229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4FC-5DE1-46DE-A8D0-4A9BFF51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D7B-2D00-4D46-8383-95797B17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67C9-914A-4346-9700-4527BA86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D786A-417C-45A9-BF09-14AFC7191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A9A5-44E6-43C6-A280-C95736D9AC33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581120" y="2724120"/>
            <a:ext cx="57484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我们班里故事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90" name="Picture 6" descr="19"/>
          <p:cNvPicPr/>
          <p:nvPr/>
        </p:nvPicPr>
        <p:blipFill>
          <a:blip r:embed="rId1"/>
          <a:stretch/>
        </p:blipFill>
        <p:spPr>
          <a:xfrm>
            <a:off x="7221600" y="0"/>
            <a:ext cx="1958760" cy="27241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2516040" y="124920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幼圆"/>
              </a:rPr>
              <a:t>（人教版二年级思品上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5"/>
          <p:cNvSpPr/>
          <p:nvPr/>
        </p:nvSpPr>
        <p:spPr>
          <a:xfrm>
            <a:off x="2208600" y="551808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ff0066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拔河"/>
          <p:cNvPicPr/>
          <p:nvPr/>
        </p:nvPicPr>
        <p:blipFill>
          <a:blip r:embed="rId2"/>
          <a:stretch/>
        </p:blipFill>
        <p:spPr>
          <a:xfrm>
            <a:off x="1295280" y="1935000"/>
            <a:ext cx="6553440" cy="4160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看望生病同学"/>
          <p:cNvPicPr/>
          <p:nvPr/>
        </p:nvPicPr>
        <p:blipFill>
          <a:blip r:embed="rId3"/>
          <a:stretch/>
        </p:blipFill>
        <p:spPr>
          <a:xfrm>
            <a:off x="2709720" y="1714680"/>
            <a:ext cx="3741840" cy="4686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爬山"/>
          <p:cNvPicPr/>
          <p:nvPr/>
        </p:nvPicPr>
        <p:blipFill>
          <a:blip r:embed="rId4"/>
          <a:stretch/>
        </p:blipFill>
        <p:spPr>
          <a:xfrm>
            <a:off x="1914480" y="2117880"/>
            <a:ext cx="5315040" cy="3978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团结一心"/>
          <p:cNvPicPr/>
          <p:nvPr/>
        </p:nvPicPr>
        <p:blipFill>
          <a:blip r:embed="rId5"/>
          <a:stretch/>
        </p:blipFill>
        <p:spPr>
          <a:xfrm>
            <a:off x="1619280" y="1828800"/>
            <a:ext cx="5905440" cy="4419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p11_1"/>
          <p:cNvPicPr/>
          <p:nvPr/>
        </p:nvPicPr>
        <p:blipFill>
          <a:blip r:embed="rId6"/>
          <a:stretch/>
        </p:blipFill>
        <p:spPr>
          <a:xfrm>
            <a:off x="2165400" y="1932120"/>
            <a:ext cx="4811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643040" y="1071720"/>
            <a:ext cx="6058080" cy="426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3"/>
          <p:cNvSpPr/>
          <p:nvPr/>
        </p:nvSpPr>
        <p:spPr>
          <a:xfrm>
            <a:off x="2139120" y="1614600"/>
            <a:ext cx="29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当我们班获得奖状的时候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1" descr=""/>
          <p:cNvPicPr/>
          <p:nvPr/>
        </p:nvPicPr>
        <p:blipFill>
          <a:blip r:embed="rId2"/>
          <a:stretch/>
        </p:blipFill>
        <p:spPr>
          <a:xfrm>
            <a:off x="1812960" y="2293920"/>
            <a:ext cx="55180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381400" y="2066760"/>
            <a:ext cx="4381200" cy="32673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3734640" y="54100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集体生活真快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3"/>
          <p:cNvSpPr/>
          <p:nvPr/>
        </p:nvSpPr>
        <p:spPr>
          <a:xfrm>
            <a:off x="1258920" y="2133720"/>
            <a:ext cx="7010280" cy="3124080"/>
          </a:xfrm>
          <a:prstGeom prst="cloudCallout">
            <a:avLst>
              <a:gd name="adj1" fmla="val -31203"/>
              <a:gd name="adj2" fmla="val 82467"/>
            </a:avLst>
          </a:prstGeom>
          <a:solidFill>
            <a:srgbClr val="e1ffe1"/>
          </a:solidFill>
          <a:ln w="93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</a:t>
            </a:r>
            <a:r>
              <a:rPr b="1" lang="zh-CN" sz="1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们为什么要帮助同学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接受了老师或同学的帮助，自己是什么样的心情？会怎么做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6"/>
          <p:cNvPicPr/>
          <p:nvPr/>
        </p:nvPicPr>
        <p:blipFill>
          <a:blip r:embed="rId1"/>
          <a:stretch/>
        </p:blipFill>
        <p:spPr>
          <a:xfrm>
            <a:off x="723960" y="2130480"/>
            <a:ext cx="3628800" cy="294624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127" name="Text Box 7"/>
          <p:cNvSpPr/>
          <p:nvPr/>
        </p:nvSpPr>
        <p:spPr>
          <a:xfrm>
            <a:off x="1414440" y="1069920"/>
            <a:ext cx="556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我们要为集体利益着想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9"/>
          <p:cNvPicPr/>
          <p:nvPr/>
        </p:nvPicPr>
        <p:blipFill>
          <a:blip r:embed="rId2"/>
          <a:stretch/>
        </p:blipFill>
        <p:spPr>
          <a:xfrm>
            <a:off x="4757760" y="2124000"/>
            <a:ext cx="3598920" cy="297180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</p:spTree>
  </p:cSld>
  <p:transition>
    <p:checker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620720" y="1085760"/>
            <a:ext cx="2903760" cy="20764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1660680" y="3371760"/>
            <a:ext cx="2906640" cy="265428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pic>
        <p:nvPicPr>
          <p:cNvPr id="131" name="Picture 6" descr=""/>
          <p:cNvPicPr/>
          <p:nvPr/>
        </p:nvPicPr>
        <p:blipFill>
          <a:blip r:embed="rId3"/>
          <a:stretch/>
        </p:blipFill>
        <p:spPr>
          <a:xfrm>
            <a:off x="5048280" y="1093680"/>
            <a:ext cx="2930400" cy="21402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pic>
        <p:nvPicPr>
          <p:cNvPr id="132" name="Picture 7" descr=""/>
          <p:cNvPicPr/>
          <p:nvPr/>
        </p:nvPicPr>
        <p:blipFill>
          <a:blip r:embed="rId4"/>
          <a:stretch/>
        </p:blipFill>
        <p:spPr>
          <a:xfrm>
            <a:off x="5022720" y="3460680"/>
            <a:ext cx="2997360" cy="261324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33" name="Text Box 9"/>
          <p:cNvSpPr/>
          <p:nvPr/>
        </p:nvSpPr>
        <p:spPr>
          <a:xfrm>
            <a:off x="3727080" y="1417680"/>
            <a:ext cx="187848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900" spc="-1" strike="noStrike">
                <a:solidFill>
                  <a:srgbClr val="ff0066"/>
                </a:solidFill>
                <a:latin typeface="Arial"/>
              </a:rPr>
              <a:t>×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1623960" y="504720"/>
            <a:ext cx="48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华文中宋"/>
              </a:rPr>
              <a:t>他们这种做法对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409760" y="1430280"/>
            <a:ext cx="6218280" cy="3994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00284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的感谢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1752480" y="2438280"/>
            <a:ext cx="6019920" cy="2438280"/>
            <a:chOff x="1752480" y="2438280"/>
            <a:chExt cx="6019920" cy="2438280"/>
          </a:xfrm>
        </p:grpSpPr>
        <p:sp>
          <p:nvSpPr>
            <p:cNvPr id="139" name="AutoShape 5"/>
            <p:cNvSpPr/>
            <p:nvPr/>
          </p:nvSpPr>
          <p:spPr>
            <a:xfrm>
              <a:off x="1752480" y="2438280"/>
              <a:ext cx="6019920" cy="24382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e1ffe1"/>
            </a:solidFill>
            <a:ln w="936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6"/>
            <p:cNvSpPr/>
            <p:nvPr/>
          </p:nvSpPr>
          <p:spPr>
            <a:xfrm>
              <a:off x="2209680" y="2894040"/>
              <a:ext cx="51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你还记得老师、同学 对你的关心、帮助、鼓励吗？做个感谢卡，表达对他们的谢意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p12_1"/>
          <p:cNvPicPr/>
          <p:nvPr/>
        </p:nvPicPr>
        <p:blipFill>
          <a:blip r:embed="rId1"/>
          <a:stretch/>
        </p:blipFill>
        <p:spPr>
          <a:xfrm>
            <a:off x="2036880" y="2286000"/>
            <a:ext cx="5049720" cy="3962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sheng02"/>
          <p:cNvPicPr/>
          <p:nvPr/>
        </p:nvPicPr>
        <p:blipFill>
          <a:blip r:embed="rId2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4002840" y="16002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的感谢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sheng01"/>
          <p:cNvPicPr/>
          <p:nvPr/>
        </p:nvPicPr>
        <p:blipFill>
          <a:blip r:embed="rId1"/>
          <a:stretch/>
        </p:blipFill>
        <p:spPr>
          <a:xfrm>
            <a:off x="533520" y="1066680"/>
            <a:ext cx="247968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可爱的大家庭"/>
          <p:cNvPicPr/>
          <p:nvPr/>
        </p:nvPicPr>
        <p:blipFill>
          <a:blip r:embed="rId2"/>
          <a:stretch/>
        </p:blipFill>
        <p:spPr>
          <a:xfrm>
            <a:off x="1619280" y="1828800"/>
            <a:ext cx="590544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sheng03"/>
          <p:cNvPicPr/>
          <p:nvPr/>
        </p:nvPicPr>
        <p:blipFill>
          <a:blip r:embed="rId1"/>
          <a:stretch/>
        </p:blipFill>
        <p:spPr>
          <a:xfrm>
            <a:off x="531720" y="1065240"/>
            <a:ext cx="2503440" cy="7081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3407400" y="16794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感谢卡献给您（你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p13_1"/>
          <p:cNvPicPr/>
          <p:nvPr/>
        </p:nvPicPr>
        <p:blipFill>
          <a:blip r:embed="rId2"/>
          <a:stretch/>
        </p:blipFill>
        <p:spPr>
          <a:xfrm>
            <a:off x="2514600" y="2362320"/>
            <a:ext cx="4152960" cy="2965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13_2"/>
          <p:cNvPicPr/>
          <p:nvPr/>
        </p:nvPicPr>
        <p:blipFill>
          <a:blip r:embed="rId3"/>
          <a:stretch/>
        </p:blipFill>
        <p:spPr>
          <a:xfrm>
            <a:off x="762120" y="4952880"/>
            <a:ext cx="3429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huangyibiankuang2_0070"/>
          <p:cNvPicPr/>
          <p:nvPr/>
        </p:nvPicPr>
        <p:blipFill>
          <a:blip r:embed="rId1"/>
          <a:stretch/>
        </p:blipFill>
        <p:spPr>
          <a:xfrm>
            <a:off x="1990800" y="0"/>
            <a:ext cx="62769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1536840" y="896760"/>
            <a:ext cx="30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我的感谢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 rot="21181800">
            <a:off x="3286440" y="2787840"/>
            <a:ext cx="3697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我要感谢小华，有一次我有一道数学题不会做，是小华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tp11"/>
          <p:cNvPicPr/>
          <p:nvPr/>
        </p:nvPicPr>
        <p:blipFill>
          <a:blip r:embed="rId1"/>
          <a:stretch/>
        </p:blipFill>
        <p:spPr>
          <a:xfrm>
            <a:off x="1940040" y="885960"/>
            <a:ext cx="5779800" cy="52686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2979720" y="2166840"/>
            <a:ext cx="36972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</a:rPr>
              <a:t>我要感谢小强，那天我在上学路上被一块石头绊倒了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·····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34"/>
          <p:cNvPicPr/>
          <p:nvPr/>
        </p:nvPicPr>
        <p:blipFill>
          <a:blip r:embed="rId2"/>
          <a:stretch/>
        </p:blipFill>
        <p:spPr>
          <a:xfrm>
            <a:off x="4124160" y="3992400"/>
            <a:ext cx="1311480" cy="127800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1"/>
          <p:cNvSpPr/>
          <p:nvPr/>
        </p:nvSpPr>
        <p:spPr>
          <a:xfrm>
            <a:off x="3483000" y="5789520"/>
            <a:ext cx="53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A225-FDE4-42A1-B5B6-FF68259492B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274760" y="1306440"/>
            <a:ext cx="6600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过去的一年里，大家相互关心、互相帮助、共同学习和游戏，留下了有很多美好的回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2427120" y="2936880"/>
            <a:ext cx="4295880" cy="3195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219320" y="2209680"/>
            <a:ext cx="6781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们在一起已经生活一年了，大家相互关心、共同学习和游戏，是不是有很多有趣的故事呀？我们来讲一讲、演一演我们班里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heng02"/>
          <p:cNvPicPr/>
          <p:nvPr/>
        </p:nvPicPr>
        <p:blipFill>
          <a:blip r:embed="rId1"/>
          <a:stretch/>
        </p:blipFill>
        <p:spPr>
          <a:xfrm>
            <a:off x="531720" y="1065240"/>
            <a:ext cx="2479680" cy="6508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3"/>
          <p:cNvSpPr/>
          <p:nvPr/>
        </p:nvSpPr>
        <p:spPr>
          <a:xfrm>
            <a:off x="2210040" y="16146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当我和伙伴有了矛盾的时候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1_2"/>
          <p:cNvPicPr/>
          <p:nvPr/>
        </p:nvPicPr>
        <p:blipFill>
          <a:blip r:embed="rId2"/>
          <a:stretch/>
        </p:blipFill>
        <p:spPr>
          <a:xfrm>
            <a:off x="2538360" y="2209680"/>
            <a:ext cx="4091040" cy="40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小伙伴之间"/>
          <p:cNvPicPr/>
          <p:nvPr/>
        </p:nvPicPr>
        <p:blipFill>
          <a:blip r:embed="rId1"/>
          <a:stretch/>
        </p:blipFill>
        <p:spPr>
          <a:xfrm>
            <a:off x="2039760" y="2055960"/>
            <a:ext cx="4623120" cy="34653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1622520" y="1136520"/>
            <a:ext cx="41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当我遇到困难的时候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411200" y="2219400"/>
            <a:ext cx="6813720" cy="34606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1623960" y="1460520"/>
            <a:ext cx="51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当我没笔用的时候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157480" y="2187720"/>
            <a:ext cx="4753080" cy="34858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566720" y="1336680"/>
            <a:ext cx="68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开学期间有位同学还没领到新课本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351000" y="1955880"/>
            <a:ext cx="2813040" cy="1266840"/>
          </a:xfrm>
          <a:prstGeom prst="cloudCallout">
            <a:avLst>
              <a:gd name="adj1" fmla="val 57337"/>
              <a:gd name="adj2" fmla="val 38847"/>
            </a:avLst>
          </a:prstGeom>
          <a:solidFill>
            <a:srgbClr val="ff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华文中宋"/>
              </a:rPr>
              <a:t>咱俩一块看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068560" y="990720"/>
            <a:ext cx="4992480" cy="44416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3102120" y="552780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新魏"/>
              </a:rPr>
              <a:t>我爱帮助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1:32:0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01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