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4BC-9DCB-4883-A4EA-D9EC7364B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CFDB-DCBD-42F3-8FBC-D6D28BFB47E4}" type="slidenum">
              <a:rPr b="0" lang="en-US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37F-72A6-4CC4-90A0-D977E162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FF7-9363-4C9C-B310-96870988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505-424E-45B9-89D3-E3260FC3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99D-016C-4FEC-960C-E6E901EB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9F38-C2D0-444A-801B-BBF52216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ACA4-3C1E-4C22-B2BF-5EB01204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1364-A299-4630-BC03-89A67F41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75E7-E603-4E80-9A6F-D6979AD0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F804-920F-4A6A-9B0D-C0C9CCD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D820-049A-41EA-B15A-317EA7D5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95F2-0C1E-4F31-B179-55FE0C21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14E-6DD9-4783-8492-A76B7B2A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01A6-4331-443A-9DAF-972A7BE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188C-6359-4A0E-BF57-B71ACED4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B3C-A3CF-41CD-B328-4C69537A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AF38-C597-49F7-9404-4EEF5B76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E4A2-69AE-4335-AB21-B77D4B6C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010-9CC0-4614-A711-66E53D93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2AC-5088-4F6F-B9A5-7FA88542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1894-C58E-481E-804A-E8020DB0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913-DB8D-4633-B855-A6722BB8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F08-501E-4394-A961-814FEA9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FF0-14E7-4582-A482-045640A4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27A-DD53-4F5D-B7C1-E54F23C5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5400"/>
                <a:ext cx="1833480" cy="1663560"/>
                <a:chOff x="852480" y="4055400"/>
                <a:chExt cx="1833480" cy="16635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4160"/>
                  <a:ext cx="474480" cy="12186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400" y="4973040"/>
                  <a:ext cx="10872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360" y="5569560"/>
                  <a:ext cx="19836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3F5F-D21D-4356-AF21-50364806CE96}" type="datetime">
              <a:rPr b="0" lang="zh-CN" sz="14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3370-84E6-491C-A00A-653B3CA2C13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2BB-DAC7-483F-A036-AE4AC3891709}" type="datetime">
              <a:rPr b="0" lang="zh-CN" sz="1400" spc="-1" strike="noStrike">
                <a:solidFill>
                  <a:srgbClr val="006699"/>
                </a:solidFill>
                <a:latin typeface="Verdana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6260-4D5D-477C-851E-B6BEFD3F543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0" y="2201760"/>
            <a:ext cx="9144000" cy="4070520"/>
          </a:xfrm>
          <a:prstGeom prst="rect">
            <a:avLst/>
          </a:prstGeom>
          <a:ln w="0">
            <a:noFill/>
          </a:ln>
        </p:spPr>
      </p:pic>
      <p:sp>
        <p:nvSpPr>
          <p:cNvPr id="175" name="WordArt 20"/>
          <p:cNvSpPr txBox="1"/>
          <p:nvPr/>
        </p:nvSpPr>
        <p:spPr>
          <a:xfrm>
            <a:off x="1332000" y="1052640"/>
            <a:ext cx="640872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我们的小缆车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2173680" y="62722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258920" y="24908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物体都有一个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向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力，这就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重力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074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1903320" y="5446800"/>
            <a:ext cx="53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模板下载：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792000" y="1052640"/>
            <a:ext cx="23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课外探究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39640" y="299880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静止的小车有没有受到力的作用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7"/>
          <p:cNvSpPr txBox="1"/>
          <p:nvPr/>
        </p:nvSpPr>
        <p:spPr>
          <a:xfrm>
            <a:off x="1835280" y="1989000"/>
            <a:ext cx="518292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合作愉快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DC78-4597-4561-9860-D35C6179BD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3"/>
          <p:cNvSpPr/>
          <p:nvPr/>
        </p:nvSpPr>
        <p:spPr>
          <a:xfrm>
            <a:off x="1692360" y="29480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5" descr="3641427"/>
          <p:cNvPicPr/>
          <p:nvPr/>
        </p:nvPicPr>
        <p:blipFill>
          <a:blip r:embed="rId1"/>
          <a:stretch/>
        </p:blipFill>
        <p:spPr>
          <a:xfrm>
            <a:off x="4498920" y="189000"/>
            <a:ext cx="4381560" cy="6381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940280" y="5554800"/>
            <a:ext cx="17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高山缆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7348680" y="230040"/>
            <a:ext cx="176040" cy="347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5076720" y="166680"/>
            <a:ext cx="2089080" cy="36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4572000" y="2376360"/>
            <a:ext cx="2262240" cy="1557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12" descr="DSC_9319"/>
          <p:cNvPicPr/>
          <p:nvPr/>
        </p:nvPicPr>
        <p:blipFill>
          <a:blip r:embed="rId2"/>
          <a:stretch/>
        </p:blipFill>
        <p:spPr>
          <a:xfrm>
            <a:off x="250920" y="166680"/>
            <a:ext cx="3983040" cy="6404040"/>
          </a:xfrm>
          <a:prstGeom prst="rect">
            <a:avLst/>
          </a:prstGeom>
          <a:ln w="0">
            <a:noFill/>
          </a:ln>
        </p:spPr>
      </p:pic>
      <p:sp>
        <p:nvSpPr>
          <p:cNvPr id="184" name="Line 13"/>
          <p:cNvSpPr/>
          <p:nvPr/>
        </p:nvSpPr>
        <p:spPr>
          <a:xfrm>
            <a:off x="2340000" y="3933720"/>
            <a:ext cx="1893960" cy="1943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943200" y="5554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Verdana"/>
                <a:ea typeface="黑体"/>
              </a:rPr>
              <a:t>轨道缆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379680" y="3576600"/>
            <a:ext cx="1708200" cy="712800"/>
          </a:xfrm>
          <a:prstGeom prst="wedgeRoundRectCallout">
            <a:avLst>
              <a:gd name="adj1" fmla="val -62175"/>
              <a:gd name="adj2" fmla="val 99888"/>
              <a:gd name="adj3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379680" y="3735360"/>
            <a:ext cx="17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Verdana"/>
                <a:ea typeface="黑体"/>
              </a:rPr>
              <a:t>钢缆绳的拉力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776480" y="3068640"/>
            <a:ext cx="639720" cy="507960"/>
          </a:xfrm>
          <a:prstGeom prst="line">
            <a:avLst/>
          </a:prstGeom>
          <a:ln w="763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230560" y="522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安装一辆小缆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06320" y="3014640"/>
            <a:ext cx="83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建议垫圈要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一个一个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的增加，记录刚好使小车运动起来的垫圈数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765000" y="2233440"/>
            <a:ext cx="771840" cy="3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提示：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000080" y="1301760"/>
            <a:ext cx="74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黑体"/>
              </a:rPr>
              <a:t>测试挂几个垫圈，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黑体"/>
              </a:rPr>
              <a:t>刚好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黑体"/>
              </a:rPr>
              <a:t>使小车运动起来？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1434960" y="3805200"/>
            <a:ext cx="65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观察小车和垫圈往哪个方向运动？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1685880" y="4599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注意分工配合，碰到问题，尝试解决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献给爱丽丝.mp3" descr=""/>
          <p:cNvPicPr/>
          <p:nvPr/>
        </p:nvPicPr>
        <p:blipFill>
          <a:blip r:embed="rId1"/>
          <a:stretch/>
        </p:blipFill>
        <p:spPr>
          <a:xfrm>
            <a:off x="7885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916360" y="522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安装一辆小缆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06320" y="2998800"/>
            <a:ext cx="83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建议垫圈要</a:t>
            </a: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一个一个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的增加，记录刚好使小车运动起来的垫圈数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533520" y="2233440"/>
            <a:ext cx="771480" cy="3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提示：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685880" y="1301760"/>
            <a:ext cx="74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黑体"/>
              </a:rPr>
              <a:t>测试挂几个垫圈，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黑体"/>
              </a:rPr>
              <a:t>刚好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  <a:ea typeface="黑体"/>
              </a:rPr>
              <a:t>使小车运动起来？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434960" y="3789360"/>
            <a:ext cx="65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观察小车和垫圈往哪个方向运动？</a:t>
            </a:r>
            <a:r>
              <a:rPr b="1" lang="zh-CN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685880" y="45831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6699"/>
                </a:solidFill>
                <a:latin typeface="黑体"/>
                <a:ea typeface="黑体"/>
              </a:rPr>
              <a:t>注意分工配合，碰到问题，尝试解决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871560" y="95580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研究拉力大小与小车运动快慢的关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604800" y="2178000"/>
            <a:ext cx="114300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推测：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332080" y="2192400"/>
            <a:ext cx="57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拉力大，小车跑得快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87156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2332080" y="2905200"/>
            <a:ext cx="56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拉力小，小车跑得慢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3246480" y="516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332080" y="458316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这个实验该怎么做呢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24"/>
          <p:cNvSpPr txBox="1"/>
          <p:nvPr/>
        </p:nvSpPr>
        <p:spPr>
          <a:xfrm>
            <a:off x="814320" y="4583160"/>
            <a:ext cx="93348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讨论：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908000" y="4428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研究拉力大小与小车运动关系的记录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03440" y="804960"/>
            <a:ext cx="72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挂</a:t>
            </a:r>
            <a:r>
              <a:rPr b="1" lang="zh-CN" sz="2000" spc="-1" strike="noStrike" u="sng">
                <a:solidFill>
                  <a:srgbClr val="0000cc"/>
                </a:solidFill>
                <a:uFillTx/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个垫圈，刚好能使小车运动起来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1912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03440" y="1557360"/>
          <a:ext cx="7813440" cy="4221000"/>
        </p:xfrm>
        <a:graphic>
          <a:graphicData uri="http://schemas.openxmlformats.org/drawingml/2006/table">
            <a:tbl>
              <a:tblPr/>
              <a:tblGrid>
                <a:gridCol w="2376000"/>
                <a:gridCol w="1368720"/>
                <a:gridCol w="406872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拉力大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垫圈的个数</a:t>
                      </a:r>
                      <a:r>
                        <a:rPr b="0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实验次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                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小车运动的快慢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从起点到终点时间                   快慢顺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c0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dff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4" name="Line 43"/>
          <p:cNvSpPr/>
          <p:nvPr/>
        </p:nvSpPr>
        <p:spPr>
          <a:xfrm>
            <a:off x="4484520" y="20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6227640" y="2060640"/>
            <a:ext cx="0" cy="371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45"/>
          <p:cNvSpPr/>
          <p:nvPr/>
        </p:nvSpPr>
        <p:spPr>
          <a:xfrm>
            <a:off x="1187280" y="2568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Text Box 46"/>
          <p:cNvSpPr/>
          <p:nvPr/>
        </p:nvSpPr>
        <p:spPr>
          <a:xfrm>
            <a:off x="1279440" y="411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47"/>
          <p:cNvSpPr/>
          <p:nvPr/>
        </p:nvSpPr>
        <p:spPr>
          <a:xfrm>
            <a:off x="4448160" y="27860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48"/>
          <p:cNvSpPr/>
          <p:nvPr/>
        </p:nvSpPr>
        <p:spPr>
          <a:xfrm>
            <a:off x="4448160" y="315108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49"/>
          <p:cNvSpPr/>
          <p:nvPr/>
        </p:nvSpPr>
        <p:spPr>
          <a:xfrm>
            <a:off x="4448160" y="388152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Line 50"/>
          <p:cNvSpPr/>
          <p:nvPr/>
        </p:nvSpPr>
        <p:spPr>
          <a:xfrm>
            <a:off x="4448160" y="424656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Line 51"/>
          <p:cNvSpPr/>
          <p:nvPr/>
        </p:nvSpPr>
        <p:spPr>
          <a:xfrm>
            <a:off x="4448160" y="502128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52"/>
          <p:cNvSpPr/>
          <p:nvPr/>
        </p:nvSpPr>
        <p:spPr>
          <a:xfrm>
            <a:off x="4448160" y="539100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1074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献给爱丽丝.mp3" descr=""/>
          <p:cNvPicPr/>
          <p:nvPr/>
        </p:nvPicPr>
        <p:blipFill>
          <a:blip r:embed="rId1"/>
          <a:stretch/>
        </p:blipFill>
        <p:spPr>
          <a:xfrm>
            <a:off x="8193240" y="591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6" name="WordArt 7"/>
          <p:cNvSpPr txBox="1"/>
          <p:nvPr/>
        </p:nvSpPr>
        <p:spPr>
          <a:xfrm>
            <a:off x="2700360" y="4579920"/>
            <a:ext cx="3181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碰到问题  尝试解决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539640" y="981000"/>
            <a:ext cx="19670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实验提示：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5280" y="2133720"/>
            <a:ext cx="1029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实验完成了，要马上整理好实验材料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小组内轻声交流，你们的数据是否支持原先的推测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0746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献给爱丽丝.mp3" descr=""/>
          <p:cNvPicPr/>
          <p:nvPr/>
        </p:nvPicPr>
        <p:blipFill>
          <a:blip r:embed="rId1"/>
          <a:stretch/>
        </p:blipFill>
        <p:spPr>
          <a:xfrm>
            <a:off x="8193240" y="591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31" name="WordArt 4"/>
          <p:cNvSpPr txBox="1"/>
          <p:nvPr/>
        </p:nvSpPr>
        <p:spPr>
          <a:xfrm>
            <a:off x="2700360" y="4421160"/>
            <a:ext cx="3181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碰到问题  尝试解决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468360" y="981000"/>
            <a:ext cx="1727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实验提示：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95280" y="2133720"/>
            <a:ext cx="1029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实验完成了，要马上整理好实验材料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小组内轻声交流，你们的数据是否支持原先的推测？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755640" y="1052640"/>
            <a:ext cx="115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思考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413080" y="215280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垫圈起了什么作用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献给爱丽丝.mp3" descr=""/>
          <p:cNvPicPr/>
          <p:nvPr/>
        </p:nvPicPr>
        <p:blipFill>
          <a:blip r:embed="rId1"/>
          <a:stretch/>
        </p:blipFill>
        <p:spPr>
          <a:xfrm>
            <a:off x="7885080" y="55897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2413080" y="35290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是什么力拉动了小车？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4:37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10Z</dcterms:modified>
  <cp:revision>3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