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1.gif" ContentType="image/gif"/>
  <Override PartName="/ppt/media/image53.png" ContentType="image/png"/>
  <Override PartName="/ppt/media/image50.gif" ContentType="image/gif"/>
  <Override PartName="/ppt/media/image46.png" ContentType="image/png"/>
  <Override PartName="/ppt/media/image45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15.png" ContentType="image/png"/>
  <Override PartName="/ppt/media/image32.jpeg" ContentType="image/jpeg"/>
  <Override PartName="/ppt/media/image17.png" ContentType="image/png"/>
  <Override PartName="/ppt/media/image67.png" ContentType="image/png"/>
  <Override PartName="/ppt/media/image19.jpeg" ContentType="image/jpeg"/>
  <Override PartName="/ppt/media/image25.png" ContentType="image/png"/>
  <Override PartName="/ppt/media/image63.jpeg" ContentType="image/jpeg"/>
  <Override PartName="/ppt/media/image60.png" ContentType="image/png"/>
  <Override PartName="/ppt/media/image66.gif" ContentType="image/gif"/>
  <Override PartName="/ppt/media/image64.png" ContentType="image/png"/>
  <Override PartName="/ppt/media/image14.png" ContentType="image/png"/>
  <Override PartName="/ppt/media/image2.png" ContentType="image/png"/>
  <Override PartName="/ppt/media/image62.png" ContentType="image/png"/>
  <Override PartName="/ppt/media/chimes.wav" ContentType="audio/x-wav"/>
  <Override PartName="/ppt/media/image24.png" ContentType="image/png"/>
  <Override PartName="/ppt/media/image23.png" ContentType="image/png"/>
  <Override PartName="/ppt/media/image21.jpeg" ContentType="image/jpeg"/>
  <Override PartName="/ppt/media/image65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34.png" ContentType="image/png"/>
  <Override PartName="/ppt/media/image28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61.png" ContentType="image/png"/>
  <Override PartName="/ppt/media/image5.jpeg" ContentType="image/jpeg"/>
  <Override PartName="/ppt/media/image18.png" ContentType="image/png"/>
  <Override PartName="/ppt/media/image3.gif" ContentType="image/gif"/>
  <Override PartName="/ppt/media/image59.jpeg" ContentType="image/jpeg"/>
  <Override PartName="/ppt/media/image6.png" ContentType="image/png"/>
  <Override PartName="/ppt/media/image9.jpeg" ContentType="image/jpeg"/>
  <Override PartName="/ppt/media/image36.png" ContentType="image/png"/>
  <Override PartName="/ppt/media/image49.jpeg" ContentType="image/jpeg"/>
  <Override PartName="/ppt/media/image4.png" ContentType="image/png"/>
  <Override PartName="/ppt/media/image16.png" ContentType="image/png"/>
  <Override PartName="/ppt/media/image13.gif" ContentType="image/gif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3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E32B-D9FF-4278-A0AA-FDDDE7E00A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slide" Target="../slides/slide6.xml"/><Relationship Id="rId18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5B0D-335F-4036-8C2F-A7576C28E422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3054-CE08-4BD7-AEC0-FD77D405D9A4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463C-BFF4-4D4E-B4B1-87F72E50D3FE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C3F9-FC79-4D4D-84BA-462CF1CD0D41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4419-E55C-4E16-A64D-DCE504C8B397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5B07-B4D7-4F61-B846-AB260CF2F951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E262-3699-4A41-A904-C57280190906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02FB-C6A6-42FA-9900-00591D976E78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1ADA-E104-45B6-94E8-5868EDB4B3ED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371-56BF-4D59-A2B9-CF557A32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476-9151-4227-BA6C-CAEBAABA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BC0-22A7-4E75-8754-2CF7B554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73D-070D-4398-8C95-11B17170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7DA-DC89-4337-9ECC-9CD35E85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290-0AB6-418C-83D1-4404753E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667-162B-47CE-8F09-954543F5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5B4-521F-41B3-874C-17F98E0D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FEC-8F5F-4162-A61D-D2A42186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8B8-A1BD-43D4-8440-087682BE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C16-C063-44E5-9915-2012426A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7B2-BE0B-41BD-B630-99A9C761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BE9F-1995-4743-88AD-1FBD192B7F04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gi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51850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人教新课标  一年级品德与生活下册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992160" y="2133720"/>
            <a:ext cx="712800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康雅宋体W9"/>
              </a:rPr>
              <a:t>我有一双明亮的眼睛</a:t>
            </a:r>
            <a:endParaRPr b="1" lang="en-US" sz="2400" spc="-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康雅宋体W9"/>
              <a:ea typeface="华康雅宋体W9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49840" y="59450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3"/>
          <p:cNvSpPr/>
          <p:nvPr/>
        </p:nvSpPr>
        <p:spPr>
          <a:xfrm>
            <a:off x="1547640" y="4292640"/>
            <a:ext cx="3816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弱光下看书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3" name="Picture 14" descr=""/>
          <p:cNvPicPr/>
          <p:nvPr/>
        </p:nvPicPr>
        <p:blipFill>
          <a:blip r:embed="rId1"/>
          <a:stretch/>
        </p:blipFill>
        <p:spPr>
          <a:xfrm>
            <a:off x="0" y="260280"/>
            <a:ext cx="5977080" cy="388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87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"/>
          <p:cNvPicPr/>
          <p:nvPr/>
        </p:nvPicPr>
        <p:blipFill>
          <a:blip r:embed="rId3"/>
          <a:stretch/>
        </p:blipFill>
        <p:spPr>
          <a:xfrm>
            <a:off x="5292720" y="4146480"/>
            <a:ext cx="385128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在弱光下看书"/>
          <p:cNvPicPr/>
          <p:nvPr/>
        </p:nvPicPr>
        <p:blipFill>
          <a:blip r:embed="rId1"/>
          <a:stretch/>
        </p:blipFill>
        <p:spPr>
          <a:xfrm>
            <a:off x="1143000" y="500040"/>
            <a:ext cx="7215120" cy="5004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3286080" y="5516640"/>
            <a:ext cx="4094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弱光下看书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34"/>
          <p:cNvSpPr/>
          <p:nvPr/>
        </p:nvSpPr>
        <p:spPr>
          <a:xfrm>
            <a:off x="1332000" y="4437000"/>
            <a:ext cx="3816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强光下看书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9" name="Picture 1035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424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36" descr="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870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37" descr=""/>
          <p:cNvPicPr/>
          <p:nvPr/>
        </p:nvPicPr>
        <p:blipFill>
          <a:blip r:embed="rId3"/>
          <a:stretch/>
        </p:blipFill>
        <p:spPr>
          <a:xfrm>
            <a:off x="5292720" y="4146480"/>
            <a:ext cx="385128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33" descr="在强光下看书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00080" y="642960"/>
            <a:ext cx="7353360" cy="4898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34"/>
          <p:cNvSpPr/>
          <p:nvPr/>
        </p:nvSpPr>
        <p:spPr>
          <a:xfrm>
            <a:off x="3276720" y="5734080"/>
            <a:ext cx="3959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强光下看书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4821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87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5292720" y="4146480"/>
            <a:ext cx="3851280" cy="2711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4"/>
          <p:cNvSpPr/>
          <p:nvPr/>
        </p:nvSpPr>
        <p:spPr>
          <a:xfrm>
            <a:off x="1476360" y="48560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近距离下看电视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" name="Oval 18"/>
          <p:cNvSpPr/>
          <p:nvPr/>
        </p:nvSpPr>
        <p:spPr>
          <a:xfrm>
            <a:off x="2124000" y="0"/>
            <a:ext cx="2087640" cy="1268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89" name="Group 15"/>
          <p:cNvGrpSpPr/>
          <p:nvPr/>
        </p:nvGrpSpPr>
        <p:grpSpPr>
          <a:xfrm>
            <a:off x="3635280" y="0"/>
            <a:ext cx="4211640" cy="1819440"/>
            <a:chOff x="3635280" y="0"/>
            <a:chExt cx="4211640" cy="1819440"/>
          </a:xfrm>
        </p:grpSpPr>
        <p:sp>
          <p:nvSpPr>
            <p:cNvPr id="90" name="AutoShape 16"/>
            <p:cNvSpPr/>
            <p:nvPr/>
          </p:nvSpPr>
          <p:spPr>
            <a:xfrm>
              <a:off x="3635280" y="0"/>
              <a:ext cx="4211640" cy="1819440"/>
            </a:xfrm>
            <a:prstGeom prst="cloudCallout">
              <a:avLst>
                <a:gd name="adj1" fmla="val -83245"/>
                <a:gd name="adj2" fmla="val 2791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91" name="Text Box 17"/>
            <p:cNvSpPr/>
            <p:nvPr/>
          </p:nvSpPr>
          <p:spPr>
            <a:xfrm>
              <a:off x="4317840" y="195480"/>
              <a:ext cx="29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隶书"/>
                </a:rPr>
                <a:t>都看了一个小时了，该让眼睛休息一下了！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971640" y="404640"/>
            <a:ext cx="6767280" cy="475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Picture 3" descr="u=3492191571,3618502558&amp;gp=1[1]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619280" y="765000"/>
            <a:ext cx="5400720" cy="4118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3276720" y="537372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近   视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79280" y="2427120"/>
            <a:ext cx="8713800" cy="19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眼睛不好会给我们的生活带来很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不便，是不是戴上眼镜，生活就和以前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一样呢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16000" y="4875120"/>
            <a:ext cx="7632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请你说一说戴眼镜的好处与麻烦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16000" y="5661000"/>
            <a:ext cx="518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为什么会戴眼镜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卡通小孩-5"/>
          <p:cNvPicPr/>
          <p:nvPr/>
        </p:nvPicPr>
        <p:blipFill>
          <a:blip r:embed="rId1"/>
          <a:stretch/>
        </p:blipFill>
        <p:spPr>
          <a:xfrm>
            <a:off x="539640" y="2133720"/>
            <a:ext cx="2257560" cy="41259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>
            <a:off x="3564000" y="1219320"/>
            <a:ext cx="5580000" cy="3938400"/>
          </a:xfrm>
          <a:prstGeom prst="cloudCallout">
            <a:avLst>
              <a:gd name="adj1" fmla="val -64481"/>
              <a:gd name="adj2" fmla="val 16949"/>
            </a:avLst>
          </a:prstGeom>
          <a:solidFill>
            <a:srgbClr val="ffff99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在什么样的光线和距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jù)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离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lí)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下看书，眼睛最舒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sh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ū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f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ú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)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6"/>
          <p:cNvSpPr/>
          <p:nvPr/>
        </p:nvSpPr>
        <p:spPr>
          <a:xfrm>
            <a:off x="1258920" y="26028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正确的书写姿势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1" name="Picture 17" descr="书写的姿势"/>
          <p:cNvPicPr/>
          <p:nvPr/>
        </p:nvPicPr>
        <p:blipFill>
          <a:blip r:embed="rId1"/>
          <a:stretch/>
        </p:blipFill>
        <p:spPr>
          <a:xfrm>
            <a:off x="684360" y="1268280"/>
            <a:ext cx="6775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21"/>
          <p:cNvGrpSpPr/>
          <p:nvPr/>
        </p:nvGrpSpPr>
        <p:grpSpPr>
          <a:xfrm>
            <a:off x="1763640" y="1125360"/>
            <a:ext cx="2016000" cy="2376360"/>
            <a:chOff x="1763640" y="1125360"/>
            <a:chExt cx="2016000" cy="2376360"/>
          </a:xfrm>
        </p:grpSpPr>
        <p:sp>
          <p:nvSpPr>
            <p:cNvPr id="103" name="Line 19"/>
            <p:cNvSpPr/>
            <p:nvPr/>
          </p:nvSpPr>
          <p:spPr>
            <a:xfrm flipH="1" flipV="1">
              <a:off x="2916000" y="2277720"/>
              <a:ext cx="432000" cy="122400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04" name="Oval 20"/>
            <p:cNvSpPr/>
            <p:nvPr/>
          </p:nvSpPr>
          <p:spPr>
            <a:xfrm>
              <a:off x="1763640" y="1125360"/>
              <a:ext cx="2016000" cy="1152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33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</a:rPr>
                <a:t>厘米</a:t>
              </a:r>
              <a:endParaRPr b="0" lang="en-US" sz="3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05" name="Text Box 22"/>
          <p:cNvSpPr/>
          <p:nvPr/>
        </p:nvSpPr>
        <p:spPr>
          <a:xfrm>
            <a:off x="5076720" y="2708280"/>
            <a:ext cx="4248360" cy="13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一尺一寸一拳远，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不得驼背近视眼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539640" y="54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下面习惯对眼睛有什么害处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7" name="Picture 11" descr="躺在床上看书"/>
          <p:cNvPicPr/>
          <p:nvPr/>
        </p:nvPicPr>
        <p:blipFill>
          <a:blip r:embed="rId1"/>
          <a:stretch/>
        </p:blipFill>
        <p:spPr>
          <a:xfrm>
            <a:off x="971640" y="1484280"/>
            <a:ext cx="6769080" cy="4303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>
            <a:off x="2843280" y="5805360"/>
            <a:ext cx="40338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躺在床上看书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556000" y="1989000"/>
            <a:ext cx="5329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上边毛，下边毛，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中间有颗黑葡萄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有它可以看书报，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有它可以看世界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3" name="Picture 4" descr="RY_017"/>
          <p:cNvPicPr/>
          <p:nvPr/>
        </p:nvPicPr>
        <p:blipFill>
          <a:blip r:embed="rId2"/>
          <a:stretch/>
        </p:blipFill>
        <p:spPr>
          <a:xfrm>
            <a:off x="3492360" y="249228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00000" y="4762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华文彩云"/>
              </a:rPr>
              <a:t> </a:t>
            </a: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华文彩云"/>
              </a:rPr>
              <a:t>猜一猜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2" descr="在乘车时看书"/>
          <p:cNvPicPr/>
          <p:nvPr/>
        </p:nvPicPr>
        <p:blipFill>
          <a:blip r:embed="rId1"/>
          <a:stretch/>
        </p:blipFill>
        <p:spPr>
          <a:xfrm>
            <a:off x="179280" y="1268280"/>
            <a:ext cx="8352000" cy="5416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179280" y="4111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下面习惯对眼睛有什么害处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近距离看电视"/>
          <p:cNvPicPr/>
          <p:nvPr/>
        </p:nvPicPr>
        <p:blipFill>
          <a:blip r:embed="rId1"/>
          <a:stretch/>
        </p:blipFill>
        <p:spPr>
          <a:xfrm>
            <a:off x="755640" y="1184400"/>
            <a:ext cx="6864480" cy="5173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755640" y="404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下面习惯对眼睛有什么害处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走路看书"/>
          <p:cNvPicPr/>
          <p:nvPr/>
        </p:nvPicPr>
        <p:blipFill>
          <a:blip r:embed="rId1"/>
          <a:stretch/>
        </p:blipFill>
        <p:spPr>
          <a:xfrm>
            <a:off x="1187280" y="1052640"/>
            <a:ext cx="6480360" cy="4910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2987640" y="5943600"/>
            <a:ext cx="3138480" cy="66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走路看书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66560" y="2667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下面习惯对眼睛有什么害处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566100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你想对他们说些什么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7" name="Picture 5" descr="躺在床上看书"/>
          <p:cNvPicPr/>
          <p:nvPr/>
        </p:nvPicPr>
        <p:blipFill>
          <a:blip r:embed="rId1"/>
          <a:stretch/>
        </p:blipFill>
        <p:spPr>
          <a:xfrm>
            <a:off x="539640" y="333360"/>
            <a:ext cx="3313080" cy="230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在乘车时看书"/>
          <p:cNvPicPr/>
          <p:nvPr/>
        </p:nvPicPr>
        <p:blipFill>
          <a:blip r:embed="rId2"/>
          <a:stretch/>
        </p:blipFill>
        <p:spPr>
          <a:xfrm>
            <a:off x="4284720" y="260280"/>
            <a:ext cx="3673440" cy="238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近距离看电视"/>
          <p:cNvPicPr/>
          <p:nvPr/>
        </p:nvPicPr>
        <p:blipFill>
          <a:blip r:embed="rId3"/>
          <a:stretch/>
        </p:blipFill>
        <p:spPr>
          <a:xfrm>
            <a:off x="539640" y="2997360"/>
            <a:ext cx="3311640" cy="244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走路看书"/>
          <p:cNvPicPr/>
          <p:nvPr/>
        </p:nvPicPr>
        <p:blipFill>
          <a:blip r:embed="rId4"/>
          <a:stretch/>
        </p:blipFill>
        <p:spPr>
          <a:xfrm>
            <a:off x="4284720" y="2997360"/>
            <a:ext cx="3743280" cy="2519280"/>
          </a:xfrm>
          <a:prstGeom prst="rect">
            <a:avLst/>
          </a:prstGeom>
          <a:ln w="0">
            <a:noFill/>
          </a:ln>
        </p:spPr>
      </p:pic>
      <p:sp>
        <p:nvSpPr>
          <p:cNvPr id="121" name="Line 9"/>
          <p:cNvSpPr/>
          <p:nvPr/>
        </p:nvSpPr>
        <p:spPr>
          <a:xfrm flipH="1">
            <a:off x="3058920" y="981000"/>
            <a:ext cx="144360" cy="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1"/>
          <p:cNvPicPr/>
          <p:nvPr/>
        </p:nvPicPr>
        <p:blipFill>
          <a:blip r:embed="rId1"/>
          <a:stretch/>
        </p:blipFill>
        <p:spPr>
          <a:xfrm>
            <a:off x="1692360" y="1052640"/>
            <a:ext cx="6210360" cy="491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2"/>
          <p:cNvPicPr/>
          <p:nvPr/>
        </p:nvPicPr>
        <p:blipFill>
          <a:blip r:embed="rId2"/>
          <a:stretch/>
        </p:blipFill>
        <p:spPr>
          <a:xfrm>
            <a:off x="1692360" y="1125360"/>
            <a:ext cx="6038640" cy="494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3"/>
          <p:cNvPicPr/>
          <p:nvPr/>
        </p:nvPicPr>
        <p:blipFill>
          <a:blip r:embed="rId3"/>
          <a:stretch/>
        </p:blipFill>
        <p:spPr>
          <a:xfrm>
            <a:off x="1619280" y="1052640"/>
            <a:ext cx="6181560" cy="5029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4"/>
          <p:cNvPicPr/>
          <p:nvPr/>
        </p:nvPicPr>
        <p:blipFill>
          <a:blip r:embed="rId4"/>
          <a:stretch/>
        </p:blipFill>
        <p:spPr>
          <a:xfrm>
            <a:off x="1547640" y="1341360"/>
            <a:ext cx="6029640" cy="463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5"/>
          <p:cNvPicPr/>
          <p:nvPr/>
        </p:nvPicPr>
        <p:blipFill>
          <a:blip r:embed="rId5"/>
          <a:stretch/>
        </p:blipFill>
        <p:spPr>
          <a:xfrm>
            <a:off x="1692360" y="1413000"/>
            <a:ext cx="5695920" cy="438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6"/>
          <p:cNvPicPr/>
          <p:nvPr/>
        </p:nvPicPr>
        <p:blipFill>
          <a:blip r:embed="rId6"/>
          <a:stretch/>
        </p:blipFill>
        <p:spPr>
          <a:xfrm>
            <a:off x="1332000" y="1413000"/>
            <a:ext cx="5476680" cy="4343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7"/>
          <p:cNvPicPr/>
          <p:nvPr/>
        </p:nvPicPr>
        <p:blipFill>
          <a:blip r:embed="rId7"/>
          <a:stretch/>
        </p:blipFill>
        <p:spPr>
          <a:xfrm>
            <a:off x="1403280" y="1413000"/>
            <a:ext cx="5477040" cy="433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8"/>
          <p:cNvPicPr/>
          <p:nvPr/>
        </p:nvPicPr>
        <p:blipFill>
          <a:blip r:embed="rId8"/>
          <a:stretch/>
        </p:blipFill>
        <p:spPr>
          <a:xfrm>
            <a:off x="1332000" y="1341360"/>
            <a:ext cx="5810040" cy="4343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9"/>
          <p:cNvPicPr/>
          <p:nvPr/>
        </p:nvPicPr>
        <p:blipFill>
          <a:blip r:embed="rId9"/>
          <a:stretch/>
        </p:blipFill>
        <p:spPr>
          <a:xfrm>
            <a:off x="1332000" y="1197000"/>
            <a:ext cx="5505480" cy="436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10"/>
          <p:cNvPicPr/>
          <p:nvPr/>
        </p:nvPicPr>
        <p:blipFill>
          <a:blip r:embed="rId10"/>
          <a:stretch/>
        </p:blipFill>
        <p:spPr>
          <a:xfrm>
            <a:off x="1258920" y="1197000"/>
            <a:ext cx="5533920" cy="438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11"/>
          <p:cNvPicPr/>
          <p:nvPr/>
        </p:nvPicPr>
        <p:blipFill>
          <a:blip r:embed="rId11"/>
          <a:stretch/>
        </p:blipFill>
        <p:spPr>
          <a:xfrm>
            <a:off x="1258920" y="1125360"/>
            <a:ext cx="5924520" cy="4372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4"/>
          <p:cNvSpPr/>
          <p:nvPr/>
        </p:nvSpPr>
        <p:spPr>
          <a:xfrm>
            <a:off x="324000" y="15732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imes New Roman"/>
              </a:rPr>
              <a:t>我们该怎么办？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376360" cy="870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1403280" y="903240"/>
            <a:ext cx="5905440" cy="447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3767400" cy="619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4"/>
          <a:stretch/>
        </p:blipFill>
        <p:spPr>
          <a:xfrm>
            <a:off x="468360" y="836640"/>
            <a:ext cx="7559640" cy="540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5"/>
          <a:stretch/>
        </p:blipFill>
        <p:spPr>
          <a:xfrm>
            <a:off x="468360" y="907920"/>
            <a:ext cx="7559640" cy="543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02"/>
          <p:cNvPicPr/>
          <p:nvPr/>
        </p:nvPicPr>
        <p:blipFill>
          <a:blip r:embed="rId1"/>
          <a:stretch/>
        </p:blipFill>
        <p:spPr>
          <a:xfrm>
            <a:off x="611280" y="69228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2"/>
          <p:cNvSpPr/>
          <p:nvPr/>
        </p:nvSpPr>
        <p:spPr>
          <a:xfrm>
            <a:off x="1979640" y="1557360"/>
            <a:ext cx="511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爱护眼睛的一些方法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684360" y="573408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看一段时间书后，应该远望护目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2" name="Picture 24" descr="远望护目"/>
          <p:cNvPicPr/>
          <p:nvPr/>
        </p:nvPicPr>
        <p:blipFill>
          <a:blip r:embed="rId2"/>
          <a:stretch/>
        </p:blipFill>
        <p:spPr>
          <a:xfrm>
            <a:off x="2514600" y="2463840"/>
            <a:ext cx="457200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1-110423154447.gif"/>
          <p:cNvPicPr/>
          <p:nvPr/>
        </p:nvPicPr>
        <p:blipFill>
          <a:blip r:embed="rId1"/>
          <a:stretch/>
        </p:blipFill>
        <p:spPr>
          <a:xfrm>
            <a:off x="2286000" y="642960"/>
            <a:ext cx="5000760" cy="50007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3500280" y="5929200"/>
            <a:ext cx="29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多吃胡萝卜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87683bf48e876d46ddc4748a.gif"/>
          <p:cNvPicPr/>
          <p:nvPr/>
        </p:nvPicPr>
        <p:blipFill>
          <a:blip r:embed="rId1"/>
          <a:stretch/>
        </p:blipFill>
        <p:spPr>
          <a:xfrm>
            <a:off x="1500120" y="214200"/>
            <a:ext cx="5762520" cy="5762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2340000" y="6021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保持充足的睡眠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_m_gw_yqnvZxsIrrq9KAC-7TKGELV5NCOmf4ChJJ6VRHs5KvIphYevz64I9UxBzVnN23_1YxGgyzRl1Q8fZbRrIl3x-zX9JGaufmJ7.jpg"/>
          <p:cNvPicPr/>
          <p:nvPr/>
        </p:nvPicPr>
        <p:blipFill>
          <a:blip r:embed="rId1"/>
          <a:stretch/>
        </p:blipFill>
        <p:spPr>
          <a:xfrm>
            <a:off x="2143080" y="214200"/>
            <a:ext cx="5048280" cy="58104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2843280" y="6021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认真做眼保健操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68360" y="2187720"/>
            <a:ext cx="2898720" cy="46702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2987640" y="1628640"/>
            <a:ext cx="4978440" cy="1905120"/>
          </a:xfrm>
          <a:prstGeom prst="cloudCallout">
            <a:avLst>
              <a:gd name="adj1" fmla="val -58069"/>
              <a:gd name="adj2" fmla="val 7183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眼睛能为我们做什么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 rot="181200">
            <a:off x="826920" y="33300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99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护眼小常识</a:t>
            </a:r>
            <a:r>
              <a:rPr b="1" lang="en-US" sz="4400" spc="1" strike="noStrike">
                <a:ln w="9360">
                  <a:solidFill>
                    <a:srgbClr val="000099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</a:t>
            </a:r>
            <a:endParaRPr b="1" lang="en-US" sz="4400" spc="1" strike="noStrike">
              <a:ln w="9360">
                <a:solidFill>
                  <a:srgbClr val="000099"/>
                </a:solidFill>
                <a:round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2560" y="12682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隶书"/>
              </a:rPr>
              <a:t>1.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不能在光线很暗的地方看书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82560" y="223524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隶书"/>
              </a:rPr>
              <a:t>2.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不能在太阳光下看书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84360" y="30988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隶书"/>
              </a:rPr>
              <a:t>3.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不能走在路上看书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84360" y="3860640"/>
            <a:ext cx="59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隶书"/>
              </a:rPr>
              <a:t>4.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不能坐在车上看书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84360" y="468324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隶书"/>
              </a:rPr>
              <a:t>5.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不能躺着或趴着看书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WordArt 8"/>
          <p:cNvSpPr txBox="1"/>
          <p:nvPr/>
        </p:nvSpPr>
        <p:spPr>
          <a:xfrm>
            <a:off x="1403280" y="5589720"/>
            <a:ext cx="61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ff00"/>
                  </a:solidFill>
                  <a:round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小朋友一定要注意噢！</a:t>
            </a:r>
            <a:endParaRPr b="0" lang="en-US" sz="3200" spc="1" strike="noStrike">
              <a:ln w="12600">
                <a:solidFill>
                  <a:srgbClr val="00ff00"/>
                </a:solidFill>
                <a:round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395280" y="692280"/>
            <a:ext cx="8353440" cy="5688000"/>
          </a:xfrm>
          <a:prstGeom prst="flowChartPredefinedProcess">
            <a:avLst/>
          </a:prstGeom>
          <a:gradFill rotWithShape="0">
            <a:gsLst>
              <a:gs pos="0">
                <a:srgbClr val="ffffff"/>
              </a:gs>
              <a:gs pos="100000">
                <a:srgbClr val="ca3a8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85328" dir="6993903" blurRad="0" rotWithShape="0">
              <a:srgbClr val="de86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7" name="班2、2.mpg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1280" cy="4573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835280" y="549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认真做好眼保健操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9" name="WordArt 5"/>
          <p:cNvSpPr txBox="1"/>
          <p:nvPr/>
        </p:nvSpPr>
        <p:spPr>
          <a:xfrm rot="181200">
            <a:off x="395280" y="11556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99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护眼小常识</a:t>
            </a:r>
            <a:r>
              <a:rPr b="1" lang="en-US" sz="4400" spc="1" strike="noStrike">
                <a:ln w="9360">
                  <a:solidFill>
                    <a:srgbClr val="000099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endParaRPr b="1" lang="en-US" sz="4400" spc="1" strike="noStrike">
              <a:ln w="9360">
                <a:solidFill>
                  <a:srgbClr val="000099"/>
                </a:solidFill>
                <a:round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8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 rot="16200000">
            <a:off x="1848960" y="102600"/>
            <a:ext cx="5301000" cy="7345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e86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836720" y="3162240"/>
            <a:ext cx="6264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勤剪指甲，手干净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节拍准确，姿势对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835280" y="20289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做好眼操要注意 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隶书"/>
              </a:rPr>
              <a:t>: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3" name="WordArt 5"/>
          <p:cNvSpPr txBox="1"/>
          <p:nvPr/>
        </p:nvSpPr>
        <p:spPr>
          <a:xfrm rot="181200">
            <a:off x="611280" y="25992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99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护眼小常识</a:t>
            </a:r>
            <a:r>
              <a:rPr b="1" lang="en-US" sz="4400" spc="1" strike="noStrike">
                <a:ln w="9360">
                  <a:solidFill>
                    <a:srgbClr val="000099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endParaRPr b="1" lang="en-US" sz="4400" spc="1" strike="noStrike">
              <a:ln w="9360">
                <a:solidFill>
                  <a:srgbClr val="000099"/>
                </a:solidFill>
                <a:round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-112,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-112,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dur="indefinite" nodeType="after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0,-112,24)"/>
                                      </p:to>
                                    </p:set>
                                    <p:set>
                                      <p:cBhvr>
                                        <p:cTn id="458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0,-112,24)"/>
                                      </p:to>
                                    </p:set>
                                    <p:set>
                                      <p:cBhvr>
                                        <p:cTn id="459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042920" y="1413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700360" y="146160"/>
            <a:ext cx="51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89032"/>
                </a:solidFill>
                <a:latin typeface="Arial"/>
                <a:ea typeface="隶书"/>
              </a:rPr>
              <a:t>怎样保护眼睛？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1"/>
          <a:stretch/>
        </p:blipFill>
        <p:spPr>
          <a:xfrm>
            <a:off x="539640" y="1027080"/>
            <a:ext cx="3600720" cy="276228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167" name="Object 5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3743280" cy="273672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168" name="Object 6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3602160" cy="25668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169" name="Object 7" descr=""/>
          <p:cNvPicPr/>
          <p:nvPr/>
        </p:nvPicPr>
        <p:blipFill>
          <a:blip r:embed="rId4"/>
          <a:stretch/>
        </p:blipFill>
        <p:spPr>
          <a:xfrm>
            <a:off x="7236000" y="4437000"/>
            <a:ext cx="1287360" cy="223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4716360" y="4005360"/>
            <a:ext cx="3743280" cy="25653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042920" y="1413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72" name="Object 3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287360" cy="2233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940360" y="3860640"/>
            <a:ext cx="2951280" cy="24210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74" name="Rectangle 5"/>
          <p:cNvSpPr/>
          <p:nvPr/>
        </p:nvSpPr>
        <p:spPr>
          <a:xfrm>
            <a:off x="1042920" y="5300280"/>
            <a:ext cx="70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 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5" name="WordArt 6"/>
          <p:cNvSpPr txBox="1"/>
          <p:nvPr/>
        </p:nvSpPr>
        <p:spPr>
          <a:xfrm rot="181200">
            <a:off x="1116000" y="40428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99"/>
                  </a:solidFill>
                  <a:round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护眼小常识</a:t>
            </a:r>
            <a:r>
              <a:rPr b="1" lang="en-US" sz="4400" spc="1" strike="noStrike">
                <a:ln w="9360">
                  <a:solidFill>
                    <a:srgbClr val="000099"/>
                  </a:solidFill>
                  <a:round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3</a:t>
            </a:r>
            <a:endParaRPr b="1" lang="en-US" sz="4400" spc="1" strike="noStrike">
              <a:ln w="9360">
                <a:solidFill>
                  <a:srgbClr val="000099"/>
                </a:solidFill>
                <a:round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900000" y="1125360"/>
            <a:ext cx="6048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小朋友，爱眼睛。　　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读书写字坐端正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隶书"/>
              </a:rPr>
              <a:t>,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手离笔尖一寸远，　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胸离桌边一拳远，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眼离书本一尺远，　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三个一牢牢记心间，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书写干净又美观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6902280" y="2421000"/>
            <a:ext cx="2241720" cy="3384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1258920" y="26028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他们这样做对吗？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79" name="Object 4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6048360" cy="429588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180" name="Object 5" descr=""/>
          <p:cNvPicPr/>
          <p:nvPr/>
        </p:nvPicPr>
        <p:blipFill>
          <a:blip r:embed="rId3"/>
          <a:stretch/>
        </p:blipFill>
        <p:spPr>
          <a:xfrm>
            <a:off x="1042920" y="907920"/>
            <a:ext cx="5977080" cy="492948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181" name="Picture 6" descr="伤害眼睛（脏手擦）"/>
          <p:cNvPicPr/>
          <p:nvPr/>
        </p:nvPicPr>
        <p:blipFill>
          <a:blip r:embed="rId4"/>
          <a:srcRect l="0" t="0" r="0" b="-1510"/>
          <a:stretch/>
        </p:blipFill>
        <p:spPr>
          <a:xfrm>
            <a:off x="826920" y="981000"/>
            <a:ext cx="6120000" cy="4991040"/>
          </a:xfrm>
          <a:prstGeom prst="rect">
            <a:avLst/>
          </a:prstGeom>
          <a:ln w="76320">
            <a:solidFill>
              <a:srgbClr val="ca3a82"/>
            </a:solidFill>
            <a:miter/>
          </a:ln>
        </p:spPr>
      </p:pic>
      <p:sp>
        <p:nvSpPr>
          <p:cNvPr id="182" name="Text Box 7"/>
          <p:cNvSpPr/>
          <p:nvPr/>
        </p:nvSpPr>
        <p:spPr>
          <a:xfrm>
            <a:off x="324000" y="573408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燃放烟花、爆竹，容易炸伤眼睛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50920" y="57625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拿棍棒等利器玩容易刺伤眼睛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74560" y="590724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用脏手揉眼睛容易得眼病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504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4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684360" y="2571840"/>
            <a:ext cx="60973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、不能用手揉眼睛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755640" y="3508200"/>
            <a:ext cx="7572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、用流动，洁净的水洗眼睛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755640" y="4371840"/>
            <a:ext cx="85564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、请人轻轻地翻开眼皮吹走沙尘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826920" y="5207040"/>
            <a:ext cx="86551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、如果很严重，马上到医院就诊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841320" y="134136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眼睛进沙子怎么办？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 rot="16200000">
            <a:off x="1095120" y="930240"/>
            <a:ext cx="5299200" cy="6553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95280" y="1500840"/>
            <a:ext cx="67690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人的眼睛是件宝，　　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生活学习离不了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　保护视力我牢记，　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　眼镜不会把我找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　手不揉眼讲卫生，　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　红眼沙眼得不了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92" name="Object 4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1969920" cy="2357280"/>
          </a:xfrm>
          <a:prstGeom prst="rect">
            <a:avLst/>
          </a:prstGeom>
          <a:ln w="76320">
            <a:solidFill>
              <a:srgbClr val="66ff66"/>
            </a:solidFill>
            <a:miter/>
          </a:ln>
        </p:spPr>
      </p:pic>
      <p:sp>
        <p:nvSpPr>
          <p:cNvPr id="193" name="AutoShape 5"/>
          <p:cNvSpPr/>
          <p:nvPr/>
        </p:nvSpPr>
        <p:spPr>
          <a:xfrm>
            <a:off x="1835280" y="260280"/>
            <a:ext cx="3889080" cy="936720"/>
          </a:xfrm>
          <a:prstGeom prst="flowChartTerminator">
            <a:avLst/>
          </a:prstGeom>
          <a:gradFill rotWithShape="0">
            <a:gsLst>
              <a:gs pos="0">
                <a:srgbClr val="ffffff"/>
              </a:gs>
              <a:gs pos="100000">
                <a:srgbClr val="de86b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550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2411280" y="333360"/>
            <a:ext cx="30322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爱眼歌</a:t>
            </a:r>
            <a:endParaRPr b="1" lang="en-US" sz="44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5" name="Picture 7" descr="tu333"/>
          <p:cNvPicPr/>
          <p:nvPr/>
        </p:nvPicPr>
        <p:blipFill>
          <a:blip r:embed="rId3"/>
          <a:stretch/>
        </p:blipFill>
        <p:spPr>
          <a:xfrm>
            <a:off x="6443640" y="692280"/>
            <a:ext cx="146376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116000" y="1580760"/>
            <a:ext cx="8353440" cy="30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你知道吗？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食物对我们的眼睛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也很有好处。</a:t>
            </a: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1114560" y="3400200"/>
            <a:ext cx="7273800" cy="27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小眼睛，亮晶晶，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样样东西看得清。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好孩子，讲卫生，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不用脏手揉眼睛。 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348000" y="1495440"/>
            <a:ext cx="27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儿歌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99" name="[铃声]20110414172750_1980612700.mp3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808200" cy="80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113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眼睛的用处（工作）"/>
          <p:cNvPicPr/>
          <p:nvPr/>
        </p:nvPicPr>
        <p:blipFill>
          <a:blip r:embed="rId1"/>
          <a:stretch/>
        </p:blipFill>
        <p:spPr>
          <a:xfrm>
            <a:off x="1066680" y="1981080"/>
            <a:ext cx="3048120" cy="19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眼睛的用处（科研）"/>
          <p:cNvPicPr/>
          <p:nvPr/>
        </p:nvPicPr>
        <p:blipFill>
          <a:blip r:embed="rId2"/>
          <a:stretch/>
        </p:blipFill>
        <p:spPr>
          <a:xfrm>
            <a:off x="4843440" y="2006640"/>
            <a:ext cx="2895480" cy="1982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眼睛的用处（学习）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59280" y="4005360"/>
            <a:ext cx="3227400" cy="21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眼睛的用处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900000" y="4005360"/>
            <a:ext cx="3095640" cy="2179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468360" y="260280"/>
            <a:ext cx="83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隶书"/>
              </a:rPr>
              <a:t>眼睛的作用可真大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 rot="246600">
            <a:off x="1547640" y="620280"/>
            <a:ext cx="5950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争当爱眼宣传员</a:t>
            </a:r>
            <a:endParaRPr b="0" lang="en-US" sz="4800" spc="1" strike="noStrike">
              <a:ln w="9360">
                <a:solidFill>
                  <a:srgbClr val="cc99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042920" y="2708280"/>
            <a:ext cx="81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隶书"/>
              </a:rPr>
              <a:t>   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  <a:ea typeface="隶书"/>
              </a:rPr>
              <a:t>6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隶书"/>
              </a:rPr>
              <a:t>月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  <a:ea typeface="隶书"/>
              </a:rPr>
              <a:t>6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隶书"/>
              </a:rPr>
              <a:t>日是世界爱眼日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隶书"/>
              </a:rPr>
              <a:t>希望我们小朋友，保护好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隶书"/>
              </a:rPr>
              <a:t>自己的眼睛，人人争当爱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隶书"/>
              </a:rPr>
              <a:t>眼宣传员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2" name="文本框 1"/>
          <p:cNvSpPr/>
          <p:nvPr/>
        </p:nvSpPr>
        <p:spPr>
          <a:xfrm>
            <a:off x="1216080" y="58374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228600" y="98280"/>
            <a:ext cx="8915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ahoma"/>
              </a:rPr>
              <a:t>每天做到哪项，就在那个格中画一只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⊙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看一看谁的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⊙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最多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028880" y="2711520"/>
            <a:ext cx="247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043280" y="30265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cc"/>
                </a:solidFill>
                <a:latin typeface="Arial"/>
                <a:ea typeface="Tahoma"/>
              </a:rPr>
              <a:t>”</a:t>
            </a:r>
            <a:r>
              <a:rPr b="0" lang="zh-CN" sz="900" spc="-1" strike="noStrike">
                <a:solidFill>
                  <a:srgbClr val="0033cc"/>
                </a:solidFill>
                <a:latin typeface="Times New Roman"/>
                <a:ea typeface="Tahoma"/>
              </a:rPr>
              <a:t>。</a:t>
            </a:r>
            <a:r>
              <a:rPr b="0" lang="zh-CN" sz="900" spc="-1" strike="noStrike">
                <a:solidFill>
                  <a:srgbClr val="0033cc"/>
                </a:solidFill>
                <a:latin typeface="Times New Roman"/>
                <a:ea typeface="ˎ̥"/>
              </a:rPr>
              <a:t> </a:t>
            </a: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028880" y="2482920"/>
            <a:ext cx="6011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4920" y="1052640"/>
          <a:ext cx="9074160" cy="5742000"/>
        </p:xfrm>
        <a:graphic>
          <a:graphicData uri="http://schemas.openxmlformats.org/drawingml/2006/table">
            <a:tbl>
              <a:tblPr/>
              <a:tblGrid>
                <a:gridCol w="2521080"/>
                <a:gridCol w="936360"/>
                <a:gridCol w="935280"/>
                <a:gridCol w="936360"/>
                <a:gridCol w="936720"/>
                <a:gridCol w="935280"/>
                <a:gridCol w="936360"/>
                <a:gridCol w="936720"/>
              </a:tblGrid>
              <a:tr h="87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三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四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五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六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认真做眼保健操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用手揉眼睛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经常看绿色植物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看书写字姿势正确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3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在过强或过暗的光线下看书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做伤害眼睛的危险活动和游戏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6A77-E421-46E9-B7F3-A5DCA0DEA0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2"/>
          <p:cNvSpPr/>
          <p:nvPr/>
        </p:nvSpPr>
        <p:spPr>
          <a:xfrm>
            <a:off x="1908000" y="1700280"/>
            <a:ext cx="453888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眼睛的作用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755640" y="3500280"/>
            <a:ext cx="8020080" cy="202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    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看东西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读书认字、看图赏画、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看人物、欣赏美景等都要用到眼睛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眼睛还能装饰我们的脸庞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1"/>
          <p:cNvSpPr/>
          <p:nvPr/>
        </p:nvSpPr>
        <p:spPr>
          <a:xfrm>
            <a:off x="3924360" y="620640"/>
            <a:ext cx="5219640" cy="2192400"/>
          </a:xfrm>
          <a:prstGeom prst="cloudCallout">
            <a:avLst>
              <a:gd name="adj1" fmla="val -72263"/>
              <a:gd name="adj2" fmla="val 105541"/>
            </a:avLst>
          </a:prstGeom>
          <a:solidFill>
            <a:srgbClr val="ffff99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眼睛看不见会怎样？我们来体验一下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Picture 12" descr="老师"/>
          <p:cNvPicPr/>
          <p:nvPr/>
        </p:nvPicPr>
        <p:blipFill>
          <a:blip r:embed="rId1"/>
          <a:stretch/>
        </p:blipFill>
        <p:spPr>
          <a:xfrm>
            <a:off x="684360" y="2781360"/>
            <a:ext cx="2943000" cy="3489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2.avi" descr=""/>
          <p:cNvPicPr/>
          <p:nvPr/>
        </p:nvPicPr>
        <p:blipFill>
          <a:blip r:embed="rId1"/>
          <a:stretch/>
        </p:blipFill>
        <p:spPr>
          <a:xfrm>
            <a:off x="7236000" y="4653000"/>
            <a:ext cx="431640" cy="28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1622421765761104714"/>
          <p:cNvPicPr/>
          <p:nvPr/>
        </p:nvPicPr>
        <p:blipFill>
          <a:blip r:embed="rId2"/>
          <a:stretch/>
        </p:blipFill>
        <p:spPr>
          <a:xfrm>
            <a:off x="900000" y="404640"/>
            <a:ext cx="684072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870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2"/>
          <p:cNvSpPr/>
          <p:nvPr/>
        </p:nvSpPr>
        <p:spPr>
          <a:xfrm>
            <a:off x="1905120" y="1785960"/>
            <a:ext cx="3746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眼睛的作用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684360" y="2708280"/>
            <a:ext cx="8064360" cy="185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眼睛在我们每个人的生活中都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非常重要。眼睛近视、受伤或失明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都会给我们的生活带来极大的不便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9152357162005"/>
          <p:cNvPicPr/>
          <p:nvPr/>
        </p:nvPicPr>
        <p:blipFill>
          <a:blip r:embed="rId1"/>
          <a:stretch/>
        </p:blipFill>
        <p:spPr>
          <a:xfrm>
            <a:off x="2195640" y="260280"/>
            <a:ext cx="496872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835280" y="458136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眼睛为什么哭了</a:t>
            </a:r>
            <a:r>
              <a:rPr b="1" lang="zh-CN" sz="8800" spc="-1" strike="noStrike">
                <a:solidFill>
                  <a:srgbClr val="ff99cc"/>
                </a:solidFill>
                <a:latin typeface="Times New Roman"/>
              </a:rPr>
              <a:t>？</a:t>
            </a:r>
            <a:endParaRPr b="0" lang="en-US" sz="8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4:10:53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52:36Z</dcterms:modified>
  <cp:revision>1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9403000000000001024120</vt:lpwstr>
  </property>
</Properties>
</file>