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09AB-855D-40F6-B7F0-F39FB141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305F-879E-4090-B7FA-71391C3B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7C8-1EF4-4539-86DE-49D10110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74D-1C14-47AE-8F2F-663DEF48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A311-B2A2-4E75-A6AE-2737566E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F5F3-A14E-49AB-AE14-76EE0280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479-47EB-4223-8F1A-12119675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144-4B3D-41BC-B8C6-A8F0C92F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BD0E-01CD-4410-B95D-172621CB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449-B0C8-45B3-AA7D-87FE5745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297-63F9-4E4B-A7A0-9A01C338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A6F5-0AB5-4296-AD30-8BEE85B0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ABCC-9878-4601-A652-D311975B7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背景"/>
          <p:cNvPicPr/>
          <p:nvPr/>
        </p:nvPicPr>
        <p:blipFill>
          <a:blip r:embed="rId1"/>
          <a:stretch/>
        </p:blipFill>
        <p:spPr>
          <a:xfrm>
            <a:off x="14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下沉的物体</a:t>
            </a: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华文中宋"/>
                <a:ea typeface="华文中宋"/>
              </a:rPr>
              <a:t>会受到水的浮力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389320" y="57326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暴风截屏20100228195155"/>
          <p:cNvPicPr/>
          <p:nvPr/>
        </p:nvPicPr>
        <p:blipFill>
          <a:blip r:embed="rId2"/>
          <a:stretch/>
        </p:blipFill>
        <p:spPr>
          <a:xfrm>
            <a:off x="4140360" y="0"/>
            <a:ext cx="4140000" cy="338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暴风截屏20100228195658"/>
          <p:cNvPicPr/>
          <p:nvPr/>
        </p:nvPicPr>
        <p:blipFill>
          <a:blip r:embed="rId3"/>
          <a:stretch/>
        </p:blipFill>
        <p:spPr>
          <a:xfrm>
            <a:off x="826920" y="0"/>
            <a:ext cx="2843280" cy="3403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2266560" y="3645000"/>
            <a:ext cx="359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这两次测量的大小一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哪里的拉力大，哪里的拉力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为什么会出现拉力大小不同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911240" y="5445000"/>
            <a:ext cx="28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拉力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浮力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=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重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············································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581480" y="162864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实验：测量大小不同的小石头受到的浮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175920" y="2421000"/>
            <a:ext cx="281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实验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准备三块大小不同的小石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参照前一个活动的测量方法测量三块小石头受到的浮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607040" y="3716280"/>
            <a:ext cx="359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注意：小石头要完全浸人水中才能读出拉力的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704040" y="4668840"/>
            <a:ext cx="182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实验结论：浸人水中的体积越大，物体受到的浮力就越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浸人水中的体积越小，物体受到的浮力就越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DSC04237"/>
          <p:cNvPicPr/>
          <p:nvPr/>
        </p:nvPicPr>
        <p:blipFill>
          <a:blip r:embed="rId2"/>
          <a:stretch/>
        </p:blipFill>
        <p:spPr>
          <a:xfrm>
            <a:off x="755640" y="2249640"/>
            <a:ext cx="7596360" cy="4608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2428200" y="69228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画出石头和塑料受到的重力和浮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2411280" y="4221000"/>
            <a:ext cx="289080" cy="1152720"/>
          </a:xfrm>
          <a:prstGeom prst="upArrow">
            <a:avLst>
              <a:gd name="adj1" fmla="val 50000"/>
              <a:gd name="adj2" fmla="val 996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2411280" y="5516640"/>
            <a:ext cx="289080" cy="1341360"/>
          </a:xfrm>
          <a:prstGeom prst="downArrow">
            <a:avLst>
              <a:gd name="adj1" fmla="val 50000"/>
              <a:gd name="adj2" fmla="val 115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6372360" y="1773360"/>
            <a:ext cx="287280" cy="1008000"/>
          </a:xfrm>
          <a:prstGeom prst="upArrow">
            <a:avLst>
              <a:gd name="adj1" fmla="val 50000"/>
              <a:gd name="adj2" fmla="val 87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6372360" y="2852640"/>
            <a:ext cx="288720" cy="1081080"/>
          </a:xfrm>
          <a:prstGeom prst="downArrow">
            <a:avLst>
              <a:gd name="adj1" fmla="val 50000"/>
              <a:gd name="adj2" fmla="val 93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2949480" y="630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重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949480" y="407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浮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691020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重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6837120" y="162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浮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3403440" y="5516640"/>
            <a:ext cx="57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1907640" y="148428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用重力和浮力的关系来解释物体在水中沉浮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2995560" y="2711520"/>
            <a:ext cx="315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浮力小于重力  下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浮力大于重力  上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14AE-D656-4FE0-8F5A-28B1577FBF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5:56:34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15:36:56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