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56B-4160-4539-8577-0919AA1F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5C1-73FD-49BF-9185-D26758EE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0EF-C6FC-4F23-9287-76F8A9A2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010-8001-4045-BFAC-C6E72ABD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EF9-F1DD-47D8-A8ED-00B1CED8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00C-1CB0-46A0-9320-10A34980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4EB-99B3-4D2E-AAC8-6719E173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266-314B-48B8-9242-C94FADE5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1BC-45AE-4592-A784-CC05B63A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C61-B7A1-44E0-903B-FB90BEB5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E9F-54D2-4453-BAC4-241D80C1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742-F885-4CE5-B528-5DC52423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1AB3-449E-4097-B2D1-6A95BE1FF3B3}" type="slidenum">
              <a:rPr b="0" lang="en-US" sz="1400" spc="-1" strike="noStrike">
                <a:solidFill>
                  <a:srgbClr val="007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xiaxve.MPG" TargetMode="External"/><Relationship Id="rId18" Type="http://schemas.openxmlformats.org/officeDocument/2006/relationships/image" Target="../media/image5.jpeg"/><Relationship Id="rId19" Type="http://schemas.openxmlformats.org/officeDocument/2006/relationships/image" Target="../media/image6.jpeg"/><Relationship Id="rId20" Type="http://schemas.openxmlformats.org/officeDocument/2006/relationships/image" Target="../media/image7.jpeg"/><Relationship Id="rId21" Type="http://schemas.openxmlformats.org/officeDocument/2006/relationships/image" Target="../media/image8.jpeg"/><Relationship Id="rId22" Type="http://schemas.openxmlformats.org/officeDocument/2006/relationships/image" Target="../media/image9.jpeg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1592280" y="5823000"/>
            <a:ext cx="64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2938320" y="2666880"/>
            <a:ext cx="26132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鱼，你睡在哪里</a:t>
            </a: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夜里很黑，夜里很静，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鱼小鱼，你睡在哪里</a:t>
            </a: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783440" y="1776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阅读儿歌：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492360" y="1052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0074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00740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3060720" y="2362320"/>
            <a:ext cx="2314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狐狸的脚印通向洞里，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狗的脚印通向窝里，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松鼠的脚印通向树洞，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老鼠的脚印通向地洞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3006360" y="2362320"/>
            <a:ext cx="2826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河里没有，水里没有，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你的脚印，哪也没有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黑乎乎的，静悄悄的，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鱼小鱼，你睡在哪里</a:t>
            </a: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e035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4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B559-89AB-4AFA-AA4B-C8693B2F0F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9"/>
          <p:cNvSpPr/>
          <p:nvPr/>
        </p:nvSpPr>
        <p:spPr>
          <a:xfrm>
            <a:off x="3348000" y="610704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1"/>
              </a:rPr>
              <a:t>www.1ppt.com/excel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3"/>
              </a:rPr>
              <a:t>www.1ppt.com/ziliao/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4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e03500"/>
                </a:solidFill>
                <a:uFillTx/>
                <a:latin typeface="Times New Roman"/>
                <a:hlinkClick r:id="rId15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43" name="Picture 3" descr="小学语文（散文）02-1"/>
          <p:cNvPicPr/>
          <p:nvPr/>
        </p:nvPicPr>
        <p:blipFill>
          <a:blip r:embed="rId16"/>
          <a:stretch/>
        </p:blipFill>
        <p:spPr>
          <a:xfrm>
            <a:off x="1371600" y="1131840"/>
            <a:ext cx="1714680" cy="468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xv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057400" y="190512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打雪仗2"/>
          <p:cNvPicPr/>
          <p:nvPr/>
        </p:nvPicPr>
        <p:blipFill>
          <a:blip r:embed="rId19"/>
          <a:stretch/>
        </p:blipFill>
        <p:spPr>
          <a:xfrm>
            <a:off x="1523880" y="1752480"/>
            <a:ext cx="6096240" cy="435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打雪仗3"/>
          <p:cNvPicPr/>
          <p:nvPr/>
        </p:nvPicPr>
        <p:blipFill>
          <a:blip r:embed="rId20"/>
          <a:stretch/>
        </p:blipFill>
        <p:spPr>
          <a:xfrm>
            <a:off x="2743200" y="1600200"/>
            <a:ext cx="3809880" cy="5143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堆雪人"/>
          <p:cNvPicPr/>
          <p:nvPr/>
        </p:nvPicPr>
        <p:blipFill>
          <a:blip r:embed="rId21"/>
          <a:stretch/>
        </p:blipFill>
        <p:spPr>
          <a:xfrm>
            <a:off x="762120" y="1981080"/>
            <a:ext cx="6400800" cy="365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滚雪球1"/>
          <p:cNvPicPr/>
          <p:nvPr/>
        </p:nvPicPr>
        <p:blipFill>
          <a:blip r:embed="rId22"/>
          <a:stretch/>
        </p:blipFill>
        <p:spPr>
          <a:xfrm>
            <a:off x="2743200" y="1676520"/>
            <a:ext cx="348624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小学语文（散文）02-2"/>
          <p:cNvPicPr/>
          <p:nvPr/>
        </p:nvPicPr>
        <p:blipFill>
          <a:blip r:embed="rId2"/>
          <a:stretch/>
        </p:blipFill>
        <p:spPr>
          <a:xfrm>
            <a:off x="1371600" y="1246320"/>
            <a:ext cx="1725480" cy="35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1763640" y="1989000"/>
            <a:ext cx="5639040" cy="38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小学语文（散文）02-2"/>
          <p:cNvPicPr/>
          <p:nvPr/>
        </p:nvPicPr>
        <p:blipFill>
          <a:blip r:embed="rId2"/>
          <a:stretch/>
        </p:blipFill>
        <p:spPr>
          <a:xfrm>
            <a:off x="1371600" y="1219320"/>
            <a:ext cx="1725480" cy="353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1734120" y="1644480"/>
            <a:ext cx="12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读一读</a:t>
            </a:r>
            <a:r>
              <a:rPr b="1" lang="en-US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: 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53" name="Group 18"/>
          <p:cNvGrpSpPr/>
          <p:nvPr/>
        </p:nvGrpSpPr>
        <p:grpSpPr>
          <a:xfrm>
            <a:off x="2134080" y="2467080"/>
            <a:ext cx="5405760" cy="2715840"/>
            <a:chOff x="2134080" y="2467080"/>
            <a:chExt cx="5405760" cy="2715840"/>
          </a:xfrm>
        </p:grpSpPr>
        <p:sp>
          <p:nvSpPr>
            <p:cNvPr id="54" name="Text Box 9"/>
            <p:cNvSpPr/>
            <p:nvPr/>
          </p:nvSpPr>
          <p:spPr>
            <a:xfrm>
              <a:off x="2445840" y="3092400"/>
              <a:ext cx="484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啦  梅  用  几  成   蛙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55" name="Text Box 12"/>
            <p:cNvSpPr/>
            <p:nvPr/>
          </p:nvSpPr>
          <p:spPr>
            <a:xfrm>
              <a:off x="2186640" y="2467080"/>
              <a:ext cx="535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la    méi  yòn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g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   jǐ   chén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g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 wā</a:t>
              </a:r>
              <a:endParaRPr b="0" lang="en-US" sz="32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2134080" y="3990960"/>
              <a:ext cx="458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wèi   cān  jiā   dòn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g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  shuì</a:t>
              </a:r>
              <a:endParaRPr b="0" lang="en-US" sz="32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57" name="Text Box 16"/>
            <p:cNvSpPr/>
            <p:nvPr/>
          </p:nvSpPr>
          <p:spPr>
            <a:xfrm>
              <a:off x="2419920" y="4540320"/>
              <a:ext cx="374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为  参 加  洞   睡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58" name="文本框 1"/>
          <p:cNvSpPr/>
          <p:nvPr/>
        </p:nvSpPr>
        <p:spPr>
          <a:xfrm>
            <a:off x="685800" y="5878440"/>
            <a:ext cx="66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74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5"/>
          <p:cNvGrpSpPr/>
          <p:nvPr/>
        </p:nvGrpSpPr>
        <p:grpSpPr>
          <a:xfrm>
            <a:off x="1720080" y="1549440"/>
            <a:ext cx="5845680" cy="4699440"/>
            <a:chOff x="1720080" y="1549440"/>
            <a:chExt cx="5845680" cy="4699440"/>
          </a:xfrm>
        </p:grpSpPr>
        <p:grpSp>
          <p:nvGrpSpPr>
            <p:cNvPr id="61" name="Group 13"/>
            <p:cNvGrpSpPr/>
            <p:nvPr/>
          </p:nvGrpSpPr>
          <p:grpSpPr>
            <a:xfrm>
              <a:off x="2306880" y="1866960"/>
              <a:ext cx="5258880" cy="4381920"/>
              <a:chOff x="2306880" y="1866960"/>
              <a:chExt cx="5258880" cy="4381920"/>
            </a:xfrm>
          </p:grpSpPr>
          <p:sp>
            <p:nvSpPr>
              <p:cNvPr id="62" name="Text Box 5"/>
              <p:cNvSpPr/>
              <p:nvPr/>
            </p:nvSpPr>
            <p:spPr>
              <a:xfrm>
                <a:off x="2306880" y="2722680"/>
                <a:ext cx="5258880" cy="352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下 雪 啦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,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下 雪 啦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!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雪 地 里 来 了 一 群  小  画 家 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。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小 鸡 画 竹 叶 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,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小 狗 画 梅 花 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,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  <a:p>
                <a:pPr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小 鸭 画  枫 叶 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,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小 马 画 月 牙 </a:t>
                </a:r>
                <a:r>
                  <a:rPr b="1" lang="zh-CN" sz="2800" spc="-1" strike="noStrike">
                    <a:solidFill>
                      <a:srgbClr val="007400"/>
                    </a:solidFill>
                    <a:latin typeface="Times New Roman"/>
                    <a:ea typeface="楷体_GB2312"/>
                  </a:rPr>
                  <a:t>。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63" name="Rectangle 6"/>
              <p:cNvSpPr/>
              <p:nvPr/>
            </p:nvSpPr>
            <p:spPr>
              <a:xfrm>
                <a:off x="3264120" y="1866960"/>
                <a:ext cx="3350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雪 地 里 的 小 画 家</a:t>
                </a:r>
                <a:endParaRPr b="0" lang="en-US" sz="32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14"/>
            <p:cNvGrpSpPr/>
            <p:nvPr/>
          </p:nvGrpSpPr>
          <p:grpSpPr>
            <a:xfrm>
              <a:off x="1720080" y="1549440"/>
              <a:ext cx="5724360" cy="4244400"/>
              <a:chOff x="1720080" y="1549440"/>
              <a:chExt cx="5724360" cy="4244400"/>
            </a:xfrm>
          </p:grpSpPr>
          <p:sp>
            <p:nvSpPr>
              <p:cNvPr id="65" name="Text Box 8"/>
              <p:cNvSpPr/>
              <p:nvPr/>
            </p:nvSpPr>
            <p:spPr>
              <a:xfrm>
                <a:off x="2814840" y="1549440"/>
                <a:ext cx="441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400"/>
                    </a:solidFill>
                    <a:latin typeface="Times New Roman"/>
                  </a:rPr>
                  <a:t>xuě  dì    lǐ   de xiǎo hu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Century Gothic"/>
                  </a:rPr>
                  <a:t>à</a:t>
                </a:r>
                <a:r>
                  <a:rPr b="1" lang="en-US" sz="2800" spc="-1" strike="noStrike">
                    <a:solidFill>
                      <a:srgbClr val="007400"/>
                    </a:solidFill>
                    <a:latin typeface="Times New Roman"/>
                  </a:rPr>
                  <a:t>  jiā 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66" name="Rectangle 9"/>
              <p:cNvSpPr/>
              <p:nvPr/>
            </p:nvSpPr>
            <p:spPr>
              <a:xfrm>
                <a:off x="1720080" y="5334120"/>
                <a:ext cx="57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xiǎo  yā  hu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à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fēn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Arial"/>
                  </a:rPr>
                  <a:t>g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 yè   xiǎo mǎ hu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à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yuè  y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á</a:t>
                </a:r>
                <a:endParaRPr b="0" lang="en-US" sz="20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67" name="Rectangle 10"/>
              <p:cNvSpPr/>
              <p:nvPr/>
            </p:nvSpPr>
            <p:spPr>
              <a:xfrm>
                <a:off x="1734480" y="4343400"/>
                <a:ext cx="570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xiǎo  jī  hu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à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zhú  yè   xiǎo 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Arial"/>
                  </a:rPr>
                  <a:t>g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ǒu hu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à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méi huā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68" name="Rectangle 11"/>
              <p:cNvSpPr/>
              <p:nvPr/>
            </p:nvSpPr>
            <p:spPr>
              <a:xfrm>
                <a:off x="1739160" y="3429000"/>
                <a:ext cx="563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xuě   dì    lǐ   l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á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i    le    yí  qún  xiǎo  hu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à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jiā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69" name="Rectangle 12"/>
              <p:cNvSpPr/>
              <p:nvPr/>
            </p:nvSpPr>
            <p:spPr>
              <a:xfrm>
                <a:off x="1808640" y="2438280"/>
                <a:ext cx="319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xi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à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xuě   l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a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  xi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à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xuě   l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a</a:t>
                </a:r>
                <a:endParaRPr b="0" lang="en-US" sz="20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6"/>
          <p:cNvGrpSpPr/>
          <p:nvPr/>
        </p:nvGrpSpPr>
        <p:grpSpPr>
          <a:xfrm>
            <a:off x="2293200" y="1828800"/>
            <a:ext cx="4595760" cy="4094280"/>
            <a:chOff x="2293200" y="1828800"/>
            <a:chExt cx="4595760" cy="4094280"/>
          </a:xfrm>
        </p:grpSpPr>
        <p:sp>
          <p:nvSpPr>
            <p:cNvPr id="72" name="Text Box 10"/>
            <p:cNvSpPr/>
            <p:nvPr/>
          </p:nvSpPr>
          <p:spPr>
            <a:xfrm>
              <a:off x="2767680" y="2097000"/>
              <a:ext cx="4106520" cy="38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不 用  颜 料 不 用 笔 </a:t>
              </a:r>
              <a:r>
                <a:rPr b="1" lang="en-US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,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几 步 就  成  一 幅 画 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青 蛙 为 什  么 没 参 加 </a:t>
              </a:r>
              <a:r>
                <a:rPr b="1" lang="en-US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他 在  洞  里 睡 觉 啦 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2293200" y="1828800"/>
              <a:ext cx="4595760" cy="3660120"/>
              <a:chOff x="2293200" y="1828800"/>
              <a:chExt cx="4595760" cy="3660120"/>
            </a:xfrm>
          </p:grpSpPr>
          <p:sp>
            <p:nvSpPr>
              <p:cNvPr id="74" name="Text Box 11"/>
              <p:cNvSpPr/>
              <p:nvPr/>
            </p:nvSpPr>
            <p:spPr>
              <a:xfrm>
                <a:off x="2498040" y="1828800"/>
                <a:ext cx="386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bú yòn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g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y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á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n li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à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o  bú yòn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Arial"/>
                  </a:rPr>
                  <a:t>g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bǐ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75" name="Rectangle 12"/>
              <p:cNvSpPr/>
              <p:nvPr/>
            </p:nvSpPr>
            <p:spPr>
              <a:xfrm>
                <a:off x="2510640" y="5029200"/>
                <a:ext cx="3970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tā   z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à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i dòn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Arial"/>
                  </a:rPr>
                  <a:t>g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   li  shuì  ji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à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o  l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a</a:t>
                </a:r>
                <a:endParaRPr b="0" lang="en-US" sz="20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76" name="Rectangle 13"/>
              <p:cNvSpPr/>
              <p:nvPr/>
            </p:nvSpPr>
            <p:spPr>
              <a:xfrm>
                <a:off x="2293200" y="3962520"/>
                <a:ext cx="459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qīn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g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wā  wèi shén  me méi cān  jiā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77" name="Rectangle 14"/>
              <p:cNvSpPr/>
              <p:nvPr/>
            </p:nvSpPr>
            <p:spPr>
              <a:xfrm>
                <a:off x="2517120" y="2895480"/>
                <a:ext cx="403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jǐ   bù  jiù  chén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Arial"/>
                  </a:rPr>
                  <a:t>g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  yì    fú  hu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à</a:t>
                </a:r>
                <a:endParaRPr b="0" lang="en-US" sz="20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2361960" y="3124080"/>
            <a:ext cx="4277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■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动物画画和画家画画有什么不同</a:t>
            </a: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你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是从哪句知道的</a:t>
            </a: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230200" y="2286000"/>
            <a:ext cx="43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■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画家指哪些动物</a:t>
            </a: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怎么没有青蛙</a:t>
            </a: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雪地里的小画家"/>
          <p:cNvPicPr/>
          <p:nvPr/>
        </p:nvPicPr>
        <p:blipFill>
          <a:blip r:embed="rId3"/>
          <a:stretch/>
        </p:blipFill>
        <p:spPr>
          <a:xfrm>
            <a:off x="838080" y="1943280"/>
            <a:ext cx="815364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006280" y="3657600"/>
            <a:ext cx="2826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■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什么动物也要冬眠？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2536200" y="2139840"/>
            <a:ext cx="4106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■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你知道什么动物也会在雪地里画画，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画出来的是什么动画？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7:22:17Z</dcterms:created>
  <dc:creator/>
  <dc:description/>
  <cp:keywords/>
  <dc:language>en-US</dc:language>
  <cp:lastModifiedBy>xinxing</cp:lastModifiedBy>
  <dcterms:modified xsi:type="dcterms:W3CDTF">2017-04-16T16:12:20Z</dcterms:modified>
  <cp:revision>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