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F1A8-4E2A-4646-8D39-8019B553D46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01AE-B7D5-4836-9227-53EE61077BB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04ED-55D7-4BC1-A451-D546A7CD7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1D5C-7AD4-40D4-B7FF-E3C9E8E6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056E-4150-4929-BC74-C973B1ED5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B154-30BE-45A4-B1CD-B2E6B89CD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532A-62E4-4953-AF00-5DE5BAF6A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A8B2-7DB8-40D7-96BB-19F99384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5350-E4CD-45AC-B6D1-B626C0CF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EE96-CDAB-42B2-B3A6-132CDDD0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6B0B-45D1-4F15-95C3-AB4F1926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2829-576C-4A99-A6EE-497AFBFA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E696-095D-461E-A5BE-212003BE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0707-44B1-4C70-A500-EC4204B4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1A05-04AE-4B80-9F17-A24F42F0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D39B-E298-4EDF-AA3F-A72101E5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D092-11E0-4EDF-96AF-DCF0B5B1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AF27-42B1-4753-A3B8-57D4B6CB1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1230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9332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7524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1230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49332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28A1-D23B-45E9-9F66-7193A38FD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EAAE-A50D-4415-9C40-FE131A0E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6494-6457-43FD-96BF-A2BEA0D3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579D-F715-4692-AD52-D977BB2A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B3F7-AE61-4352-987C-6DD38E8D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6FB8-74BE-4CD8-8464-8165A69D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092B-196D-42F1-8AD2-287E601C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DCD6-419F-4EA9-93A0-9CA2A186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5218-95D6-4CA3-A210-0175D1A89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B581-F828-44AA-B834-92947A0BE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17"/>
          <p:cNvSpPr/>
          <p:nvPr/>
        </p:nvSpPr>
        <p:spPr>
          <a:xfrm flipV="1" rot="10800000">
            <a:off x="5789520" y="5465880"/>
            <a:ext cx="289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000" y="1773000"/>
            <a:ext cx="72723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微软雅黑"/>
                <a:ea typeface="微软雅黑"/>
              </a:rPr>
              <a:t>相互协作的人体器官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矩形 7"/>
          <p:cNvSpPr/>
          <p:nvPr/>
        </p:nvSpPr>
        <p:spPr>
          <a:xfrm>
            <a:off x="2486160" y="569448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人体的各个器官怎样协同工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39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经常运动，心脏会变得强壮。肺活量增大，能为身体提供更充足的氧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如果食物在体内消化得好，我们就会吸收更多的营养，为骨骼、肌肉的生长提供养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如果牙齿不好，消化就会受到影响，还会影响整个身体的运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消化食物的时候，也会消耗氧气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5">
            <a:hlinkClick r:id="rId1" action="ppaction://hlinksldjump"/>
          </p:cNvPr>
          <p:cNvSpPr/>
          <p:nvPr/>
        </p:nvSpPr>
        <p:spPr>
          <a:xfrm>
            <a:off x="8028000" y="6093000"/>
            <a:ext cx="433440" cy="50472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504720"/>
              <a:gd name="textAreaBottom" fmla="*/ 476640 h 504720"/>
            </a:gdLst>
            <a:ahLst/>
            <a:rect l="textAreaLeft" t="textAreaTop" r="textAreaRight" b="textAreaBottom"/>
            <a:pathLst>
              <a:path w="21600" h="25149">
                <a:moveTo>
                  <a:pt x="0" y="0"/>
                </a:moveTo>
                <a:lnTo>
                  <a:pt x="21600" y="0"/>
                </a:lnTo>
                <a:lnTo>
                  <a:pt x="21600" y="25149"/>
                </a:lnTo>
                <a:lnTo>
                  <a:pt x="0" y="25149"/>
                </a:lnTo>
                <a:close/>
              </a:path>
              <a:path fill="lightenLess" w="21600" h="251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49">
                <a:moveTo>
                  <a:pt x="21600" y="0"/>
                </a:moveTo>
                <a:lnTo>
                  <a:pt x="21600" y="25149"/>
                </a:lnTo>
                <a:lnTo>
                  <a:pt x="20200" y="23749"/>
                </a:lnTo>
                <a:lnTo>
                  <a:pt x="20200" y="1400"/>
                </a:lnTo>
                <a:close/>
              </a:path>
              <a:path fill="darkenLess" w="21600" h="25149">
                <a:moveTo>
                  <a:pt x="21600" y="25149"/>
                </a:moveTo>
                <a:lnTo>
                  <a:pt x="0" y="25149"/>
                </a:lnTo>
                <a:lnTo>
                  <a:pt x="1400" y="23749"/>
                </a:lnTo>
                <a:lnTo>
                  <a:pt x="20200" y="23749"/>
                </a:lnTo>
                <a:close/>
              </a:path>
              <a:path fill="lighten" w="21600" h="25149">
                <a:moveTo>
                  <a:pt x="0" y="2514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49"/>
                </a:lnTo>
                <a:close/>
              </a:path>
              <a:path fill="darken" w="21600" h="25149">
                <a:moveTo>
                  <a:pt x="3794" y="12575"/>
                </a:moveTo>
                <a:lnTo>
                  <a:pt x="17806" y="5568"/>
                </a:lnTo>
                <a:lnTo>
                  <a:pt x="17806" y="19581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27"/>
          <p:cNvSpPr/>
          <p:nvPr/>
        </p:nvSpPr>
        <p:spPr>
          <a:xfrm>
            <a:off x="4140360" y="28893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11280" y="184428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4"/>
          <p:cNvSpPr/>
          <p:nvPr/>
        </p:nvSpPr>
        <p:spPr>
          <a:xfrm>
            <a:off x="395280" y="1844640"/>
            <a:ext cx="2232000" cy="1511280"/>
          </a:xfrm>
          <a:prstGeom prst="ellipse">
            <a:avLst/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骨骼、肌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等运动器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5"/>
          <p:cNvSpPr/>
          <p:nvPr/>
        </p:nvSpPr>
        <p:spPr>
          <a:xfrm>
            <a:off x="3780000" y="1052640"/>
            <a:ext cx="1942920" cy="1511280"/>
          </a:xfrm>
          <a:prstGeom prst="ellipse">
            <a:avLst/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6"/>
          <p:cNvSpPr/>
          <p:nvPr/>
        </p:nvSpPr>
        <p:spPr>
          <a:xfrm>
            <a:off x="250920" y="5084640"/>
            <a:ext cx="1942920" cy="1511280"/>
          </a:xfrm>
          <a:prstGeom prst="ellipse">
            <a:avLst/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人体运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7"/>
          <p:cNvSpPr/>
          <p:nvPr/>
        </p:nvSpPr>
        <p:spPr>
          <a:xfrm>
            <a:off x="3780000" y="5084640"/>
            <a:ext cx="1942920" cy="1511280"/>
          </a:xfrm>
          <a:prstGeom prst="ellipse">
            <a:avLst/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心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8"/>
          <p:cNvSpPr/>
          <p:nvPr/>
        </p:nvSpPr>
        <p:spPr>
          <a:xfrm>
            <a:off x="6732720" y="1341360"/>
            <a:ext cx="1942920" cy="1511280"/>
          </a:xfrm>
          <a:prstGeom prst="ellipse">
            <a:avLst/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消化器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9"/>
          <p:cNvSpPr/>
          <p:nvPr/>
        </p:nvSpPr>
        <p:spPr>
          <a:xfrm>
            <a:off x="4572000" y="256536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0"/>
          <p:cNvSpPr/>
          <p:nvPr/>
        </p:nvSpPr>
        <p:spPr>
          <a:xfrm flipV="1">
            <a:off x="4859280" y="256536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4140360" y="3141720"/>
            <a:ext cx="43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氧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4859280" y="2852640"/>
            <a:ext cx="36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二氧化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3"/>
          <p:cNvSpPr/>
          <p:nvPr/>
        </p:nvSpPr>
        <p:spPr>
          <a:xfrm>
            <a:off x="1116000" y="3357720"/>
            <a:ext cx="0" cy="17269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1116000" y="3789360"/>
            <a:ext cx="43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进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6"/>
          <p:cNvSpPr/>
          <p:nvPr/>
        </p:nvSpPr>
        <p:spPr>
          <a:xfrm flipH="1">
            <a:off x="5292360" y="2637000"/>
            <a:ext cx="1655640" cy="2592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7"/>
          <p:cNvSpPr/>
          <p:nvPr/>
        </p:nvSpPr>
        <p:spPr>
          <a:xfrm flipV="1">
            <a:off x="5508720" y="2781000"/>
            <a:ext cx="1728720" cy="2592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6372360" y="3789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提供氧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5292720" y="3068640"/>
            <a:ext cx="12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提供养分水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20"/>
          <p:cNvSpPr/>
          <p:nvPr/>
        </p:nvSpPr>
        <p:spPr>
          <a:xfrm flipH="1" flipV="1">
            <a:off x="2124000" y="3284640"/>
            <a:ext cx="1943280" cy="1944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21"/>
          <p:cNvSpPr/>
          <p:nvPr/>
        </p:nvSpPr>
        <p:spPr>
          <a:xfrm>
            <a:off x="1763640" y="3357720"/>
            <a:ext cx="2158920" cy="21589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2"/>
          <p:cNvSpPr/>
          <p:nvPr/>
        </p:nvSpPr>
        <p:spPr>
          <a:xfrm>
            <a:off x="2627280" y="3284640"/>
            <a:ext cx="144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运输氧气水分养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3"/>
          <p:cNvSpPr/>
          <p:nvPr/>
        </p:nvSpPr>
        <p:spPr>
          <a:xfrm>
            <a:off x="2124000" y="4581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二氧化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24"/>
          <p:cNvSpPr/>
          <p:nvPr/>
        </p:nvSpPr>
        <p:spPr>
          <a:xfrm>
            <a:off x="6948360" y="4221000"/>
            <a:ext cx="1943280" cy="1511640"/>
          </a:xfrm>
          <a:prstGeom prst="ellipse">
            <a:avLst/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排泄器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25"/>
          <p:cNvSpPr/>
          <p:nvPr/>
        </p:nvSpPr>
        <p:spPr>
          <a:xfrm flipV="1">
            <a:off x="5796000" y="5373720"/>
            <a:ext cx="1297080" cy="503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6"/>
          <p:cNvSpPr/>
          <p:nvPr/>
        </p:nvSpPr>
        <p:spPr>
          <a:xfrm>
            <a:off x="6227640" y="558972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运输废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603360" y="2781000"/>
            <a:ext cx="8540640" cy="18716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人身体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各个器官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都离不开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氧气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水分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养分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的支持！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27">
            <a:hlinkClick r:id="rId1" action="ppaction://hlinksldjump"/>
          </p:cNvPr>
          <p:cNvSpPr/>
          <p:nvPr/>
        </p:nvSpPr>
        <p:spPr>
          <a:xfrm>
            <a:off x="7883640" y="6237360"/>
            <a:ext cx="360360" cy="4334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3440"/>
              <a:gd name="textAreaBottom" fmla="*/ 410400 h 433440"/>
            </a:gdLst>
            <a:ahLst/>
            <a:rect l="textAreaLeft" t="textAreaTop" r="textAreaRight" b="textAreaBottom"/>
            <a:pathLst>
              <a:path w="21600" h="25976">
                <a:moveTo>
                  <a:pt x="0" y="0"/>
                </a:moveTo>
                <a:lnTo>
                  <a:pt x="21600" y="0"/>
                </a:lnTo>
                <a:lnTo>
                  <a:pt x="21600" y="25976"/>
                </a:lnTo>
                <a:lnTo>
                  <a:pt x="0" y="25976"/>
                </a:lnTo>
                <a:close/>
              </a:path>
              <a:path fill="lightenLess" w="21600" h="25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76">
                <a:moveTo>
                  <a:pt x="21600" y="0"/>
                </a:moveTo>
                <a:lnTo>
                  <a:pt x="21600" y="25976"/>
                </a:lnTo>
                <a:lnTo>
                  <a:pt x="20200" y="24576"/>
                </a:lnTo>
                <a:lnTo>
                  <a:pt x="20200" y="1400"/>
                </a:lnTo>
                <a:close/>
              </a:path>
              <a:path fill="darkenLess" w="21600" h="25976">
                <a:moveTo>
                  <a:pt x="21600" y="25976"/>
                </a:moveTo>
                <a:lnTo>
                  <a:pt x="0" y="25976"/>
                </a:lnTo>
                <a:lnTo>
                  <a:pt x="1400" y="24576"/>
                </a:lnTo>
                <a:lnTo>
                  <a:pt x="20200" y="24576"/>
                </a:lnTo>
                <a:close/>
              </a:path>
              <a:path fill="lighten" w="21600" h="25976">
                <a:moveTo>
                  <a:pt x="0" y="25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76"/>
                </a:lnTo>
                <a:close/>
              </a:path>
              <a:path fill="darken" w="21600" h="25976">
                <a:moveTo>
                  <a:pt x="3794" y="12988"/>
                </a:moveTo>
                <a:lnTo>
                  <a:pt x="17806" y="5982"/>
                </a:lnTo>
                <a:lnTo>
                  <a:pt x="17806" y="19995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文本框 1"/>
          <p:cNvSpPr/>
          <p:nvPr/>
        </p:nvSpPr>
        <p:spPr>
          <a:xfrm>
            <a:off x="868320" y="595440"/>
            <a:ext cx="72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三、呵护自己身体的好行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828036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早起早睡，参加适宜的体育活动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睡前不吃零食，饭前便后洗手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早晚刷牙，不挑食不偏食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5">
            <a:hlinkClick r:id="rId1" action="ppaction://hlinksldjump"/>
          </p:cNvPr>
          <p:cNvSpPr/>
          <p:nvPr/>
        </p:nvSpPr>
        <p:spPr>
          <a:xfrm>
            <a:off x="7596360" y="5661000"/>
            <a:ext cx="504720" cy="57780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77800"/>
              <a:gd name="textAreaBottom" fmla="*/ 545400 h 577800"/>
            </a:gdLst>
            <a:ahLst/>
            <a:rect l="textAreaLeft" t="textAreaTop" r="textAreaRight" b="textAreaBottom"/>
            <a:pathLst>
              <a:path w="21600" h="24725">
                <a:moveTo>
                  <a:pt x="0" y="0"/>
                </a:moveTo>
                <a:lnTo>
                  <a:pt x="21600" y="0"/>
                </a:lnTo>
                <a:lnTo>
                  <a:pt x="21600" y="24725"/>
                </a:lnTo>
                <a:lnTo>
                  <a:pt x="0" y="24725"/>
                </a:lnTo>
                <a:close/>
              </a:path>
              <a:path fill="lightenLess" w="21600" h="247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25">
                <a:moveTo>
                  <a:pt x="21600" y="0"/>
                </a:moveTo>
                <a:lnTo>
                  <a:pt x="21600" y="24725"/>
                </a:lnTo>
                <a:lnTo>
                  <a:pt x="20200" y="23325"/>
                </a:lnTo>
                <a:lnTo>
                  <a:pt x="20200" y="1400"/>
                </a:lnTo>
                <a:close/>
              </a:path>
              <a:path fill="darkenLess" w="21600" h="24725">
                <a:moveTo>
                  <a:pt x="21600" y="24725"/>
                </a:moveTo>
                <a:lnTo>
                  <a:pt x="0" y="24725"/>
                </a:lnTo>
                <a:lnTo>
                  <a:pt x="1400" y="23325"/>
                </a:lnTo>
                <a:lnTo>
                  <a:pt x="20200" y="23325"/>
                </a:lnTo>
                <a:close/>
              </a:path>
              <a:path fill="lighten" w="21600" h="24725">
                <a:moveTo>
                  <a:pt x="0" y="2472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25"/>
                </a:lnTo>
                <a:close/>
              </a:path>
              <a:path fill="darken" w="21600" h="24725">
                <a:moveTo>
                  <a:pt x="3794" y="12363"/>
                </a:moveTo>
                <a:lnTo>
                  <a:pt x="17806" y="5356"/>
                </a:lnTo>
                <a:lnTo>
                  <a:pt x="17806" y="1936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6">
            <a:hlinkClick r:id="" action="ppaction://hlinkshowjump?jump=nextslide"/>
          </p:cNvPr>
          <p:cNvSpPr/>
          <p:nvPr/>
        </p:nvSpPr>
        <p:spPr>
          <a:xfrm flipH="1">
            <a:off x="7232040" y="4510080"/>
            <a:ext cx="75960" cy="74520"/>
          </a:xfrm>
          <a:custGeom>
            <a:avLst/>
            <a:gdLst>
              <a:gd name="textAreaLeft" fmla="*/ 4680 w 75960"/>
              <a:gd name="textAreaRight" fmla="*/ 71280 w 75960"/>
              <a:gd name="textAreaTop" fmla="*/ 4680 h 74520"/>
              <a:gd name="textAreaBottom" fmla="*/ 69840 h 74520"/>
            </a:gdLst>
            <a:ahLst/>
            <a:rect l="textAreaLeft" t="textAreaTop" r="textAreaRight" b="textAreaBottom"/>
            <a:pathLst>
              <a:path w="22015" h="21600">
                <a:moveTo>
                  <a:pt x="0" y="0"/>
                </a:moveTo>
                <a:lnTo>
                  <a:pt x="22015" y="0"/>
                </a:lnTo>
                <a:lnTo>
                  <a:pt x="22015" y="21600"/>
                </a:lnTo>
                <a:lnTo>
                  <a:pt x="0" y="21600"/>
                </a:lnTo>
                <a:close/>
              </a:path>
              <a:path fill="lightenLess" w="22015" h="21600">
                <a:moveTo>
                  <a:pt x="0" y="0"/>
                </a:moveTo>
                <a:lnTo>
                  <a:pt x="22015" y="0"/>
                </a:lnTo>
                <a:lnTo>
                  <a:pt x="20615" y="1400"/>
                </a:lnTo>
                <a:lnTo>
                  <a:pt x="1400" y="1400"/>
                </a:lnTo>
                <a:close/>
              </a:path>
              <a:path fill="darken" w="22015" h="21600">
                <a:moveTo>
                  <a:pt x="22015" y="0"/>
                </a:moveTo>
                <a:lnTo>
                  <a:pt x="22015" y="21600"/>
                </a:lnTo>
                <a:lnTo>
                  <a:pt x="20615" y="20200"/>
                </a:lnTo>
                <a:lnTo>
                  <a:pt x="20615" y="1400"/>
                </a:lnTo>
                <a:close/>
              </a:path>
              <a:path fill="darkenLess" w="22015" h="21600">
                <a:moveTo>
                  <a:pt x="22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615" y="20200"/>
                </a:lnTo>
                <a:close/>
              </a:path>
              <a:path fill="lighten" w="22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015" h="21600">
                <a:moveTo>
                  <a:pt x="4001" y="3794"/>
                </a:moveTo>
                <a:lnTo>
                  <a:pt x="18014" y="10800"/>
                </a:lnTo>
                <a:lnTo>
                  <a:pt x="4001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6732720" y="42210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视频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447560" y="1219320"/>
            <a:ext cx="7467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判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经常参加体育锻炼能使人体质好，有益于身体健康成长。（   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保持正确的坐、立、走姿势，可以保证我们的身体健康发育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选择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呼吸系统包括（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口腔、食管、胃、小、大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腔、气管、支气管、肺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脏、血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消化系统是由（    ）组成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口腔、食管、胃、小肠、大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、关节、肌肉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脏、血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3329280" y="1828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3862800" y="2514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4193280" y="4191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4277880" y="312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447560" y="1219320"/>
            <a:ext cx="7467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一）判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经常参加体育锻炼能使人体质好，有益于身体健康成长。（  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保持正确的坐、立、走姿势，可以保证我们的身体健康发育。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人的一切活动都是身体各器官的单一工作才能完成。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889600" y="227664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宋体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897600" y="328608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宋体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5196960" y="43657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宋体"/>
                <a:ea typeface="宋体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523880" y="1294920"/>
            <a:ext cx="7297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黑体"/>
              </a:rPr>
              <a:t>二、你有哪些呵护自己身体的好行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1619280" y="2637000"/>
            <a:ext cx="662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宋体"/>
                <a:ea typeface="宋体"/>
              </a:rPr>
              <a:t>答：</a:t>
            </a:r>
            <a:r>
              <a:rPr b="1" lang="en-US" sz="4000" spc="-1" strike="noStrike">
                <a:solidFill>
                  <a:srgbClr val="ff33cc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ff33cc"/>
                </a:solidFill>
                <a:latin typeface="宋体"/>
                <a:ea typeface="宋体"/>
              </a:rPr>
              <a:t>、早睡早起；</a:t>
            </a:r>
            <a:r>
              <a:rPr b="1" lang="en-US" sz="4000" spc="-1" strike="noStrike">
                <a:solidFill>
                  <a:srgbClr val="ff33cc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ff33cc"/>
                </a:solidFill>
                <a:latin typeface="宋体"/>
                <a:ea typeface="宋体"/>
              </a:rPr>
              <a:t>、积极参加体育运动；</a:t>
            </a:r>
            <a:r>
              <a:rPr b="1" lang="en-US" sz="4000" spc="-1" strike="noStrike">
                <a:solidFill>
                  <a:srgbClr val="ff33cc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ff33cc"/>
                </a:solidFill>
                <a:latin typeface="宋体"/>
                <a:ea typeface="宋体"/>
              </a:rPr>
              <a:t>、睡前不吃零食，早晚刷牙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4">
            <a:hlinkClick r:id="rId1" action="ppaction://hlinksldjump"/>
          </p:cNvPr>
          <p:cNvSpPr/>
          <p:nvPr/>
        </p:nvSpPr>
        <p:spPr>
          <a:xfrm>
            <a:off x="7596360" y="573408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3824" y="10800"/>
                </a:moveTo>
                <a:lnTo>
                  <a:pt x="17837" y="3794"/>
                </a:lnTo>
                <a:lnTo>
                  <a:pt x="178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7AAF-726E-4717-A803-2772163F218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0T17:48:4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3:27Z</dcterms:modified>
  <cp:revision>24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