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A9B-A63E-48EB-80FF-C8FA197D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D1A-3EDB-44DD-9B83-1A98ABE2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09D-7455-42AB-81EB-ED138A2E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62E-5A1C-4A2A-8C1E-4F042A74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F42-0743-4040-BA06-4A343324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F13-1F92-4B20-9898-4527541C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06D-215F-4E3A-8243-E2FCCB5B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9F9-88FD-451B-9455-D21715FB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738-F469-41A3-80B5-65C17117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A3D-B300-47E5-87D3-82C0FBCC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1A0-7325-40D9-AA6B-075371AF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49F-325C-49D7-B656-44F70378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3772-6C71-41CB-A29B-CB5AB7946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462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3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小数的乘法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BD05617_"/>
          <p:cNvPicPr/>
          <p:nvPr/>
        </p:nvPicPr>
        <p:blipFill>
          <a:blip r:embed="rId2"/>
          <a:stretch/>
        </p:blipFill>
        <p:spPr>
          <a:xfrm>
            <a:off x="6415200" y="4076640"/>
            <a:ext cx="2097000" cy="190512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265680" y="61848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BDDA-764C-40A8-9FA9-D0119C0634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281160" y="4129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数的乘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小数乘以整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一个数乘以小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积的近似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连乘、乘加、乘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1"/>
          <p:cNvSpPr/>
          <p:nvPr/>
        </p:nvSpPr>
        <p:spPr>
          <a:xfrm>
            <a:off x="281160" y="6095880"/>
            <a:ext cx="66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457200" y="5335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609480"/>
          <a:ext cx="6095880" cy="22953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因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3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3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3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因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r>
                        <a:rPr b="0" lang="en-US" sz="3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r>
                        <a:rPr b="0" lang="en-US" sz="3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r>
                        <a:rPr b="0" lang="en-US" sz="3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34"/>
          <p:cNvSpPr/>
          <p:nvPr/>
        </p:nvSpPr>
        <p:spPr>
          <a:xfrm>
            <a:off x="1219320" y="41148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一个因数不变，另一个因数扩大（或缩小）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倍、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倍、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倍，积也扩大（或缩小）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倍、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倍、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5"/>
          <p:cNvSpPr/>
          <p:nvPr/>
        </p:nvSpPr>
        <p:spPr>
          <a:xfrm>
            <a:off x="1523880" y="3429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仔细观察，看能得出什么结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990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×5=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98560" y="1793880"/>
            <a:ext cx="93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2819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90720" y="28494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562720" y="18288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121360" y="285444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715000" y="2895480"/>
            <a:ext cx="10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>
            <a:off x="2362320" y="21337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362320" y="3200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3235680" y="1600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缩小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876920" y="914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×5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3235680" y="26668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缩小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867280" y="914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2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299160" y="37749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6324480" y="4419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45×5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4419720" y="4419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0×5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24382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45×5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838080" y="4419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5×5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889920" y="514656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×2=       2.3 ×2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3 ×2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23 ×2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349200" y="5659560"/>
            <a:ext cx="80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数的小数位数和积的小数位数有什么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762120" y="990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×5=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200400" y="990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×0.5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638680" y="990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×0.05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98560" y="1793880"/>
            <a:ext cx="93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457200" y="2819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990720" y="28494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429000" y="175248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9"/>
          <p:cNvSpPr/>
          <p:nvPr/>
        </p:nvSpPr>
        <p:spPr>
          <a:xfrm>
            <a:off x="3124080" y="277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520800" y="28083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019920" y="17524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 0.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5943600" y="277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324120" y="281952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2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2133720" y="205740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168640" y="1573200"/>
            <a:ext cx="10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</a:rPr>
              <a:t>缩小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2133720" y="259092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149560" y="2133720"/>
            <a:ext cx="10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</a:rPr>
              <a:t>缩小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2149200" y="28195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</a:rPr>
              <a:t>缩小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4876920" y="2617920"/>
            <a:ext cx="99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4892760" y="2133720"/>
            <a:ext cx="10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</a:rPr>
              <a:t>缩小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2"/>
          <p:cNvSpPr/>
          <p:nvPr/>
        </p:nvSpPr>
        <p:spPr>
          <a:xfrm>
            <a:off x="4876920" y="3227400"/>
            <a:ext cx="99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4892760" y="2743200"/>
            <a:ext cx="10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</a:rPr>
              <a:t>缩小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4"/>
          <p:cNvSpPr/>
          <p:nvPr/>
        </p:nvSpPr>
        <p:spPr>
          <a:xfrm>
            <a:off x="2057400" y="320040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504000" y="39625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762120" y="46800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3 ×0.2=           2.3 × 0.02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3 ×0.02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3 ×0.02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0.023 ×0.2=            0.023 ×0.02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349200" y="5659560"/>
            <a:ext cx="80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数的小数位数和积的小数位数有什么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57200" y="914400"/>
            <a:ext cx="78645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小数乘法的计算法则</a:t>
            </a:r>
            <a:r>
              <a:rPr b="0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90720" y="23623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仿宋_GB2312"/>
                <a:ea typeface="仿宋_GB2312"/>
              </a:rPr>
              <a:t>   </a:t>
            </a:r>
            <a:r>
              <a:rPr b="0" lang="zh-CN" sz="4000" spc="-1" strike="noStrike" u="sng">
                <a:solidFill>
                  <a:srgbClr val="9933ff"/>
                </a:solidFill>
                <a:uFillTx/>
                <a:latin typeface="仿宋_GB2312"/>
                <a:ea typeface="仿宋_GB2312"/>
              </a:rPr>
              <a:t>先按照整数乘法的法则算出积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仿宋_GB2312"/>
                <a:ea typeface="仿宋_GB2312"/>
              </a:rPr>
              <a:t>,</a:t>
            </a:r>
            <a:r>
              <a:rPr b="0" lang="zh-CN" sz="4000" spc="-1" strike="noStrike" u="sng">
                <a:solidFill>
                  <a:srgbClr val="9933ff"/>
                </a:solidFill>
                <a:uFillTx/>
                <a:latin typeface="仿宋_GB2312"/>
                <a:ea typeface="仿宋_GB2312"/>
              </a:rPr>
              <a:t>再看因数中一共有几位小数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仿宋_GB2312"/>
                <a:ea typeface="仿宋_GB2312"/>
              </a:rPr>
              <a:t>,</a:t>
            </a:r>
            <a:r>
              <a:rPr b="0" lang="zh-CN" sz="4000" spc="-1" strike="noStrike" u="sng">
                <a:solidFill>
                  <a:srgbClr val="9933ff"/>
                </a:solidFill>
                <a:uFillTx/>
                <a:latin typeface="仿宋_GB2312"/>
                <a:ea typeface="仿宋_GB2312"/>
              </a:rPr>
              <a:t>就从积的右边起数出几位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仿宋_GB2312"/>
                <a:ea typeface="仿宋_GB2312"/>
              </a:rPr>
              <a:t>,</a:t>
            </a:r>
            <a:r>
              <a:rPr b="0" lang="zh-CN" sz="4000" spc="-1" strike="noStrike" u="sng">
                <a:solidFill>
                  <a:srgbClr val="9933ff"/>
                </a:solidFill>
                <a:uFillTx/>
                <a:latin typeface="仿宋_GB2312"/>
                <a:ea typeface="仿宋_GB2312"/>
              </a:rPr>
              <a:t>点上小数点</a:t>
            </a:r>
            <a:r>
              <a:rPr b="0" lang="zh-CN" sz="4000" spc="-1" strike="noStrike">
                <a:solidFill>
                  <a:srgbClr val="9933ff"/>
                </a:solidFill>
                <a:latin typeface="仿宋_GB2312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1106280" y="75420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积的四舍五入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90720" y="152388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妈妈去瓜果市场买苹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49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千克价钱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会款多少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994760" y="255096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057400" y="36990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371600" y="4495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119320" y="4537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830600" y="4876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1371600" y="5334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722600" y="52992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.2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4267080" y="3429000"/>
            <a:ext cx="4876920" cy="1828800"/>
          </a:xfrm>
          <a:prstGeom prst="wedgeRoundRectCallout">
            <a:avLst>
              <a:gd name="adj1" fmla="val -76824"/>
              <a:gd name="adj2" fmla="val 634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际收款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常只算到“分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只要保留两位小数。千分位上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把它舍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406160" y="590868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应付菜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.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543480" y="266688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≈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5.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728720" y="4114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41360" y="38088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5720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一想下列各题的运算顺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89920" y="1413000"/>
            <a:ext cx="68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×5 × 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× 7+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× 4-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504160" y="22305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数的运算顺序与整数是一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022040" y="2840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下列各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127160" y="362268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 ×0.81+5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05 ×2.3-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784160" y="45165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数的乘法运算定律也适用于小数乘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919160" y="838080"/>
            <a:ext cx="44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面每组算式左右两边的结果相等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00680" y="2054160"/>
            <a:ext cx="38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4 ×0.2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0.2 ×0.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890720" y="31212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 × 0.25 ) ×4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○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× (0.25 × 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697040" y="415440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4+7.6) ×8.2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2.4 ×8.2+7.6 ×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457720" y="507060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用乘法运算定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使一些计算更简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06:44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41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