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E124-BF94-4F4D-9DAB-2946280B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EE5B-95C1-47A1-80C5-898CE7CA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4484-FFFD-448E-82EC-97C9F8228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9FFC-C1D2-4BE1-B972-19627A0A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E3D3-C904-43BE-ABEF-61A78C30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9237-77C8-44BE-9286-B600522D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59D4-3DE2-4C1B-983B-DB46A3A3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0F61-40A7-4FAD-848A-6414F3B7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E9C9-9215-4EC6-AB62-982CF7DD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B8BC-2923-4A25-9C40-940EB7AE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626C-A570-4E2C-8963-E9E4430C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5D24-F1AF-4977-BE7D-DA2EA967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76BB-DA84-456D-811F-028C4FD86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692360" y="4365720"/>
            <a:ext cx="56181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968400" y="1484280"/>
            <a:ext cx="6985080" cy="2551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用多种方法解答小数加减法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125800" y="414972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八册教材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2399400" y="595008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FAA0-4658-4FBD-91E4-C9D9A2A63F1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250920" y="333360"/>
            <a:ext cx="835344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看谁算得又对又快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.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7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5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6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.28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.54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＝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4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.9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.1-3.5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＝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-2.7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95280" y="404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环城自行车赛各赛段资料一览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3880" y="1397160"/>
          <a:ext cx="6095880" cy="406368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赛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里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千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总里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3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95280" y="40464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今天第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赛段的比赛已经结束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要完成比赛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自行车运动员还要骑多少千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试一试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有几种方法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042920" y="2014560"/>
            <a:ext cx="7128000" cy="49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83.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9.5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8.8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519120" y="3789360"/>
            <a:ext cx="415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83.4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8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540360" y="4581360"/>
            <a:ext cx="199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45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749520" y="2492280"/>
            <a:ext cx="433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﹦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45.7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＋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99.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765720" y="3500280"/>
            <a:ext cx="23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﹦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 45.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00000" y="189000"/>
            <a:ext cx="68421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方法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65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80.7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99.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971640" y="620640"/>
            <a:ext cx="6264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方法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83.4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9.8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98.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755640" y="2781360"/>
            <a:ext cx="58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﹦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43.9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98.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68360" y="3933720"/>
            <a:ext cx="387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826920" y="4076640"/>
            <a:ext cx="40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﹦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45.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332000" y="1052640"/>
            <a:ext cx="56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9"/>
          <p:cNvSpPr txBox="1"/>
          <p:nvPr/>
        </p:nvSpPr>
        <p:spPr>
          <a:xfrm>
            <a:off x="250920" y="907920"/>
            <a:ext cx="8642160" cy="298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三种方法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,</a:t>
            </a: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你最喜欢哪一种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,</a:t>
            </a: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为什么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7" name="文本框 1"/>
          <p:cNvSpPr/>
          <p:nvPr/>
        </p:nvSpPr>
        <p:spPr>
          <a:xfrm>
            <a:off x="833400" y="5324400"/>
            <a:ext cx="59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39640" y="404640"/>
            <a:ext cx="8209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练一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地球表面面积是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亿平方千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其中陆地面积是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49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亿平方千米。海洋面积比陆地面积多多少亿平方千米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84360" y="1197000"/>
            <a:ext cx="48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24000" y="260280"/>
            <a:ext cx="820872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比一比：谁算得又队又快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8.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8.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.3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68.7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＋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3.8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31.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67.4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3.6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46.4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6.7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39.5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5.1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547640" y="5373720"/>
            <a:ext cx="54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你用了什么好方法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15:1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8:16Z</dcterms:modified>
  <cp:revision>2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