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5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9E5-FA2A-4CA4-A61F-DCFE9127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4D7-197F-4BA0-8D20-9E458B96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E62-B3F5-418E-A518-2989CB5A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614-A878-4BF8-9350-9422ACED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03DE-C4E7-4D8A-BF40-67F51461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266C-E49E-4B2A-91D9-5F1214B8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1105-51F6-426D-8C5B-5F070089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C992-F2A8-4127-AE88-CB0B42AE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EB96-E4A3-4A4A-A1DF-E679DDCB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8C36-5D47-41B7-986F-9163C3BD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F487-7073-4966-AA0F-CD3823E4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04F-6AD6-400A-B99F-4C6381A9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B341-7E03-498B-9C86-595C54D4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00B5-765F-4996-8F84-D27C717F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3E09-C135-495C-9571-88435DFE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D6C0-8D9A-48E9-9790-111E653E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17D0-8DB7-43C7-A81A-A3625B9E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135B6-9EE4-4024-837F-7665352B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273C9-FBA7-42F1-B547-3E226798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AF373-DAF8-4E07-A991-DE4227CA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F1256-EF87-411C-BB4F-A461CD8D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FF6FC-18FF-4E2E-BEEF-6DA2426E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D6C-DF7A-4CE4-A157-1EDCA894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E01E7-8981-40E3-9D45-10B50DCE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EE5D1-96FF-42F5-BFA9-FA48F111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C137F-5789-430D-91A7-AE12A1A4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28E2A-1E38-499E-92BB-48E3EFB2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5EB6C-539D-4525-9F0C-FB3CE3B2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3F957-D71A-480F-AE16-1946886B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BD809-BB61-4F76-BA83-9866342A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D0C-403F-4BE3-87C1-B7F170E4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465F-3B90-450E-A13C-61E3A49B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A7D-C9DF-4A93-A3BF-5F224A6C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B6A-3ACB-4185-BD06-2F0A9AC4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0D85-ED79-4D87-B160-EFA03AB9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5832-7DA0-4360-962C-16C71A6C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8ADE-362D-445C-BE05-E2C8793041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C21F-DA7F-403C-A1A9-535DF1CDB3A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42C2-DE2E-404F-8BF8-FC31C85E97E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3.jpe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5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www.1ppt.com/sucai/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12"/>
              </a:rPr>
              <a:t>www.1ppt.com/ziliao/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" descr="FR_051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3"/>
          <p:cNvGrpSpPr/>
          <p:nvPr/>
        </p:nvGrpSpPr>
        <p:grpSpPr>
          <a:xfrm>
            <a:off x="4038480" y="2666880"/>
            <a:ext cx="1425240" cy="2217600"/>
            <a:chOff x="4038480" y="2666880"/>
            <a:chExt cx="1425240" cy="2217600"/>
          </a:xfrm>
        </p:grpSpPr>
        <p:sp>
          <p:nvSpPr>
            <p:cNvPr id="126" name="WordArt 4"/>
            <p:cNvSpPr txBox="1"/>
            <p:nvPr/>
          </p:nvSpPr>
          <p:spPr>
            <a:xfrm>
              <a:off x="4038480" y="3660480"/>
              <a:ext cx="130500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宋体"/>
                </a:rPr>
                <a:t>找</a:t>
              </a:r>
              <a:endParaRPr b="1" lang="en-US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  <p:sp>
          <p:nvSpPr>
            <p:cNvPr id="127" name="Text Box 5"/>
            <p:cNvSpPr/>
            <p:nvPr/>
          </p:nvSpPr>
          <p:spPr>
            <a:xfrm>
              <a:off x="4266360" y="2666880"/>
              <a:ext cx="1197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zhǎo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Group 6"/>
          <p:cNvGrpSpPr/>
          <p:nvPr/>
        </p:nvGrpSpPr>
        <p:grpSpPr>
          <a:xfrm>
            <a:off x="1371600" y="1676520"/>
            <a:ext cx="2286000" cy="3822120"/>
            <a:chOff x="1371600" y="1676520"/>
            <a:chExt cx="2286000" cy="3822120"/>
          </a:xfrm>
        </p:grpSpPr>
        <p:pic>
          <p:nvPicPr>
            <p:cNvPr id="129" name="Picture 7" descr="333"/>
            <p:cNvPicPr/>
            <p:nvPr/>
          </p:nvPicPr>
          <p:blipFill>
            <a:blip r:embed="rId16"/>
            <a:stretch/>
          </p:blipFill>
          <p:spPr>
            <a:xfrm>
              <a:off x="1371600" y="2742840"/>
              <a:ext cx="2286000" cy="27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WordArt 8"/>
            <p:cNvSpPr txBox="1"/>
            <p:nvPr/>
          </p:nvSpPr>
          <p:spPr>
            <a:xfrm>
              <a:off x="1828800" y="1676520"/>
              <a:ext cx="1828800" cy="83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9080">
                    <a:solidFill>
                      <a:srgbClr val="00ff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小松鼠</a:t>
              </a:r>
              <a:endParaRPr b="1" lang="en-US" sz="2400" spc="1" strike="noStrike">
                <a:ln w="19080">
                  <a:solidFill>
                    <a:srgbClr val="00ff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131" name="Group 9"/>
          <p:cNvGrpSpPr/>
          <p:nvPr/>
        </p:nvGrpSpPr>
        <p:grpSpPr>
          <a:xfrm>
            <a:off x="5581800" y="2133720"/>
            <a:ext cx="2133360" cy="3580920"/>
            <a:chOff x="5581800" y="2133720"/>
            <a:chExt cx="2133360" cy="3580920"/>
          </a:xfrm>
        </p:grpSpPr>
        <p:pic>
          <p:nvPicPr>
            <p:cNvPr id="132" name="Picture 10" descr="花生果2"/>
            <p:cNvPicPr/>
            <p:nvPr/>
          </p:nvPicPr>
          <p:blipFill>
            <a:blip r:embed="rId17"/>
            <a:stretch/>
          </p:blipFill>
          <p:spPr>
            <a:xfrm>
              <a:off x="5581800" y="3581280"/>
              <a:ext cx="21333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WordArt 11"/>
            <p:cNvSpPr txBox="1"/>
            <p:nvPr/>
          </p:nvSpPr>
          <p:spPr>
            <a:xfrm>
              <a:off x="6648120" y="2743200"/>
              <a:ext cx="790200" cy="68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宋体"/>
                </a:rPr>
                <a:t>生</a:t>
              </a:r>
              <a:endParaRPr b="1" lang="en-US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6498720" y="2133720"/>
              <a:ext cx="113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Times New Roman"/>
                </a:rPr>
                <a:t>shēnɡ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WordArt 13"/>
            <p:cNvSpPr txBox="1"/>
            <p:nvPr/>
          </p:nvSpPr>
          <p:spPr>
            <a:xfrm>
              <a:off x="5810040" y="2819160"/>
              <a:ext cx="685440" cy="68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00ffff"/>
                    </a:solidFill>
                    <a:round/>
                  </a:ln>
                  <a:solidFill>
                    <a:srgbClr val="00ffff"/>
                  </a:solidFill>
                  <a:latin typeface="宋体"/>
                </a:rPr>
                <a:t>花</a:t>
              </a:r>
              <a:endParaRPr b="1" lang="en-US" sz="2400" spc="1" strike="noStrike">
                <a:ln w="9360">
                  <a:solidFill>
                    <a:srgbClr val="00ffff"/>
                  </a:solidFill>
                  <a:round/>
                </a:ln>
                <a:solidFill>
                  <a:srgbClr val="00ffff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36" name="文本框 1"/>
          <p:cNvSpPr/>
          <p:nvPr/>
        </p:nvSpPr>
        <p:spPr>
          <a:xfrm>
            <a:off x="536400" y="6135840"/>
            <a:ext cx="56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幻灯片之家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FR_0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3"/>
          <p:cNvGrpSpPr/>
          <p:nvPr/>
        </p:nvGrpSpPr>
        <p:grpSpPr>
          <a:xfrm>
            <a:off x="3564000" y="765000"/>
            <a:ext cx="4824000" cy="3286440"/>
            <a:chOff x="3564000" y="765000"/>
            <a:chExt cx="4824000" cy="3286440"/>
          </a:xfrm>
        </p:grpSpPr>
        <p:pic>
          <p:nvPicPr>
            <p:cNvPr id="139" name="Picture 4" descr="092_JPG"/>
            <p:cNvPicPr/>
            <p:nvPr/>
          </p:nvPicPr>
          <p:blipFill>
            <a:blip r:embed="rId2"/>
            <a:stretch/>
          </p:blipFill>
          <p:spPr>
            <a:xfrm>
              <a:off x="3564000" y="765000"/>
              <a:ext cx="4824000" cy="32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5"/>
            <p:cNvSpPr/>
            <p:nvPr/>
          </p:nvSpPr>
          <p:spPr>
            <a:xfrm>
              <a:off x="4789080" y="1197000"/>
              <a:ext cx="336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Arial"/>
                  <a:ea typeface="华文楷体"/>
                </a:rPr>
                <a:t>麻房子，红帐子，里面睡个白胖子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Rectangle 6"/>
          <p:cNvSpPr/>
          <p:nvPr/>
        </p:nvSpPr>
        <p:spPr>
          <a:xfrm>
            <a:off x="1692360" y="4221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更多全套免费课件下载地址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第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网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1ppt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rt_0042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7029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806400" y="118440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华文楷体"/>
              </a:rPr>
              <a:t>找花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470400" y="118440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华文楷体"/>
              </a:rPr>
              <a:t>旁边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806400" y="269712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华文楷体"/>
              </a:rPr>
              <a:t>许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806400" y="420840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华文楷体"/>
              </a:rPr>
              <a:t>鲜艳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470400" y="4208400"/>
            <a:ext cx="33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华文楷体"/>
              </a:rPr>
              <a:t>自言自语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470400" y="269712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华文楷体"/>
              </a:rPr>
              <a:t>每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278400" y="269712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华文楷体"/>
              </a:rPr>
              <a:t>种下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6278400" y="118440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华文楷体"/>
              </a:rPr>
              <a:t>格外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042_JPG"/>
          <p:cNvPicPr/>
          <p:nvPr/>
        </p:nvPicPr>
        <p:blipFill>
          <a:blip r:embed="rId1"/>
          <a:stretch/>
        </p:blipFill>
        <p:spPr>
          <a:xfrm>
            <a:off x="0" y="9540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2195640" y="1197000"/>
            <a:ext cx="6408720" cy="49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楷体"/>
              </a:rPr>
              <a:t>小松鼠找花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楷体"/>
              </a:rPr>
              <a:t>小松鼠，找花生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楷体"/>
              </a:rPr>
              <a:t>没找到，格外急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楷体"/>
              </a:rPr>
              <a:t>花落了，果结了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楷体"/>
              </a:rPr>
              <a:t>花生呀，在哪里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文本框 1"/>
          <p:cNvSpPr/>
          <p:nvPr/>
        </p:nvSpPr>
        <p:spPr>
          <a:xfrm>
            <a:off x="1279440" y="6040440"/>
            <a:ext cx="65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更多免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尽在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http://www.eeppt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未命名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3"/>
          <p:cNvGrpSpPr/>
          <p:nvPr/>
        </p:nvGrpSpPr>
        <p:grpSpPr>
          <a:xfrm>
            <a:off x="3635280" y="0"/>
            <a:ext cx="4967280" cy="2708280"/>
            <a:chOff x="3635280" y="0"/>
            <a:chExt cx="4967280" cy="2708280"/>
          </a:xfrm>
        </p:grpSpPr>
        <p:pic>
          <p:nvPicPr>
            <p:cNvPr id="156" name="Picture 4" descr="026_JPG"/>
            <p:cNvPicPr/>
            <p:nvPr/>
          </p:nvPicPr>
          <p:blipFill>
            <a:blip r:embed="rId2"/>
            <a:stretch/>
          </p:blipFill>
          <p:spPr>
            <a:xfrm rot="5400000">
              <a:off x="4764600" y="-1129320"/>
              <a:ext cx="2708280" cy="49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WordArt 5"/>
            <p:cNvSpPr txBox="1"/>
            <p:nvPr/>
          </p:nvSpPr>
          <p:spPr>
            <a:xfrm>
              <a:off x="4502160" y="620640"/>
              <a:ext cx="3887640" cy="144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这是什么花呀？</a:t>
              </a:r>
              <a:endParaRPr b="0" lang="en-US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158" name="Group 6"/>
          <p:cNvGrpSpPr/>
          <p:nvPr/>
        </p:nvGrpSpPr>
        <p:grpSpPr>
          <a:xfrm>
            <a:off x="4140360" y="189000"/>
            <a:ext cx="4808520" cy="3095640"/>
            <a:chOff x="4140360" y="189000"/>
            <a:chExt cx="4808520" cy="3095640"/>
          </a:xfrm>
        </p:grpSpPr>
        <p:pic>
          <p:nvPicPr>
            <p:cNvPr id="159" name="Picture 7" descr="026_JPG"/>
            <p:cNvPicPr/>
            <p:nvPr/>
          </p:nvPicPr>
          <p:blipFill>
            <a:blip r:embed="rId3"/>
            <a:stretch/>
          </p:blipFill>
          <p:spPr>
            <a:xfrm>
              <a:off x="4140360" y="189000"/>
              <a:ext cx="480852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WordArt 8" descr=""/>
            <p:cNvPicPr/>
            <p:nvPr/>
          </p:nvPicPr>
          <p:blipFill>
            <a:blip r:embed="rId4"/>
            <a:stretch/>
          </p:blipFill>
          <p:spPr>
            <a:xfrm>
              <a:off x="4567320" y="660600"/>
              <a:ext cx="4186080" cy="188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Group 12"/>
          <p:cNvGrpSpPr/>
          <p:nvPr/>
        </p:nvGrpSpPr>
        <p:grpSpPr>
          <a:xfrm>
            <a:off x="2987640" y="2997360"/>
            <a:ext cx="4967280" cy="2708280"/>
            <a:chOff x="2987640" y="2997360"/>
            <a:chExt cx="4967280" cy="2708280"/>
          </a:xfrm>
        </p:grpSpPr>
        <p:pic>
          <p:nvPicPr>
            <p:cNvPr id="162" name="Picture 10" descr="026_JPG"/>
            <p:cNvPicPr/>
            <p:nvPr/>
          </p:nvPicPr>
          <p:blipFill>
            <a:blip r:embed="rId5"/>
            <a:stretch/>
          </p:blipFill>
          <p:spPr>
            <a:xfrm>
              <a:off x="2987640" y="2997360"/>
              <a:ext cx="496728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WordArt 11" descr=""/>
            <p:cNvPicPr/>
            <p:nvPr/>
          </p:nvPicPr>
          <p:blipFill>
            <a:blip r:embed="rId6"/>
            <a:stretch/>
          </p:blipFill>
          <p:spPr>
            <a:xfrm>
              <a:off x="3852720" y="3913200"/>
              <a:ext cx="3886200" cy="71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art_0042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70297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826920" y="692280"/>
            <a:ext cx="7345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楷体"/>
              </a:rPr>
              <a:t>小松鼠问鼹鼠：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楷体"/>
              </a:rPr>
              <a:t>这是什么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楷体"/>
              </a:rPr>
              <a:t>呀？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楷体"/>
              </a:rPr>
              <a:t>鼹鼠说：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楷体"/>
              </a:rPr>
              <a:t>这是花生的花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楷体"/>
              </a:rPr>
              <a:t>到了秋天，会结花生，花生可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楷体"/>
              </a:rPr>
              <a:t>吃啦！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楷体"/>
              </a:rPr>
              <a:t>小松鼠很高兴，他想：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楷体"/>
              </a:rPr>
              <a:t>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楷体"/>
              </a:rPr>
              <a:t>花结了果，我就把花生摘下来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楷体"/>
              </a:rPr>
              <a:t>留着冬天吃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EFC4-73C3-49A5-A847-8BEA4E79DD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11:46:29Z</dcterms:created>
  <dc:creator/>
  <dc:description/>
  <cp:keywords/>
  <dc:language>en-US</dc:language>
  <cp:lastModifiedBy>xinxing</cp:lastModifiedBy>
  <dcterms:modified xsi:type="dcterms:W3CDTF">2017-04-16T15:48:34Z</dcterms:modified>
  <cp:revision>1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