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84040" y="6377040"/>
            <a:ext cx="2055960" cy="243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0.png"/><Relationship Id="rId3" Type="http://schemas.openxmlformats.org/officeDocument/2006/relationships/slide" Target="slide9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5360" y="833040"/>
            <a:ext cx="4535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分类与整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90320" y="1985760"/>
            <a:ext cx="50893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象形统计图</a:t>
            </a:r>
            <a:endParaRPr b="0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79" name="Picture 5" descr="\\192.168.1.3\临时中转站1_以本人姓名建目录\开发中心-多媒体部\02美术部\晨会文件\04宁煌\人教数学教参\03.png"/>
          <p:cNvPicPr/>
          <p:nvPr/>
        </p:nvPicPr>
        <p:blipFill>
          <a:blip r:embed="rId2"/>
          <a:stretch/>
        </p:blipFill>
        <p:spPr>
          <a:xfrm>
            <a:off x="682560" y="952560"/>
            <a:ext cx="784440" cy="7840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2692440" y="6237360"/>
            <a:ext cx="39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  <a:ea typeface="楷体_GB2312"/>
              </a:rPr>
              <a:t>幻灯片之家  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  <a:ea typeface="楷体_GB2312"/>
              </a:rPr>
              <a:t>http://www.eeppt.com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600" y="4707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  <a:ea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  <a:ea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26960" y="157176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四）认识象形统计图，读图回答问题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457200" y="417600"/>
            <a:ext cx="850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分类计数，认识象形统计图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1654200" y="5373720"/>
            <a:ext cx="68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介绍：像这样画出的图，可以称为象形统计图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1654200" y="5805360"/>
            <a:ext cx="69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哪种颜色的气球最多？哪种颜色的气球最少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是怎么知道的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3" name="Picture 14" descr="27-7"/>
          <p:cNvPicPr/>
          <p:nvPr/>
        </p:nvPicPr>
        <p:blipFill>
          <a:blip r:embed="rId1"/>
          <a:stretch/>
        </p:blipFill>
        <p:spPr>
          <a:xfrm>
            <a:off x="3203640" y="2347920"/>
            <a:ext cx="2490840" cy="29527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5"/>
          <p:cNvSpPr/>
          <p:nvPr/>
        </p:nvSpPr>
        <p:spPr>
          <a:xfrm>
            <a:off x="21600" y="4707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417600"/>
            <a:ext cx="850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分类计数，认识象形统计图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6" name="Picture 11" descr="27-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40720" y="6019920"/>
            <a:ext cx="1003320" cy="520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3203640" y="605628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还可以怎样分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8" name="Picture 13" descr="94"/>
          <p:cNvPicPr/>
          <p:nvPr/>
        </p:nvPicPr>
        <p:blipFill>
          <a:blip r:embed="rId3"/>
          <a:stretch/>
        </p:blipFill>
        <p:spPr>
          <a:xfrm>
            <a:off x="826920" y="2095560"/>
            <a:ext cx="7490160" cy="39067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426960" y="157176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五）研讨其他标准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21600" y="4707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23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知识，解决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187280" y="501336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仔细观察，你看到了什么？可以怎样分类呢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187280" y="54450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完成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按水果的种类分一分，在教材上涂一涂、填一填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1892160" y="5877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按卡片的形状分一分，在教材上涂一涂、填一填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5" name="Picture 12" descr="29-1"/>
          <p:cNvPicPr/>
          <p:nvPr/>
        </p:nvPicPr>
        <p:blipFill>
          <a:blip r:embed="rId1"/>
          <a:stretch/>
        </p:blipFill>
        <p:spPr>
          <a:xfrm>
            <a:off x="826920" y="1844640"/>
            <a:ext cx="7533000" cy="25369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4"/>
          <p:cNvSpPr/>
          <p:nvPr/>
        </p:nvSpPr>
        <p:spPr>
          <a:xfrm>
            <a:off x="21600" y="4707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布置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84360" y="249228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七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七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1600" y="4707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0583-9160-47F0-8A4B-B32C67002EE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9"/>
          <p:cNvSpPr/>
          <p:nvPr/>
        </p:nvSpPr>
        <p:spPr>
          <a:xfrm>
            <a:off x="1962000" y="37893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189080" y="4942440"/>
            <a:ext cx="33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整理前的书架</a:t>
            </a:r>
            <a:endParaRPr b="1" lang="en-US" sz="2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809960" y="4928040"/>
            <a:ext cx="271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整理后的书架</a:t>
            </a:r>
            <a:endParaRPr b="1" lang="en-US" sz="2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85" name="Picture 10" descr="86"/>
          <p:cNvPicPr/>
          <p:nvPr/>
        </p:nvPicPr>
        <p:blipFill>
          <a:blip r:embed="rId1"/>
          <a:srcRect l="0" t="0" r="13768" b="222"/>
          <a:stretch/>
        </p:blipFill>
        <p:spPr>
          <a:xfrm>
            <a:off x="468360" y="1484280"/>
            <a:ext cx="4067280" cy="3527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87"/>
          <p:cNvPicPr/>
          <p:nvPr/>
        </p:nvPicPr>
        <p:blipFill>
          <a:blip r:embed="rId2"/>
          <a:srcRect l="0" t="0" r="-656" b="3879"/>
          <a:stretch/>
        </p:blipFill>
        <p:spPr>
          <a:xfrm>
            <a:off x="4211640" y="1484280"/>
            <a:ext cx="4716360" cy="33782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455760" y="415800"/>
            <a:ext cx="8362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</a:rPr>
              <a:t>一、创设情境，体会分类整理的意义</a:t>
            </a:r>
            <a:endParaRPr b="1" lang="en-US" sz="3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1258920" y="57340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如果要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夜故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你更愿意从哪个书架上找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说说你是怎么想的。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       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21600" y="4707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儿童游乐园">
            <a:hlinkClick r:id="rId1" action="ppaction://hlinksldjump"/>
          </p:cNvPr>
          <p:cNvPicPr/>
          <p:nvPr/>
        </p:nvPicPr>
        <p:blipFill>
          <a:blip r:embed="rId2"/>
          <a:srcRect l="0" t="0" r="-22" b="8076"/>
          <a:stretch/>
        </p:blipFill>
        <p:spPr>
          <a:xfrm>
            <a:off x="1474920" y="2205000"/>
            <a:ext cx="6265800" cy="4319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507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分类计数，认识象形统计图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426960" y="157176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借助情境，进行分类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21600" y="4707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0" y="6278400"/>
            <a:ext cx="70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更多免费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PPT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模板尽在：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http://www.eeppt.com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426960" y="157176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选定标准，分类计数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6" name="Picture 8" descr="94"/>
          <p:cNvPicPr/>
          <p:nvPr/>
        </p:nvPicPr>
        <p:blipFill>
          <a:blip r:embed="rId1"/>
          <a:stretch/>
        </p:blipFill>
        <p:spPr>
          <a:xfrm>
            <a:off x="826920" y="2205000"/>
            <a:ext cx="7490160" cy="39067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457200" y="417600"/>
            <a:ext cx="850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分类计数，认识象形统计图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21600" y="4707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26960" y="157176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动手操作，表示结果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0" name="Picture 9" descr="27-1-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59640" y="6021360"/>
            <a:ext cx="963360" cy="522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27-1-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40720" y="6021360"/>
            <a:ext cx="1004760" cy="522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457200" y="417600"/>
            <a:ext cx="850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分类计数，认识象形统计图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973080" y="26780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你能用自己喜欢的方法，把分类和计数的结果清楚地表示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出来吗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提示：可以画一画、写一写，也可以摆一摆。）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1600" y="4707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8"/>
          <p:cNvGrpSpPr/>
          <p:nvPr/>
        </p:nvGrpSpPr>
        <p:grpSpPr>
          <a:xfrm>
            <a:off x="252360" y="2205000"/>
            <a:ext cx="4322880" cy="2825640"/>
            <a:chOff x="252360" y="2205000"/>
            <a:chExt cx="4322880" cy="2825640"/>
          </a:xfrm>
        </p:grpSpPr>
        <p:pic>
          <p:nvPicPr>
            <p:cNvPr id="106" name="Picture 18" descr="p27_2"/>
            <p:cNvPicPr/>
            <p:nvPr/>
          </p:nvPicPr>
          <p:blipFill>
            <a:blip r:embed="rId1"/>
            <a:stretch/>
          </p:blipFill>
          <p:spPr>
            <a:xfrm>
              <a:off x="252360" y="2205000"/>
              <a:ext cx="4105440" cy="27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AutoShape 19"/>
            <p:cNvSpPr/>
            <p:nvPr/>
          </p:nvSpPr>
          <p:spPr>
            <a:xfrm>
              <a:off x="2303640" y="4221000"/>
              <a:ext cx="2271600" cy="809640"/>
            </a:xfrm>
            <a:prstGeom prst="wedgeRoundRectCallout">
              <a:avLst>
                <a:gd name="adj1" fmla="val -64393"/>
                <a:gd name="adj2" fmla="val -46666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我是这样摆的，先</a:t>
              </a:r>
              <a:endParaRPr b="1" lang="en-US" sz="16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分一分，再数一数。</a:t>
              </a:r>
              <a:endParaRPr b="1" lang="en-US" sz="16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pic>
        <p:nvPicPr>
          <p:cNvPr id="108" name="Picture 14" descr="p27_3"/>
          <p:cNvPicPr/>
          <p:nvPr/>
        </p:nvPicPr>
        <p:blipFill>
          <a:blip r:embed="rId2"/>
          <a:stretch/>
        </p:blipFill>
        <p:spPr>
          <a:xfrm>
            <a:off x="5219640" y="1884240"/>
            <a:ext cx="3240000" cy="255276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36"/>
          <p:cNvGrpSpPr/>
          <p:nvPr/>
        </p:nvGrpSpPr>
        <p:grpSpPr>
          <a:xfrm>
            <a:off x="4643280" y="4653000"/>
            <a:ext cx="4032360" cy="2087640"/>
            <a:chOff x="4643280" y="4653000"/>
            <a:chExt cx="4032360" cy="2087640"/>
          </a:xfrm>
        </p:grpSpPr>
        <p:sp>
          <p:nvSpPr>
            <p:cNvPr id="110" name="AutoShape 24"/>
            <p:cNvSpPr/>
            <p:nvPr/>
          </p:nvSpPr>
          <p:spPr>
            <a:xfrm>
              <a:off x="5364000" y="4653000"/>
              <a:ext cx="2065680" cy="504720"/>
            </a:xfrm>
            <a:prstGeom prst="wedgeRoundRectCallout">
              <a:avLst>
                <a:gd name="adj1" fmla="val -39467"/>
                <a:gd name="adj2" fmla="val 103143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我是这样表示的。</a:t>
              </a:r>
              <a:endParaRPr b="1" lang="en-US" sz="1600" spc="-1" strike="noStrike">
                <a:solidFill>
                  <a:srgbClr val="993300"/>
                </a:solidFill>
                <a:latin typeface="Arial"/>
              </a:endParaRPr>
            </a:p>
          </p:txBody>
        </p:sp>
        <p:pic>
          <p:nvPicPr>
            <p:cNvPr id="111" name="Picture 25" descr="p27_4"/>
            <p:cNvPicPr/>
            <p:nvPr/>
          </p:nvPicPr>
          <p:blipFill>
            <a:blip r:embed="rId3"/>
            <a:stretch/>
          </p:blipFill>
          <p:spPr>
            <a:xfrm>
              <a:off x="4643280" y="5068800"/>
              <a:ext cx="4032360" cy="167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Rectangle 2"/>
          <p:cNvSpPr/>
          <p:nvPr/>
        </p:nvSpPr>
        <p:spPr>
          <a:xfrm>
            <a:off x="457200" y="417600"/>
            <a:ext cx="850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分类计数，认识象形统计图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26960" y="157176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动手操作，表示结果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684360" y="59245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还有不同的表示方法吗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5" name="Rectangle 39"/>
          <p:cNvSpPr/>
          <p:nvPr/>
        </p:nvSpPr>
        <p:spPr>
          <a:xfrm>
            <a:off x="21600" y="4707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426960" y="157176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四）认识象形统计图，读图回答问题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7" name="Picture 8" descr="p27_3"/>
          <p:cNvPicPr/>
          <p:nvPr/>
        </p:nvPicPr>
        <p:blipFill>
          <a:blip r:embed="rId1"/>
          <a:srcRect l="48566" t="3640" r="5702" b="16586"/>
          <a:stretch/>
        </p:blipFill>
        <p:spPr>
          <a:xfrm>
            <a:off x="3203640" y="2347920"/>
            <a:ext cx="2305080" cy="3168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1654200" y="5649840"/>
            <a:ext cx="68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介绍：像这样画出的图，可以称为象形统计图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654200" y="6081840"/>
            <a:ext cx="69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哪种气球最多？哪种气球最少？你是怎么知道的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457200" y="417600"/>
            <a:ext cx="850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分类计数，认识象形统计图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21600" y="4707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426960" y="157176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五）研讨其他标准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3" name="Picture 9" descr="27-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40720" y="6019920"/>
            <a:ext cx="1003320" cy="5205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457200" y="417600"/>
            <a:ext cx="850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分类计数，认识象形统计图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3203640" y="605628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还可以怎样分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6" name="Picture 13" descr="94"/>
          <p:cNvPicPr/>
          <p:nvPr/>
        </p:nvPicPr>
        <p:blipFill>
          <a:blip r:embed="rId3"/>
          <a:stretch/>
        </p:blipFill>
        <p:spPr>
          <a:xfrm>
            <a:off x="826920" y="2095560"/>
            <a:ext cx="7490160" cy="39067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5"/>
          <p:cNvSpPr/>
          <p:nvPr/>
        </p:nvSpPr>
        <p:spPr>
          <a:xfrm>
            <a:off x="21600" y="4707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0" descr="27-6"/>
          <p:cNvPicPr/>
          <p:nvPr/>
        </p:nvPicPr>
        <p:blipFill>
          <a:blip r:embed="rId1"/>
          <a:stretch/>
        </p:blipFill>
        <p:spPr>
          <a:xfrm>
            <a:off x="5148360" y="1792440"/>
            <a:ext cx="3357360" cy="2644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>
            <a:off x="426960" y="157176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动手操作，分类表示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30" name="Group 72"/>
          <p:cNvGrpSpPr/>
          <p:nvPr/>
        </p:nvGrpSpPr>
        <p:grpSpPr>
          <a:xfrm>
            <a:off x="4572000" y="4660920"/>
            <a:ext cx="4249800" cy="1936800"/>
            <a:chOff x="4572000" y="4660920"/>
            <a:chExt cx="4249800" cy="1936800"/>
          </a:xfrm>
        </p:grpSpPr>
        <p:pic>
          <p:nvPicPr>
            <p:cNvPr id="131" name="Picture 66" descr="27-4"/>
            <p:cNvPicPr/>
            <p:nvPr/>
          </p:nvPicPr>
          <p:blipFill>
            <a:blip r:embed="rId2"/>
            <a:stretch/>
          </p:blipFill>
          <p:spPr>
            <a:xfrm>
              <a:off x="4572000" y="5021280"/>
              <a:ext cx="4249800" cy="15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AutoShape 51"/>
            <p:cNvSpPr/>
            <p:nvPr/>
          </p:nvSpPr>
          <p:spPr>
            <a:xfrm>
              <a:off x="5364000" y="4660920"/>
              <a:ext cx="1989360" cy="504720"/>
            </a:xfrm>
            <a:prstGeom prst="wedgeRoundRectCallout">
              <a:avLst>
                <a:gd name="adj1" fmla="val -42657"/>
                <a:gd name="adj2" fmla="val 102199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我是这样表示的。</a:t>
              </a:r>
              <a:endParaRPr b="1" lang="en-US" sz="16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grpSp>
        <p:nvGrpSpPr>
          <p:cNvPr id="133" name="Group 73"/>
          <p:cNvGrpSpPr/>
          <p:nvPr/>
        </p:nvGrpSpPr>
        <p:grpSpPr>
          <a:xfrm>
            <a:off x="755640" y="2421000"/>
            <a:ext cx="3592440" cy="3106800"/>
            <a:chOff x="755640" y="2421000"/>
            <a:chExt cx="3592440" cy="3106800"/>
          </a:xfrm>
        </p:grpSpPr>
        <p:pic>
          <p:nvPicPr>
            <p:cNvPr id="134" name="Picture 58" descr=""/>
            <p:cNvPicPr/>
            <p:nvPr/>
          </p:nvPicPr>
          <p:blipFill>
            <a:blip r:embed="rId3"/>
            <a:stretch/>
          </p:blipFill>
          <p:spPr>
            <a:xfrm>
              <a:off x="755640" y="2421000"/>
              <a:ext cx="3095640" cy="29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AutoShape 59"/>
            <p:cNvSpPr/>
            <p:nvPr/>
          </p:nvSpPr>
          <p:spPr>
            <a:xfrm>
              <a:off x="2122560" y="4724280"/>
              <a:ext cx="2225520" cy="803520"/>
            </a:xfrm>
            <a:prstGeom prst="wedgeRoundRectCallout">
              <a:avLst>
                <a:gd name="adj1" fmla="val -40157"/>
                <a:gd name="adj2" fmla="val -74902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我是这样摆的，先</a:t>
              </a:r>
              <a:endParaRPr b="1" lang="en-US" sz="16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分一分，再数一数。</a:t>
              </a:r>
              <a:endParaRPr b="1" lang="en-US" sz="16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sp>
        <p:nvSpPr>
          <p:cNvPr id="136" name="Rectangle 2"/>
          <p:cNvSpPr/>
          <p:nvPr/>
        </p:nvSpPr>
        <p:spPr>
          <a:xfrm>
            <a:off x="457200" y="417600"/>
            <a:ext cx="8507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分类计数，认识象形统计图</a:t>
            </a:r>
            <a:endParaRPr b="1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7" name="Rectangle 69"/>
          <p:cNvSpPr/>
          <p:nvPr/>
        </p:nvSpPr>
        <p:spPr>
          <a:xfrm>
            <a:off x="684360" y="59961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还有不同的表示方法吗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8" name="Rectangle 74"/>
          <p:cNvSpPr/>
          <p:nvPr/>
        </p:nvSpPr>
        <p:spPr>
          <a:xfrm>
            <a:off x="21600" y="4707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0:26Z</dcterms:modified>
  <cp:revision>49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