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FC22-95ED-4C74-A526-A058A0ED69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4EE8-525D-49E6-A134-0B9B07E94A66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550800" y="2060640"/>
            <a:ext cx="55785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商（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除法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75564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886920" y="60213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比较选择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9" name="组合 10"/>
          <p:cNvGrpSpPr/>
          <p:nvPr/>
        </p:nvGrpSpPr>
        <p:grpSpPr>
          <a:xfrm>
            <a:off x="1500120" y="3119400"/>
            <a:ext cx="6462720" cy="2757600"/>
            <a:chOff x="1500120" y="3119400"/>
            <a:chExt cx="6462720" cy="2757600"/>
          </a:xfrm>
        </p:grpSpPr>
        <p:sp>
          <p:nvSpPr>
            <p:cNvPr id="260" name="圆角矩形 8"/>
            <p:cNvSpPr/>
            <p:nvPr/>
          </p:nvSpPr>
          <p:spPr>
            <a:xfrm>
              <a:off x="1500120" y="3119400"/>
              <a:ext cx="6462720" cy="2757600"/>
            </a:xfrm>
            <a:prstGeom prst="roundRect">
              <a:avLst>
                <a:gd name="adj" fmla="val 6102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1" name="圆角矩形 9"/>
            <p:cNvSpPr/>
            <p:nvPr/>
          </p:nvSpPr>
          <p:spPr>
            <a:xfrm>
              <a:off x="1641240" y="3228840"/>
              <a:ext cx="6188400" cy="2543400"/>
            </a:xfrm>
            <a:prstGeom prst="roundRect">
              <a:avLst>
                <a:gd name="adj" fmla="val 6102"/>
              </a:avLst>
            </a:prstGeom>
            <a:solidFill>
              <a:srgbClr val="ffffff"/>
            </a:solidFill>
            <a:ln w="2556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2" name="矩形 5"/>
          <p:cNvSpPr/>
          <p:nvPr/>
        </p:nvSpPr>
        <p:spPr>
          <a:xfrm>
            <a:off x="1852560" y="3257640"/>
            <a:ext cx="56278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÷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÷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÷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÷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÷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÷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÷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÷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1187280" y="609408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问题：知道老师为什么算得快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椭圆 11"/>
          <p:cNvSpPr/>
          <p:nvPr/>
        </p:nvSpPr>
        <p:spPr>
          <a:xfrm>
            <a:off x="6315120" y="5973840"/>
            <a:ext cx="1724040" cy="69516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6351480" y="60818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用乘法口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6" name="Group 19"/>
          <p:cNvGrpSpPr/>
          <p:nvPr/>
        </p:nvGrpSpPr>
        <p:grpSpPr>
          <a:xfrm>
            <a:off x="108000" y="1965240"/>
            <a:ext cx="6316560" cy="1824120"/>
            <a:chOff x="108000" y="1965240"/>
            <a:chExt cx="6316560" cy="1824120"/>
          </a:xfrm>
        </p:grpSpPr>
        <p:pic>
          <p:nvPicPr>
            <p:cNvPr id="267" name="Picture 4" descr="女孩"/>
            <p:cNvPicPr/>
            <p:nvPr/>
          </p:nvPicPr>
          <p:blipFill>
            <a:blip r:embed="rId1"/>
            <a:stretch/>
          </p:blipFill>
          <p:spPr>
            <a:xfrm>
              <a:off x="108000" y="1965240"/>
              <a:ext cx="139068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utoShape 27"/>
            <p:cNvSpPr/>
            <p:nvPr/>
          </p:nvSpPr>
          <p:spPr>
            <a:xfrm>
              <a:off x="1692360" y="2133720"/>
              <a:ext cx="4732200" cy="891000"/>
            </a:xfrm>
            <a:prstGeom prst="wedgeRoundRectCallout">
              <a:avLst>
                <a:gd name="adj1" fmla="val -57375"/>
                <a:gd name="adj2" fmla="val 2325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请你计算下面各题，我们来比一比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看谁算得又快又对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9" name="Rectangle 20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分层练习，巩固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512640" y="1773360"/>
            <a:ext cx="487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用自己喜欢的方法计算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1450800" y="2924280"/>
            <a:ext cx="1269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÷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723480" y="2924280"/>
            <a:ext cx="107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÷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5775840" y="2924280"/>
            <a:ext cx="1269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÷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1654560" y="3967200"/>
            <a:ext cx="107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÷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3723480" y="3967200"/>
            <a:ext cx="107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÷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5776560" y="3967200"/>
            <a:ext cx="1269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÷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2786400" y="2935440"/>
            <a:ext cx="37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4875480" y="2935440"/>
            <a:ext cx="37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104240" y="2935440"/>
            <a:ext cx="37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2786400" y="3960720"/>
            <a:ext cx="37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4875480" y="3962520"/>
            <a:ext cx="37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7104240" y="3960720"/>
            <a:ext cx="37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7083360" y="4078440"/>
            <a:ext cx="43200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7074000" y="305280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4849920" y="407844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4844880" y="3052800"/>
            <a:ext cx="43200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2771640" y="4078440"/>
            <a:ext cx="43200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2771640" y="3052800"/>
            <a:ext cx="43200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分层练习，巩固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762280" y="3635280"/>
            <a:ext cx="1847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÷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4038840" y="3635280"/>
            <a:ext cx="37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4" name="Group 14"/>
          <p:cNvGrpSpPr/>
          <p:nvPr/>
        </p:nvGrpSpPr>
        <p:grpSpPr>
          <a:xfrm>
            <a:off x="1619280" y="1484280"/>
            <a:ext cx="6626160" cy="3384720"/>
            <a:chOff x="1619280" y="1484280"/>
            <a:chExt cx="6626160" cy="3384720"/>
          </a:xfrm>
        </p:grpSpPr>
        <p:pic>
          <p:nvPicPr>
            <p:cNvPr id="295" name="Picture 11" descr="未标题-27"/>
            <p:cNvPicPr/>
            <p:nvPr/>
          </p:nvPicPr>
          <p:blipFill>
            <a:blip r:embed="rId1"/>
            <a:srcRect l="71696" t="0" r="0" b="-1230"/>
            <a:stretch/>
          </p:blipFill>
          <p:spPr>
            <a:xfrm>
              <a:off x="6084720" y="1484280"/>
              <a:ext cx="2160720" cy="33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2" descr="未标题-27"/>
            <p:cNvPicPr/>
            <p:nvPr/>
          </p:nvPicPr>
          <p:blipFill>
            <a:blip r:embed="rId2"/>
            <a:srcRect l="0" t="25277" r="40917" b="28363"/>
            <a:stretch/>
          </p:blipFill>
          <p:spPr>
            <a:xfrm>
              <a:off x="1619280" y="1844640"/>
              <a:ext cx="4608360" cy="15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Rectangle 9"/>
          <p:cNvSpPr/>
          <p:nvPr/>
        </p:nvSpPr>
        <p:spPr>
          <a:xfrm>
            <a:off x="4013280" y="374652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8" name="Group 18"/>
          <p:cNvGrpSpPr/>
          <p:nvPr/>
        </p:nvGrpSpPr>
        <p:grpSpPr>
          <a:xfrm>
            <a:off x="971640" y="4797360"/>
            <a:ext cx="4967280" cy="1584360"/>
            <a:chOff x="971640" y="4797360"/>
            <a:chExt cx="4967280" cy="1584360"/>
          </a:xfrm>
        </p:grpSpPr>
        <p:sp>
          <p:nvSpPr>
            <p:cNvPr id="299" name="AutoShape 27"/>
            <p:cNvSpPr/>
            <p:nvPr/>
          </p:nvSpPr>
          <p:spPr>
            <a:xfrm>
              <a:off x="2843640" y="4797360"/>
              <a:ext cx="3095280" cy="891000"/>
            </a:xfrm>
            <a:prstGeom prst="wedgeRoundRectCallout">
              <a:avLst>
                <a:gd name="adj1" fmla="val -65101"/>
                <a:gd name="adj2" fmla="val 26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根据图和算式，说一说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是怎样想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00" name="Picture 20" descr="男天使副本"/>
            <p:cNvPicPr/>
            <p:nvPr/>
          </p:nvPicPr>
          <p:blipFill>
            <a:blip r:embed="rId3"/>
            <a:stretch/>
          </p:blipFill>
          <p:spPr>
            <a:xfrm>
              <a:off x="971640" y="4967280"/>
              <a:ext cx="1524240" cy="14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Text Box 3"/>
          <p:cNvSpPr/>
          <p:nvPr/>
        </p:nvSpPr>
        <p:spPr>
          <a:xfrm>
            <a:off x="512640" y="1773360"/>
            <a:ext cx="487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2" name="Rectangle 19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1"/>
          <p:cNvGrpSpPr/>
          <p:nvPr/>
        </p:nvGrpSpPr>
        <p:grpSpPr>
          <a:xfrm>
            <a:off x="2982240" y="5200560"/>
            <a:ext cx="2527560" cy="605880"/>
            <a:chOff x="2982240" y="5200560"/>
            <a:chExt cx="2527560" cy="605880"/>
          </a:xfrm>
        </p:grpSpPr>
        <p:sp>
          <p:nvSpPr>
            <p:cNvPr id="304" name="Text Box 3"/>
            <p:cNvSpPr/>
            <p:nvPr/>
          </p:nvSpPr>
          <p:spPr>
            <a:xfrm>
              <a:off x="2982240" y="5200560"/>
              <a:ext cx="25275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</a:rPr>
                <a:t>÷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＝  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3195720" y="535464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6" name="Rectangle 9"/>
            <p:cNvSpPr/>
            <p:nvPr/>
          </p:nvSpPr>
          <p:spPr>
            <a:xfrm>
              <a:off x="4024440" y="535464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4853160" y="535464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8" name="Text Box 10"/>
          <p:cNvSpPr/>
          <p:nvPr/>
        </p:nvSpPr>
        <p:spPr>
          <a:xfrm>
            <a:off x="1127160" y="4406760"/>
            <a:ext cx="73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有（    ）棵黄瓜苗，（    ）个花盆。平均每盆种几棵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分层练习，巩固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738080" y="441648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114800" y="44164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989520" y="5229360"/>
            <a:ext cx="474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036960" y="5229360"/>
            <a:ext cx="722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4830840" y="5229360"/>
            <a:ext cx="474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15" name="Picture 13" descr="未标题-28"/>
          <p:cNvPicPr/>
          <p:nvPr/>
        </p:nvPicPr>
        <p:blipFill>
          <a:blip r:embed="rId1"/>
          <a:stretch/>
        </p:blipFill>
        <p:spPr>
          <a:xfrm>
            <a:off x="703440" y="1598760"/>
            <a:ext cx="7416720" cy="25588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512640" y="1773360"/>
            <a:ext cx="487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Rectangle 22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684360" y="2492280"/>
            <a:ext cx="82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文本框 1"/>
          <p:cNvSpPr/>
          <p:nvPr/>
        </p:nvSpPr>
        <p:spPr>
          <a:xfrm>
            <a:off x="1919160" y="5400720"/>
            <a:ext cx="74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573A-962C-4A29-9ABE-3CD20574DE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93880" y="1833480"/>
            <a:ext cx="583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填一填，并说出用哪句口诀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243800" y="2781360"/>
            <a:ext cx="637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               4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）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）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               3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）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84520" y="3011400"/>
            <a:ext cx="463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46680" y="3013200"/>
            <a:ext cx="51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247840" y="3747960"/>
            <a:ext cx="48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746680" y="3755880"/>
            <a:ext cx="530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774800" y="4464000"/>
            <a:ext cx="501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5283360" y="4473720"/>
            <a:ext cx="498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25200" y="450864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桃，每只小猴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，可以分给几只小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情境导入，审读题目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619720" y="5157720"/>
            <a:ext cx="30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题中你知道了什么？问题是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据题意，你会列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7" name="Picture 32" descr="未标题-26"/>
          <p:cNvPicPr/>
          <p:nvPr/>
        </p:nvPicPr>
        <p:blipFill>
          <a:blip r:embed="rId1"/>
          <a:stretch/>
        </p:blipFill>
        <p:spPr>
          <a:xfrm>
            <a:off x="1619280" y="1916280"/>
            <a:ext cx="5111640" cy="23763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5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探究算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852360" y="504180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 Box 10"/>
          <p:cNvSpPr/>
          <p:nvPr/>
        </p:nvSpPr>
        <p:spPr>
          <a:xfrm rot="1202400">
            <a:off x="4726800" y="5003640"/>
            <a:ext cx="706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Oval 15">
            <a:hlinkClick r:id="rId1" action="ppaction://hlinksldjump"/>
          </p:cNvPr>
          <p:cNvSpPr/>
          <p:nvPr/>
        </p:nvSpPr>
        <p:spPr>
          <a:xfrm>
            <a:off x="1452600" y="6093000"/>
            <a:ext cx="900000" cy="3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减法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Oval 15">
            <a:hlinkClick r:id="rId2" action="ppaction://hlinksldjump"/>
          </p:cNvPr>
          <p:cNvSpPr/>
          <p:nvPr/>
        </p:nvSpPr>
        <p:spPr>
          <a:xfrm>
            <a:off x="2887560" y="6111720"/>
            <a:ext cx="900360" cy="3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加法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Oval 15">
            <a:hlinkClick r:id="rId3" action="ppaction://hlinksldjump"/>
          </p:cNvPr>
          <p:cNvSpPr/>
          <p:nvPr/>
        </p:nvSpPr>
        <p:spPr>
          <a:xfrm>
            <a:off x="4322880" y="6111720"/>
            <a:ext cx="1414440" cy="3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算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Oval 15">
            <a:hlinkClick r:id="rId4" action="ppaction://hlinksldjump"/>
          </p:cNvPr>
          <p:cNvSpPr/>
          <p:nvPr/>
        </p:nvSpPr>
        <p:spPr>
          <a:xfrm>
            <a:off x="6272280" y="6111720"/>
            <a:ext cx="1414440" cy="3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口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7" name="Group 19"/>
          <p:cNvGrpSpPr/>
          <p:nvPr/>
        </p:nvGrpSpPr>
        <p:grpSpPr>
          <a:xfrm>
            <a:off x="5580000" y="3573360"/>
            <a:ext cx="3252960" cy="2152440"/>
            <a:chOff x="5580000" y="3573360"/>
            <a:chExt cx="3252960" cy="2152440"/>
          </a:xfrm>
        </p:grpSpPr>
        <p:pic>
          <p:nvPicPr>
            <p:cNvPr id="148" name="Picture 15" descr="男天使"/>
            <p:cNvPicPr/>
            <p:nvPr/>
          </p:nvPicPr>
          <p:blipFill>
            <a:blip r:embed="rId5"/>
            <a:stretch/>
          </p:blipFill>
          <p:spPr>
            <a:xfrm>
              <a:off x="7308720" y="357336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AutoShape 27"/>
            <p:cNvSpPr/>
            <p:nvPr/>
          </p:nvSpPr>
          <p:spPr>
            <a:xfrm>
              <a:off x="5580000" y="5229360"/>
              <a:ext cx="2737080" cy="496440"/>
            </a:xfrm>
            <a:prstGeom prst="wedgeRoundRectCallout">
              <a:avLst>
                <a:gd name="adj1" fmla="val 27180"/>
                <a:gd name="adj2" fmla="val -1106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为什么列除法算式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0" name="Text Box 6"/>
          <p:cNvSpPr/>
          <p:nvPr/>
        </p:nvSpPr>
        <p:spPr>
          <a:xfrm>
            <a:off x="2725200" y="450864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桃，每只小猴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，可以分给几只小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1" name="Picture 32" descr="未标题-26"/>
          <p:cNvPicPr/>
          <p:nvPr/>
        </p:nvPicPr>
        <p:blipFill>
          <a:blip r:embed="rId6"/>
          <a:stretch/>
        </p:blipFill>
        <p:spPr>
          <a:xfrm>
            <a:off x="1619280" y="1916280"/>
            <a:ext cx="5111640" cy="2376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0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940840" y="429264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桃，每只小猴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，可以分给几只小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展示算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925080" y="468324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 Box 9"/>
          <p:cNvSpPr/>
          <p:nvPr/>
        </p:nvSpPr>
        <p:spPr>
          <a:xfrm rot="2247600">
            <a:off x="4810680" y="4667040"/>
            <a:ext cx="706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6840360" y="1440000"/>
            <a:ext cx="1765440" cy="1368360"/>
          </a:xfrm>
          <a:prstGeom prst="irregularSeal2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33cc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减法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468360" y="5186520"/>
            <a:ext cx="1522440" cy="529920"/>
          </a:xfrm>
          <a:prstGeom prst="rect">
            <a:avLst/>
          </a:prstGeom>
          <a:noFill/>
          <a:ln cap="rnd" w="1908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Rectangle 36"/>
          <p:cNvSpPr/>
          <p:nvPr/>
        </p:nvSpPr>
        <p:spPr>
          <a:xfrm>
            <a:off x="2195640" y="5186520"/>
            <a:ext cx="1522440" cy="529920"/>
          </a:xfrm>
          <a:prstGeom prst="rect">
            <a:avLst/>
          </a:prstGeom>
          <a:noFill/>
          <a:ln cap="rnd" w="1908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468360" y="5829480"/>
            <a:ext cx="1522440" cy="529920"/>
          </a:xfrm>
          <a:prstGeom prst="rect">
            <a:avLst/>
          </a:prstGeom>
          <a:noFill/>
          <a:ln cap="rnd" w="1908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2195640" y="5829480"/>
            <a:ext cx="1522440" cy="529920"/>
          </a:xfrm>
          <a:prstGeom prst="rect">
            <a:avLst/>
          </a:prstGeom>
          <a:noFill/>
          <a:ln cap="rnd" w="19080">
            <a:solidFill>
              <a:srgbClr val="00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4826160" y="468648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Oval 15">
            <a:hlinkClick r:id="rId1" action="ppaction://hlinksldjump"/>
          </p:cNvPr>
          <p:cNvSpPr/>
          <p:nvPr/>
        </p:nvSpPr>
        <p:spPr>
          <a:xfrm>
            <a:off x="8037360" y="6242040"/>
            <a:ext cx="900360" cy="3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5" name="Picture 32" descr="未标题-26"/>
          <p:cNvPicPr/>
          <p:nvPr/>
        </p:nvPicPr>
        <p:blipFill>
          <a:blip r:embed="rId2"/>
          <a:stretch/>
        </p:blipFill>
        <p:spPr>
          <a:xfrm>
            <a:off x="1619280" y="1916280"/>
            <a:ext cx="5111640" cy="237636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59"/>
          <p:cNvGrpSpPr/>
          <p:nvPr/>
        </p:nvGrpSpPr>
        <p:grpSpPr>
          <a:xfrm>
            <a:off x="461880" y="5157720"/>
            <a:ext cx="3321000" cy="1190520"/>
            <a:chOff x="461880" y="5157720"/>
            <a:chExt cx="3321000" cy="1190520"/>
          </a:xfrm>
        </p:grpSpPr>
        <p:pic>
          <p:nvPicPr>
            <p:cNvPr id="167" name="Picture 34" descr="未标题-29"/>
            <p:cNvPicPr/>
            <p:nvPr/>
          </p:nvPicPr>
          <p:blipFill>
            <a:blip r:embed="rId3"/>
            <a:srcRect l="0" t="15020" r="77858" b="17659"/>
            <a:stretch/>
          </p:blipFill>
          <p:spPr>
            <a:xfrm>
              <a:off x="461880" y="5167440"/>
              <a:ext cx="1587600" cy="5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35" descr="未标题-29"/>
            <p:cNvPicPr/>
            <p:nvPr/>
          </p:nvPicPr>
          <p:blipFill>
            <a:blip r:embed="rId4"/>
            <a:srcRect l="0" t="15020" r="77858" b="17659"/>
            <a:stretch/>
          </p:blipFill>
          <p:spPr>
            <a:xfrm>
              <a:off x="2195640" y="5157720"/>
              <a:ext cx="15872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36" descr="未标题-29"/>
            <p:cNvPicPr/>
            <p:nvPr/>
          </p:nvPicPr>
          <p:blipFill>
            <a:blip r:embed="rId5"/>
            <a:srcRect l="0" t="15020" r="77858" b="17659"/>
            <a:stretch/>
          </p:blipFill>
          <p:spPr>
            <a:xfrm>
              <a:off x="461880" y="5819760"/>
              <a:ext cx="1587600" cy="5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37" descr="未标题-29"/>
            <p:cNvPicPr/>
            <p:nvPr/>
          </p:nvPicPr>
          <p:blipFill>
            <a:blip r:embed="rId6"/>
            <a:srcRect l="0" t="15020" r="77858" b="17659"/>
            <a:stretch/>
          </p:blipFill>
          <p:spPr>
            <a:xfrm>
              <a:off x="2155680" y="5805360"/>
              <a:ext cx="1587600" cy="5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46"/>
          <p:cNvGrpSpPr/>
          <p:nvPr/>
        </p:nvGrpSpPr>
        <p:grpSpPr>
          <a:xfrm>
            <a:off x="4067280" y="5176800"/>
            <a:ext cx="1995480" cy="479520"/>
            <a:chOff x="4067280" y="5176800"/>
            <a:chExt cx="1995480" cy="479520"/>
          </a:xfrm>
        </p:grpSpPr>
        <p:pic>
          <p:nvPicPr>
            <p:cNvPr id="172" name="Picture 39" descr="未标题-30"/>
            <p:cNvPicPr/>
            <p:nvPr/>
          </p:nvPicPr>
          <p:blipFill>
            <a:blip r:embed="rId7"/>
            <a:srcRect l="23119" t="13980" r="13406" b="12884"/>
            <a:stretch/>
          </p:blipFill>
          <p:spPr>
            <a:xfrm>
              <a:off x="4067280" y="5176800"/>
              <a:ext cx="5032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21"/>
            <p:cNvSpPr/>
            <p:nvPr/>
          </p:nvSpPr>
          <p:spPr>
            <a:xfrm>
              <a:off x="4554000" y="5176800"/>
              <a:ext cx="150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4" name="Group 50"/>
          <p:cNvGrpSpPr/>
          <p:nvPr/>
        </p:nvGrpSpPr>
        <p:grpSpPr>
          <a:xfrm>
            <a:off x="6372360" y="5176800"/>
            <a:ext cx="1839960" cy="484200"/>
            <a:chOff x="6372360" y="5176800"/>
            <a:chExt cx="1839960" cy="484200"/>
          </a:xfrm>
        </p:grpSpPr>
        <p:pic>
          <p:nvPicPr>
            <p:cNvPr id="175" name="Picture 43" descr="未标题-30"/>
            <p:cNvPicPr/>
            <p:nvPr/>
          </p:nvPicPr>
          <p:blipFill>
            <a:blip r:embed="rId8"/>
            <a:srcRect l="23119" t="13980" r="13406" b="12884"/>
            <a:stretch/>
          </p:blipFill>
          <p:spPr>
            <a:xfrm>
              <a:off x="6372360" y="5181480"/>
              <a:ext cx="50292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29"/>
            <p:cNvSpPr/>
            <p:nvPr/>
          </p:nvSpPr>
          <p:spPr>
            <a:xfrm>
              <a:off x="6845040" y="5176800"/>
              <a:ext cx="13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7" name="Group 54"/>
          <p:cNvGrpSpPr/>
          <p:nvPr/>
        </p:nvGrpSpPr>
        <p:grpSpPr>
          <a:xfrm>
            <a:off x="4067280" y="5829480"/>
            <a:ext cx="2019240" cy="479160"/>
            <a:chOff x="4067280" y="5829480"/>
            <a:chExt cx="2019240" cy="479160"/>
          </a:xfrm>
        </p:grpSpPr>
        <p:pic>
          <p:nvPicPr>
            <p:cNvPr id="178" name="Picture 45" descr="未标题-30"/>
            <p:cNvPicPr/>
            <p:nvPr/>
          </p:nvPicPr>
          <p:blipFill>
            <a:blip r:embed="rId9"/>
            <a:srcRect l="23119" t="13980" r="13406" b="12884"/>
            <a:stretch/>
          </p:blipFill>
          <p:spPr>
            <a:xfrm>
              <a:off x="4067280" y="5829480"/>
              <a:ext cx="502920" cy="47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26"/>
            <p:cNvSpPr/>
            <p:nvPr/>
          </p:nvSpPr>
          <p:spPr>
            <a:xfrm>
              <a:off x="4566600" y="5829480"/>
              <a:ext cx="15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：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0" name="Group 58"/>
          <p:cNvGrpSpPr/>
          <p:nvPr/>
        </p:nvGrpSpPr>
        <p:grpSpPr>
          <a:xfrm>
            <a:off x="6372360" y="5819760"/>
            <a:ext cx="1870200" cy="484200"/>
            <a:chOff x="6372360" y="5819760"/>
            <a:chExt cx="1870200" cy="484200"/>
          </a:xfrm>
        </p:grpSpPr>
        <p:pic>
          <p:nvPicPr>
            <p:cNvPr id="181" name="Picture 44" descr="未标题-30"/>
            <p:cNvPicPr/>
            <p:nvPr/>
          </p:nvPicPr>
          <p:blipFill>
            <a:blip r:embed="rId10"/>
            <a:srcRect l="23119" t="13980" r="13406" b="12884"/>
            <a:stretch/>
          </p:blipFill>
          <p:spPr>
            <a:xfrm>
              <a:off x="6372360" y="5824440"/>
              <a:ext cx="5032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32"/>
            <p:cNvSpPr/>
            <p:nvPr/>
          </p:nvSpPr>
          <p:spPr>
            <a:xfrm>
              <a:off x="6875280" y="5819760"/>
              <a:ext cx="13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3" name="Rectangle 40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展示算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6840360" y="1440000"/>
            <a:ext cx="1764000" cy="1368360"/>
          </a:xfrm>
          <a:prstGeom prst="irregularSeal2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33cc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加法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2124000" y="614052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2827440" y="612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38"/>
          <p:cNvSpPr/>
          <p:nvPr/>
        </p:nvSpPr>
        <p:spPr>
          <a:xfrm>
            <a:off x="3395520" y="614052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 Box 39"/>
          <p:cNvSpPr/>
          <p:nvPr/>
        </p:nvSpPr>
        <p:spPr>
          <a:xfrm>
            <a:off x="4668840" y="615456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 Box 40"/>
          <p:cNvSpPr/>
          <p:nvPr/>
        </p:nvSpPr>
        <p:spPr>
          <a:xfrm>
            <a:off x="5940360" y="615456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Text Box 41"/>
          <p:cNvSpPr/>
          <p:nvPr/>
        </p:nvSpPr>
        <p:spPr>
          <a:xfrm>
            <a:off x="7214760" y="614052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 Box 42"/>
          <p:cNvSpPr/>
          <p:nvPr/>
        </p:nvSpPr>
        <p:spPr>
          <a:xfrm>
            <a:off x="4100760" y="612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 Box 43"/>
          <p:cNvSpPr/>
          <p:nvPr/>
        </p:nvSpPr>
        <p:spPr>
          <a:xfrm>
            <a:off x="5267160" y="6121440"/>
            <a:ext cx="5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 Box 44"/>
          <p:cNvSpPr/>
          <p:nvPr/>
        </p:nvSpPr>
        <p:spPr>
          <a:xfrm>
            <a:off x="6645600" y="613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6" name="Picture 26" descr="未标题-31"/>
          <p:cNvPicPr/>
          <p:nvPr/>
        </p:nvPicPr>
        <p:blipFill>
          <a:blip r:embed="rId1"/>
          <a:srcRect l="0" t="0" r="74533" b="4369"/>
          <a:stretch/>
        </p:blipFill>
        <p:spPr>
          <a:xfrm>
            <a:off x="1835280" y="5229360"/>
            <a:ext cx="1079280" cy="906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7" descr="未标题-31"/>
          <p:cNvPicPr/>
          <p:nvPr/>
        </p:nvPicPr>
        <p:blipFill>
          <a:blip r:embed="rId2"/>
          <a:srcRect l="0" t="0" r="74533" b="4369"/>
          <a:stretch/>
        </p:blipFill>
        <p:spPr>
          <a:xfrm>
            <a:off x="3106800" y="5234040"/>
            <a:ext cx="1079280" cy="906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8" descr="未标题-31"/>
          <p:cNvPicPr/>
          <p:nvPr/>
        </p:nvPicPr>
        <p:blipFill>
          <a:blip r:embed="rId3"/>
          <a:srcRect l="0" t="0" r="74533" b="4369"/>
          <a:stretch/>
        </p:blipFill>
        <p:spPr>
          <a:xfrm>
            <a:off x="4379760" y="5229360"/>
            <a:ext cx="1079640" cy="906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9" descr="未标题-31"/>
          <p:cNvPicPr/>
          <p:nvPr/>
        </p:nvPicPr>
        <p:blipFill>
          <a:blip r:embed="rId4"/>
          <a:srcRect l="0" t="0" r="74533" b="4369"/>
          <a:stretch/>
        </p:blipFill>
        <p:spPr>
          <a:xfrm>
            <a:off x="5651640" y="5216400"/>
            <a:ext cx="1079280" cy="906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2940840" y="429264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桃，每只小猴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，可以分给几只小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Oval 15">
            <a:hlinkClick r:id="rId5" action="ppaction://hlinksldjump"/>
          </p:cNvPr>
          <p:cNvSpPr/>
          <p:nvPr/>
        </p:nvSpPr>
        <p:spPr>
          <a:xfrm>
            <a:off x="8037360" y="6242040"/>
            <a:ext cx="900360" cy="3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2" name="Picture 32" descr="未标题-26"/>
          <p:cNvPicPr/>
          <p:nvPr/>
        </p:nvPicPr>
        <p:blipFill>
          <a:blip r:embed="rId6"/>
          <a:stretch/>
        </p:blipFill>
        <p:spPr>
          <a:xfrm>
            <a:off x="1619280" y="1916280"/>
            <a:ext cx="5111640" cy="2376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3925080" y="468324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 Box 9"/>
          <p:cNvSpPr/>
          <p:nvPr/>
        </p:nvSpPr>
        <p:spPr>
          <a:xfrm rot="2247600">
            <a:off x="4810680" y="4667040"/>
            <a:ext cx="706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 Box 39"/>
          <p:cNvSpPr/>
          <p:nvPr/>
        </p:nvSpPr>
        <p:spPr>
          <a:xfrm>
            <a:off x="4826160" y="468648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Rectangle 28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展示算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6840360" y="1440000"/>
            <a:ext cx="1764000" cy="1368360"/>
          </a:xfrm>
          <a:prstGeom prst="irregularSeal2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33cc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算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33"/>
          <p:cNvSpPr/>
          <p:nvPr/>
        </p:nvSpPr>
        <p:spPr>
          <a:xfrm>
            <a:off x="3851280" y="62118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1" name="Picture 18" descr="未标题-31"/>
          <p:cNvPicPr/>
          <p:nvPr/>
        </p:nvPicPr>
        <p:blipFill>
          <a:blip r:embed="rId1"/>
          <a:srcRect l="0" t="0" r="74533" b="4369"/>
          <a:stretch/>
        </p:blipFill>
        <p:spPr>
          <a:xfrm>
            <a:off x="2052720" y="5203800"/>
            <a:ext cx="1079280" cy="906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9" descr="未标题-31"/>
          <p:cNvPicPr/>
          <p:nvPr/>
        </p:nvPicPr>
        <p:blipFill>
          <a:blip r:embed="rId2"/>
          <a:srcRect l="0" t="0" r="74533" b="4369"/>
          <a:stretch/>
        </p:blipFill>
        <p:spPr>
          <a:xfrm>
            <a:off x="3348000" y="5203800"/>
            <a:ext cx="1079640" cy="906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0" descr="未标题-31"/>
          <p:cNvPicPr/>
          <p:nvPr/>
        </p:nvPicPr>
        <p:blipFill>
          <a:blip r:embed="rId3"/>
          <a:srcRect l="0" t="0" r="74533" b="4369"/>
          <a:stretch/>
        </p:blipFill>
        <p:spPr>
          <a:xfrm>
            <a:off x="4645080" y="5203800"/>
            <a:ext cx="1079280" cy="906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未标题-31"/>
          <p:cNvPicPr/>
          <p:nvPr/>
        </p:nvPicPr>
        <p:blipFill>
          <a:blip r:embed="rId4"/>
          <a:srcRect l="0" t="0" r="74533" b="4369"/>
          <a:stretch/>
        </p:blipFill>
        <p:spPr>
          <a:xfrm>
            <a:off x="5940360" y="5203800"/>
            <a:ext cx="1079640" cy="9064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2940840" y="429264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桃，每只小猴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，可以分给几只小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Oval 15">
            <a:hlinkClick r:id="rId5" action="ppaction://hlinksldjump"/>
          </p:cNvPr>
          <p:cNvSpPr/>
          <p:nvPr/>
        </p:nvSpPr>
        <p:spPr>
          <a:xfrm>
            <a:off x="8037360" y="6242040"/>
            <a:ext cx="900360" cy="3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7" name="Picture 32" descr="未标题-26"/>
          <p:cNvPicPr/>
          <p:nvPr/>
        </p:nvPicPr>
        <p:blipFill>
          <a:blip r:embed="rId6"/>
          <a:stretch/>
        </p:blipFill>
        <p:spPr>
          <a:xfrm>
            <a:off x="1619280" y="1916280"/>
            <a:ext cx="5111640" cy="2376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3925080" y="468324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 Box 9"/>
          <p:cNvSpPr/>
          <p:nvPr/>
        </p:nvSpPr>
        <p:spPr>
          <a:xfrm rot="2247600">
            <a:off x="4810680" y="4667040"/>
            <a:ext cx="706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4826160" y="468648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展示算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6840360" y="1440000"/>
            <a:ext cx="1764000" cy="1368360"/>
          </a:xfrm>
          <a:prstGeom prst="irregularSeal2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33cc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口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3284640" y="606744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三（四）十二，商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6" name="Group 25"/>
          <p:cNvGrpSpPr/>
          <p:nvPr/>
        </p:nvGrpSpPr>
        <p:grpSpPr>
          <a:xfrm>
            <a:off x="4932360" y="3716280"/>
            <a:ext cx="3971880" cy="2009520"/>
            <a:chOff x="4932360" y="3716280"/>
            <a:chExt cx="3971880" cy="2009520"/>
          </a:xfrm>
        </p:grpSpPr>
        <p:pic>
          <p:nvPicPr>
            <p:cNvPr id="227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380360" y="37162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27"/>
            <p:cNvSpPr/>
            <p:nvPr/>
          </p:nvSpPr>
          <p:spPr>
            <a:xfrm>
              <a:off x="4932360" y="5229360"/>
              <a:ext cx="3095640" cy="496440"/>
            </a:xfrm>
            <a:prstGeom prst="wedgeRoundRectCallout">
              <a:avLst>
                <a:gd name="adj1" fmla="val 39171"/>
                <a:gd name="adj2" fmla="val -9659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和几相乘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9" name="Text Box 4"/>
          <p:cNvSpPr/>
          <p:nvPr/>
        </p:nvSpPr>
        <p:spPr>
          <a:xfrm>
            <a:off x="2940840" y="429264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桃，每只小猴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，可以分给几只小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Oval 15">
            <a:hlinkClick r:id="rId2" action="ppaction://hlinksldjump"/>
          </p:cNvPr>
          <p:cNvSpPr/>
          <p:nvPr/>
        </p:nvSpPr>
        <p:spPr>
          <a:xfrm>
            <a:off x="8037360" y="6242040"/>
            <a:ext cx="900360" cy="3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1" name="Picture 32" descr="未标题-26"/>
          <p:cNvPicPr/>
          <p:nvPr/>
        </p:nvPicPr>
        <p:blipFill>
          <a:blip r:embed="rId3"/>
          <a:stretch/>
        </p:blipFill>
        <p:spPr>
          <a:xfrm>
            <a:off x="1619280" y="1916280"/>
            <a:ext cx="5111640" cy="23763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3925080" y="468324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 Box 9"/>
          <p:cNvSpPr/>
          <p:nvPr/>
        </p:nvSpPr>
        <p:spPr>
          <a:xfrm rot="2247600">
            <a:off x="4810680" y="4667040"/>
            <a:ext cx="706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4826160" y="468648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30"/>
          <p:cNvGrpSpPr/>
          <p:nvPr/>
        </p:nvGrpSpPr>
        <p:grpSpPr>
          <a:xfrm>
            <a:off x="4448160" y="0"/>
            <a:ext cx="4695840" cy="1504440"/>
            <a:chOff x="4448160" y="0"/>
            <a:chExt cx="4695840" cy="1504440"/>
          </a:xfrm>
        </p:grpSpPr>
        <p:pic>
          <p:nvPicPr>
            <p:cNvPr id="237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620120" y="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27"/>
            <p:cNvSpPr/>
            <p:nvPr/>
          </p:nvSpPr>
          <p:spPr>
            <a:xfrm>
              <a:off x="4448160" y="1008000"/>
              <a:ext cx="2954520" cy="496440"/>
            </a:xfrm>
            <a:prstGeom prst="wedgeRoundRectCallout">
              <a:avLst>
                <a:gd name="adj1" fmla="val 61583"/>
                <a:gd name="adj2" fmla="val -3797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一说你的求商方法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9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比较选择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3933000" y="480996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4788000" y="480708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210960" y="5838840"/>
            <a:ext cx="24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 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 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2730600" y="5838840"/>
            <a:ext cx="21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5045400" y="5838840"/>
            <a:ext cx="11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×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6560280" y="5838840"/>
            <a:ext cx="22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几相乘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（四）十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7" name="Group 26"/>
          <p:cNvGrpSpPr/>
          <p:nvPr/>
        </p:nvGrpSpPr>
        <p:grpSpPr>
          <a:xfrm>
            <a:off x="4162320" y="-1440"/>
            <a:ext cx="4981680" cy="2219760"/>
            <a:chOff x="4162320" y="-1440"/>
            <a:chExt cx="4981680" cy="2219760"/>
          </a:xfrm>
        </p:grpSpPr>
        <p:pic>
          <p:nvPicPr>
            <p:cNvPr id="248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620120" y="-14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AutoShape 27"/>
            <p:cNvSpPr/>
            <p:nvPr/>
          </p:nvSpPr>
          <p:spPr>
            <a:xfrm>
              <a:off x="4162320" y="932040"/>
              <a:ext cx="3353040" cy="1286280"/>
            </a:xfrm>
            <a:prstGeom prst="wedgeRoundRectCallout">
              <a:avLst>
                <a:gd name="adj1" fmla="val 57555"/>
                <a:gd name="adj2" fmla="val -387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可真聪明，想出这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么多种求商的方法，你更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喜欢哪种？说一说理由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0" name="Text Box 4"/>
          <p:cNvSpPr/>
          <p:nvPr/>
        </p:nvSpPr>
        <p:spPr>
          <a:xfrm>
            <a:off x="2940840" y="429264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桃，每只小猴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，可以分给几只小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1079640" y="5373720"/>
            <a:ext cx="900000" cy="3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减法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Oval 15"/>
          <p:cNvSpPr/>
          <p:nvPr/>
        </p:nvSpPr>
        <p:spPr>
          <a:xfrm>
            <a:off x="3324240" y="5392800"/>
            <a:ext cx="900000" cy="3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加法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Oval 15"/>
          <p:cNvSpPr/>
          <p:nvPr/>
        </p:nvSpPr>
        <p:spPr>
          <a:xfrm>
            <a:off x="4970520" y="5392800"/>
            <a:ext cx="1414440" cy="3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算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Oval 15"/>
          <p:cNvSpPr/>
          <p:nvPr/>
        </p:nvSpPr>
        <p:spPr>
          <a:xfrm>
            <a:off x="6972480" y="5392800"/>
            <a:ext cx="1414440" cy="3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口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5" name="Picture 32" descr="未标题-26"/>
          <p:cNvPicPr/>
          <p:nvPr/>
        </p:nvPicPr>
        <p:blipFill>
          <a:blip r:embed="rId3"/>
          <a:stretch/>
        </p:blipFill>
        <p:spPr>
          <a:xfrm>
            <a:off x="1619280" y="1916280"/>
            <a:ext cx="5111640" cy="23763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7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2:04Z</dcterms:modified>
  <cp:revision>39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