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1810-834C-41C4-BA34-6FE5D18E7FED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16BD-C7B9-439D-9C3F-4871E8258A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208080" y="2060640"/>
            <a:ext cx="6524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求商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除法（二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42560" y="60213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6"/>
          <p:cNvSpPr/>
          <p:nvPr/>
        </p:nvSpPr>
        <p:spPr>
          <a:xfrm>
            <a:off x="755640" y="2571840"/>
            <a:ext cx="76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四、课堂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5951-C5E6-466D-9B02-C3589F78DC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75009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导入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284720" y="48798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根据信息，你能利用手中的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具摆一摆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4313160" y="231444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谈话引入：上节课我们还有一个问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没有解决呢，让我们一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来看一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6" name="Picture 12" descr="未标题-7"/>
          <p:cNvPicPr/>
          <p:nvPr/>
        </p:nvPicPr>
        <p:blipFill>
          <a:blip r:embed="rId1"/>
          <a:srcRect l="0" t="0" r="0" b="5413"/>
          <a:stretch/>
        </p:blipFill>
        <p:spPr>
          <a:xfrm>
            <a:off x="6943680" y="3106800"/>
            <a:ext cx="1655640" cy="12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455760" y="1566720"/>
            <a:ext cx="372240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507960" y="583884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在口算这两道除法算式的时候，我们要根据算式想所对应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口诀，也就是先看除数，除数是几就想几的乘法口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507960" y="3978360"/>
            <a:ext cx="8312040" cy="425880"/>
            <a:chOff x="507960" y="3978360"/>
            <a:chExt cx="8312040" cy="425880"/>
          </a:xfrm>
        </p:grpSpPr>
        <p:sp>
          <p:nvSpPr>
            <p:cNvPr id="131" name="Text Box 5"/>
            <p:cNvSpPr/>
            <p:nvPr/>
          </p:nvSpPr>
          <p:spPr>
            <a:xfrm>
              <a:off x="507960" y="3978360"/>
              <a:ext cx="56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问题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226880" y="4005360"/>
              <a:ext cx="75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62120" indent="-762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这幅图跟你们摆的结果一样吗？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谁再来说一说你是怎么摆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24000" y="155736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（一）借助直观，自主探索用</a:t>
            </a:r>
            <a:r>
              <a:rPr b="1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1c1c1c"/>
                </a:solidFill>
                <a:latin typeface="楷体_GB2312"/>
              </a:rPr>
              <a:t>的乘法口诀求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932360" y="2373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÷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4932360" y="285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6300720" y="2354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（  ）九二十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300720" y="28335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：三（  ）二十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7083360" y="2354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227240" y="5300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们是怎么想到用这句口诀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7327800" y="2833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1227240" y="4437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看图列出两道除法算式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227240" y="486900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这两道题用的是哪句口诀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4932360" y="328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口诀：三九二十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5" name="Picture 23" descr="未标题-15"/>
          <p:cNvPicPr/>
          <p:nvPr/>
        </p:nvPicPr>
        <p:blipFill>
          <a:blip r:embed="rId1"/>
          <a:stretch/>
        </p:blipFill>
        <p:spPr>
          <a:xfrm>
            <a:off x="539640" y="2246400"/>
            <a:ext cx="4314960" cy="15732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2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347760" y="276120"/>
            <a:ext cx="8391600" cy="62866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"/>
          <p:cNvSpPr/>
          <p:nvPr/>
        </p:nvSpPr>
        <p:spPr>
          <a:xfrm>
            <a:off x="566640" y="54165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，自主探究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4000" y="1558800"/>
            <a:ext cx="799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Arial"/>
              </a:rPr>
              <a:t>（二）运用规律，练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0120" y="429264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用乘法口诀很快算出它们的得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71720" y="4724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第一组算式你用的是哪一句口诀？第二组呢？第三组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125800" y="530064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看来同一句口诀可以帮助我们口算出一道乘法算式和两道除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，口诀的作用可真大啊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2287440" y="2214720"/>
            <a:ext cx="790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287440" y="281160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287440" y="340344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005440" y="2217600"/>
            <a:ext cx="93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005440" y="281160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005440" y="340344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7667640" y="2217600"/>
            <a:ext cx="7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7667640" y="281160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7667640" y="340344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1131840" y="2811600"/>
            <a:ext cx="165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1131840" y="3403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3871800" y="281160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871800" y="3403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6507000" y="281160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6507000" y="340344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1131840" y="221472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3871800" y="221472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6507000" y="2214720"/>
            <a:ext cx="1440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8"/>
          <p:cNvSpPr/>
          <p:nvPr/>
        </p:nvSpPr>
        <p:spPr>
          <a:xfrm>
            <a:off x="6684840" y="24447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6684840" y="294804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40"/>
          <p:cNvSpPr/>
          <p:nvPr/>
        </p:nvSpPr>
        <p:spPr>
          <a:xfrm>
            <a:off x="6684840" y="34527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6684840" y="395604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34"/>
          <p:cNvSpPr/>
          <p:nvPr/>
        </p:nvSpPr>
        <p:spPr>
          <a:xfrm>
            <a:off x="3349800" y="2444760"/>
            <a:ext cx="50292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3349800" y="2948040"/>
            <a:ext cx="50292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3349800" y="3452760"/>
            <a:ext cx="50292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3349800" y="3956040"/>
            <a:ext cx="50292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1720440"/>
            <a:ext cx="25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填一填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395520" y="242100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359160" y="2928960"/>
            <a:ext cx="50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359160" y="3419640"/>
            <a:ext cx="50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359160" y="3924360"/>
            <a:ext cx="50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684840" y="242100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684840" y="290664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684840" y="341964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684840" y="391968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068480" y="4797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能很快算出它们的结果吗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542960" y="5191200"/>
            <a:ext cx="58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来汇报一下，并说说你是怎么算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068480" y="5694480"/>
            <a:ext cx="61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看来除数是几，我们就想几的乘法口诀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样就会算得又快又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1835280" y="244008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1835280" y="29433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1835280" y="344808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1835280" y="39513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2335320" y="3133800"/>
            <a:ext cx="1296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÷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42"/>
          <p:cNvSpPr/>
          <p:nvPr/>
        </p:nvSpPr>
        <p:spPr>
          <a:xfrm>
            <a:off x="5170320" y="24447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5170320" y="29433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5170320" y="344808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45"/>
          <p:cNvSpPr/>
          <p:nvPr/>
        </p:nvSpPr>
        <p:spPr>
          <a:xfrm>
            <a:off x="5170320" y="3951360"/>
            <a:ext cx="50328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5661000" y="3133800"/>
            <a:ext cx="129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÷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7" descr="未标题-16"/>
          <p:cNvPicPr/>
          <p:nvPr/>
        </p:nvPicPr>
        <p:blipFill>
          <a:blip r:embed="rId1"/>
          <a:stretch/>
        </p:blipFill>
        <p:spPr>
          <a:xfrm>
            <a:off x="3059280" y="1916280"/>
            <a:ext cx="5256000" cy="27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684360" y="1725120"/>
            <a:ext cx="28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小猴摘桃子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52520" y="47973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哪些同学先摘到了桃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58640" y="56214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都有哪些同学算对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8640" y="616572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我们在口算的时候，不仅要算得快，更要算得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458640" y="519444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愿意来汇报一下你的计算结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15" descr="男天使副本"/>
          <p:cNvPicPr/>
          <p:nvPr/>
        </p:nvPicPr>
        <p:blipFill>
          <a:blip r:embed="rId2"/>
          <a:stretch/>
        </p:blipFill>
        <p:spPr>
          <a:xfrm>
            <a:off x="390600" y="2878200"/>
            <a:ext cx="1523880" cy="14144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7"/>
          <p:cNvSpPr/>
          <p:nvPr/>
        </p:nvSpPr>
        <p:spPr>
          <a:xfrm>
            <a:off x="1547640" y="2374920"/>
            <a:ext cx="2160720" cy="863640"/>
          </a:xfrm>
          <a:prstGeom prst="wedgeRoundRectCallout">
            <a:avLst>
              <a:gd name="adj1" fmla="val -39134"/>
              <a:gd name="adj2" fmla="val 7297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同桌比赛，看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摘到桃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8"/>
          <p:cNvSpPr/>
          <p:nvPr/>
        </p:nvSpPr>
        <p:spPr>
          <a:xfrm>
            <a:off x="6659640" y="2284560"/>
            <a:ext cx="187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÷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÷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788000" y="2284560"/>
            <a:ext cx="187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÷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×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÷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843280" y="2284560"/>
            <a:ext cx="187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÷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÷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1030320" y="2284560"/>
            <a:ext cx="187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÷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÷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4360" y="1721880"/>
            <a:ext cx="41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看谁算得都对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162160" y="237348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162160" y="292572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162160" y="3465360"/>
            <a:ext cx="673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017960" y="237348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3989520" y="2925720"/>
            <a:ext cx="69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017960" y="3465360"/>
            <a:ext cx="50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915160" y="237348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915160" y="2925720"/>
            <a:ext cx="68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915160" y="34653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7923240" y="2373480"/>
            <a:ext cx="747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7923240" y="292572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7923240" y="34653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677880" y="450864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愿意来汇报一下你的计算结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77880" y="494172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哪些同学算对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　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677880" y="558972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看来我们在口算的时候，一定要认真看清每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道题的运算符号啊！只有这样才能算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4" name="Picture 29" descr="女天使"/>
          <p:cNvPicPr/>
          <p:nvPr/>
        </p:nvPicPr>
        <p:blipFill>
          <a:blip r:embed="rId1"/>
          <a:stretch/>
        </p:blipFill>
        <p:spPr>
          <a:xfrm>
            <a:off x="7380360" y="51721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27"/>
          <p:cNvSpPr/>
          <p:nvPr/>
        </p:nvSpPr>
        <p:spPr>
          <a:xfrm>
            <a:off x="6234120" y="4197240"/>
            <a:ext cx="2298600" cy="960480"/>
          </a:xfrm>
          <a:prstGeom prst="wedgeRoundRectCallout">
            <a:avLst>
              <a:gd name="adj1" fmla="val 26875"/>
              <a:gd name="adj2" fmla="val 695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赛开始！看谁算得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2" descr="u4jx02-10"/>
          <p:cNvPicPr/>
          <p:nvPr/>
        </p:nvPicPr>
        <p:blipFill>
          <a:blip r:embed="rId1"/>
          <a:stretch/>
        </p:blipFill>
        <p:spPr>
          <a:xfrm>
            <a:off x="1763640" y="2459160"/>
            <a:ext cx="540072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Line 39"/>
          <p:cNvSpPr/>
          <p:nvPr/>
        </p:nvSpPr>
        <p:spPr>
          <a:xfrm>
            <a:off x="3995640" y="2963880"/>
            <a:ext cx="2043360" cy="5889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Line 41"/>
          <p:cNvSpPr/>
          <p:nvPr/>
        </p:nvSpPr>
        <p:spPr>
          <a:xfrm flipH="1">
            <a:off x="5343120" y="2952720"/>
            <a:ext cx="104760" cy="6955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Line 43"/>
          <p:cNvSpPr/>
          <p:nvPr/>
        </p:nvSpPr>
        <p:spPr>
          <a:xfrm flipH="1">
            <a:off x="6486120" y="2948040"/>
            <a:ext cx="273240" cy="5954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84360" y="15652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请你用连一连、写一写、画一画的方法帮助每个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小动物找到自己的家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826920" y="4970520"/>
            <a:ext cx="655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你能帮助每个小动物找到自己的家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赶快动手连一连、写一写吧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　　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826920" y="576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谁来汇报一下你的结果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826920" y="620064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结：小动物们非常感谢大家帮助它们找到了自己的家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Line 38"/>
          <p:cNvSpPr/>
          <p:nvPr/>
        </p:nvSpPr>
        <p:spPr>
          <a:xfrm>
            <a:off x="2700360" y="2963880"/>
            <a:ext cx="1128600" cy="5889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2676600" y="3753000"/>
            <a:ext cx="1038240" cy="9144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3866760" y="3809880"/>
            <a:ext cx="2143080" cy="9525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Line 46"/>
          <p:cNvSpPr/>
          <p:nvPr/>
        </p:nvSpPr>
        <p:spPr>
          <a:xfrm>
            <a:off x="2736720" y="3962520"/>
            <a:ext cx="2644920" cy="8571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Line 47"/>
          <p:cNvSpPr/>
          <p:nvPr/>
        </p:nvSpPr>
        <p:spPr>
          <a:xfrm>
            <a:off x="3138480" y="3876840"/>
            <a:ext cx="3338640" cy="5997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58640" y="417600"/>
            <a:ext cx="85060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口诀，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巩固练习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440" y="57276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2:09Z</dcterms:modified>
  <cp:revision>3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