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1988-FAEE-4D6A-B709-1178B6DB5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60CC-A54D-4B64-A98C-AD6DEF79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D50-C73A-4ED1-BD99-80C83971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C4A-506E-4255-9444-DF169157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CE2-E462-4256-AFD6-109DE1F3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823-00EE-4662-89AA-A37119C4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6966-938B-41A9-8A26-974F3508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B1E1-83B1-4D28-A4B9-2DE4871F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FD78-30B9-4B7E-821C-5841C003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CCDB-FF1A-43E5-A401-9A237C96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D0E7-C53C-46B4-8A73-DF5E5F7D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49EA-0A5E-450C-AE64-D71AAF8C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38BC-F663-43DE-BC8C-C545F2D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406-9FA2-47C3-AD26-918D3A61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5FFB-DF7D-422D-AFE9-B54B221A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A2D5-4F6B-4CD2-8D2D-303FD6D3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97AD-71C2-41C4-8C7D-06FFEEA3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147F-022C-48A6-AF71-29BEF115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138F-85ED-4DBD-A250-24D19E84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6D2-203F-4449-8ACE-7B4F0D55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42E-E9EF-4E03-BCAD-039ED182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0E6-C6A2-4F62-BD4D-AACA5609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930-005E-4ECE-AC1E-B6DEA4F9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126-271E-4557-821E-0C8CDCE7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E48-8CA0-40FA-AFFE-2969A667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97C-7017-4ACC-8A26-2A44F5B4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09AB-F9B6-44F3-8920-8107630A6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8D75-C528-4053-8AA7-CD8CFD125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7"/>
          <p:cNvSpPr/>
          <p:nvPr/>
        </p:nvSpPr>
        <p:spPr>
          <a:xfrm>
            <a:off x="6804000" y="4149720"/>
            <a:ext cx="6494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765828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40000"/>
                </a:solidFill>
                <a:latin typeface="方正楷体简体"/>
                <a:ea typeface="方正楷体简体"/>
              </a:rPr>
              <a:t>《</a:t>
            </a:r>
            <a:r>
              <a:rPr b="1" lang="zh-CN" sz="11500" spc="-1" strike="noStrike">
                <a:solidFill>
                  <a:srgbClr val="e40000"/>
                </a:solidFill>
                <a:latin typeface="方正楷体简体"/>
                <a:ea typeface="方正楷体简体"/>
              </a:rPr>
              <a:t>有 的 人</a:t>
            </a:r>
            <a:r>
              <a:rPr b="1" lang="en-US" sz="11500" spc="-1" strike="noStrike">
                <a:solidFill>
                  <a:srgbClr val="e40000"/>
                </a:solidFill>
                <a:latin typeface="方正楷体简体"/>
                <a:ea typeface="方正楷体简体"/>
              </a:rPr>
              <a:t>》</a:t>
            </a:r>
            <a:endParaRPr b="0" lang="en-US" sz="115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AutoShape 4">
            <a:hlinkClick r:id="" action="ppaction://hlinkshowjump?jump=nextslide"/>
          </p:cNvPr>
          <p:cNvSpPr/>
          <p:nvPr/>
        </p:nvSpPr>
        <p:spPr>
          <a:xfrm>
            <a:off x="7020000" y="5445000"/>
            <a:ext cx="73080" cy="71640"/>
          </a:xfrm>
          <a:custGeom>
            <a:avLst/>
            <a:gdLst>
              <a:gd name="textAreaLeft" fmla="*/ 4320 w 73080"/>
              <a:gd name="textAreaRight" fmla="*/ 68760 w 730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2032" h="21600">
                <a:moveTo>
                  <a:pt x="0" y="0"/>
                </a:moveTo>
                <a:lnTo>
                  <a:pt x="22032" y="0"/>
                </a:lnTo>
                <a:lnTo>
                  <a:pt x="22032" y="21600"/>
                </a:lnTo>
                <a:lnTo>
                  <a:pt x="0" y="21600"/>
                </a:lnTo>
                <a:close/>
              </a:path>
              <a:path fill="lightenLess" w="22032" h="21600">
                <a:moveTo>
                  <a:pt x="0" y="0"/>
                </a:moveTo>
                <a:lnTo>
                  <a:pt x="22032" y="0"/>
                </a:lnTo>
                <a:lnTo>
                  <a:pt x="20632" y="1400"/>
                </a:lnTo>
                <a:lnTo>
                  <a:pt x="1400" y="1400"/>
                </a:lnTo>
                <a:close/>
              </a:path>
              <a:path fill="darken" w="22032" h="21600">
                <a:moveTo>
                  <a:pt x="22032" y="0"/>
                </a:moveTo>
                <a:lnTo>
                  <a:pt x="22032" y="21600"/>
                </a:lnTo>
                <a:lnTo>
                  <a:pt x="20632" y="20200"/>
                </a:lnTo>
                <a:lnTo>
                  <a:pt x="20632" y="1400"/>
                </a:lnTo>
                <a:close/>
              </a:path>
              <a:path fill="darkenLess" w="22032" h="21600">
                <a:moveTo>
                  <a:pt x="22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32" y="20200"/>
                </a:lnTo>
                <a:close/>
              </a:path>
              <a:path fill="lighten" w="22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32" h="21600">
                <a:moveTo>
                  <a:pt x="4010" y="3794"/>
                </a:moveTo>
                <a:lnTo>
                  <a:pt x="18022" y="10800"/>
                </a:lnTo>
                <a:lnTo>
                  <a:pt x="4010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">
            <a:hlinkClick r:id="" action="ppaction://hlinkshowjump?jump=nextslide"/>
          </p:cNvPr>
          <p:cNvSpPr/>
          <p:nvPr/>
        </p:nvSpPr>
        <p:spPr>
          <a:xfrm>
            <a:off x="6372360" y="3357720"/>
            <a:ext cx="2160360" cy="2232000"/>
          </a:xfrm>
          <a:custGeom>
            <a:avLst/>
            <a:gdLst>
              <a:gd name="textAreaLeft" fmla="*/ 140040 w 2160360"/>
              <a:gd name="textAreaRight" fmla="*/ 2020320 w 2160360"/>
              <a:gd name="textAreaTop" fmla="*/ 140040 h 2232000"/>
              <a:gd name="textAreaBottom" fmla="*/ 2091960 h 2232000"/>
            </a:gdLst>
            <a:ahLst/>
            <a:rect l="textAreaLeft" t="textAreaTop" r="textAreaRight" b="textAreaBottom"/>
            <a:pathLst>
              <a:path w="21600" h="22316">
                <a:moveTo>
                  <a:pt x="0" y="0"/>
                </a:moveTo>
                <a:lnTo>
                  <a:pt x="21600" y="0"/>
                </a:lnTo>
                <a:lnTo>
                  <a:pt x="21600" y="22316"/>
                </a:lnTo>
                <a:lnTo>
                  <a:pt x="0" y="22316"/>
                </a:lnTo>
                <a:close/>
              </a:path>
              <a:path fill="lightenLess" w="21600" h="223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16">
                <a:moveTo>
                  <a:pt x="21600" y="0"/>
                </a:moveTo>
                <a:lnTo>
                  <a:pt x="21600" y="22316"/>
                </a:lnTo>
                <a:lnTo>
                  <a:pt x="20200" y="20916"/>
                </a:lnTo>
                <a:lnTo>
                  <a:pt x="20200" y="1400"/>
                </a:lnTo>
                <a:close/>
              </a:path>
              <a:path fill="darkenLess" w="21600" h="22316">
                <a:moveTo>
                  <a:pt x="21600" y="22316"/>
                </a:moveTo>
                <a:lnTo>
                  <a:pt x="0" y="22316"/>
                </a:lnTo>
                <a:lnTo>
                  <a:pt x="1400" y="20916"/>
                </a:lnTo>
                <a:lnTo>
                  <a:pt x="20200" y="20916"/>
                </a:lnTo>
                <a:close/>
              </a:path>
              <a:path fill="lighten" w="21600" h="22316">
                <a:moveTo>
                  <a:pt x="0" y="223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16"/>
                </a:lnTo>
                <a:close/>
              </a:path>
              <a:path fill="darken" w="21600" h="22316">
                <a:moveTo>
                  <a:pt x="3794" y="4152"/>
                </a:moveTo>
                <a:lnTo>
                  <a:pt x="17806" y="11158"/>
                </a:lnTo>
                <a:lnTo>
                  <a:pt x="3794" y="18165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9"/>
          <p:cNvSpPr/>
          <p:nvPr/>
        </p:nvSpPr>
        <p:spPr>
          <a:xfrm>
            <a:off x="232632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7487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 的 人 活 着     他 已 经 死 了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 的 人 死 了     他 还 活 着。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的人   骑在人民头上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楷体简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啊，我多伟大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楷体简体"/>
              </a:rPr>
              <a:t>”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的人   俯下身子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给人民当牛马</a:t>
            </a: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692000" y="2346480"/>
            <a:ext cx="14292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 rot="4983600">
            <a:off x="1953720" y="-65052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7">
            <a:hlinkClick r:id="" action="ppaction://hlinkshowjump?jump=nextslide"/>
          </p:cNvPr>
          <p:cNvSpPr/>
          <p:nvPr/>
        </p:nvSpPr>
        <p:spPr>
          <a:xfrm>
            <a:off x="7236000" y="5516640"/>
            <a:ext cx="936360" cy="93672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08">
                <a:moveTo>
                  <a:pt x="0" y="0"/>
                </a:moveTo>
                <a:lnTo>
                  <a:pt x="21600" y="0"/>
                </a:lnTo>
                <a:lnTo>
                  <a:pt x="21600" y="21608"/>
                </a:lnTo>
                <a:lnTo>
                  <a:pt x="0" y="21608"/>
                </a:lnTo>
                <a:close/>
              </a:path>
              <a:path fill="lightenLess" w="21600" h="216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8">
                <a:moveTo>
                  <a:pt x="21600" y="0"/>
                </a:moveTo>
                <a:lnTo>
                  <a:pt x="21600" y="21608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8">
                <a:moveTo>
                  <a:pt x="21600" y="21608"/>
                </a:moveTo>
                <a:lnTo>
                  <a:pt x="0" y="21608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8">
                <a:moveTo>
                  <a:pt x="0" y="216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  <a:path fill="darken" w="21600" h="21608">
                <a:moveTo>
                  <a:pt x="3794" y="3798"/>
                </a:moveTo>
                <a:lnTo>
                  <a:pt x="17806" y="10804"/>
                </a:lnTo>
                <a:lnTo>
                  <a:pt x="3794" y="17811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8">
            <a:hlinkClick r:id="" action="ppaction://hlinkshowjump?jump=previousslide"/>
          </p:cNvPr>
          <p:cNvSpPr/>
          <p:nvPr/>
        </p:nvSpPr>
        <p:spPr>
          <a:xfrm>
            <a:off x="6084720" y="5516640"/>
            <a:ext cx="935280" cy="93672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  <a:path fill="darken" w="21600" h="21633">
                <a:moveTo>
                  <a:pt x="3794" y="10817"/>
                </a:moveTo>
                <a:lnTo>
                  <a:pt x="17806" y="3810"/>
                </a:lnTo>
                <a:lnTo>
                  <a:pt x="17806" y="17823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-54183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09120" y="475920"/>
            <a:ext cx="8153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 的 人</a:t>
            </a: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活 着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他</a:t>
            </a: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 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已 经 </a:t>
            </a: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死 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了；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有 的 人 </a:t>
            </a: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死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了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他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还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活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">
            <a:hlinkClick r:id="" action="ppaction://hlinkshowjump?jump=nextslide"/>
          </p:cNvPr>
          <p:cNvSpPr/>
          <p:nvPr/>
        </p:nvSpPr>
        <p:spPr>
          <a:xfrm>
            <a:off x="7740720" y="537372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5">
            <a:hlinkClick r:id="" action="ppaction://hlinkshowjump?jump=previousslide"/>
          </p:cNvPr>
          <p:cNvSpPr/>
          <p:nvPr/>
        </p:nvSpPr>
        <p:spPr>
          <a:xfrm>
            <a:off x="6588000" y="5373720"/>
            <a:ext cx="936720" cy="9349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42" h="21600">
                <a:moveTo>
                  <a:pt x="0" y="0"/>
                </a:moveTo>
                <a:lnTo>
                  <a:pt x="21642" y="0"/>
                </a:lnTo>
                <a:lnTo>
                  <a:pt x="21642" y="21600"/>
                </a:lnTo>
                <a:lnTo>
                  <a:pt x="0" y="21600"/>
                </a:lnTo>
                <a:close/>
              </a:path>
              <a:path fill="lightenLess" w="21642" h="21600">
                <a:moveTo>
                  <a:pt x="0" y="0"/>
                </a:moveTo>
                <a:lnTo>
                  <a:pt x="21642" y="0"/>
                </a:lnTo>
                <a:lnTo>
                  <a:pt x="20242" y="1400"/>
                </a:lnTo>
                <a:lnTo>
                  <a:pt x="1400" y="1400"/>
                </a:lnTo>
                <a:close/>
              </a:path>
              <a:path fill="darken" w="21642" h="21600">
                <a:moveTo>
                  <a:pt x="21642" y="0"/>
                </a:moveTo>
                <a:lnTo>
                  <a:pt x="21642" y="21600"/>
                </a:lnTo>
                <a:lnTo>
                  <a:pt x="20242" y="20200"/>
                </a:lnTo>
                <a:lnTo>
                  <a:pt x="20242" y="1400"/>
                </a:lnTo>
                <a:close/>
              </a:path>
              <a:path fill="darkenLess" w="21642" h="21600">
                <a:moveTo>
                  <a:pt x="21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2" y="20200"/>
                </a:lnTo>
                <a:close/>
              </a:path>
              <a:path fill="lighten" w="21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2" h="21600">
                <a:moveTo>
                  <a:pt x="3814" y="10800"/>
                </a:moveTo>
                <a:lnTo>
                  <a:pt x="17827" y="3794"/>
                </a:lnTo>
                <a:lnTo>
                  <a:pt x="17827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2120" y="-5331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476000" y="404640"/>
            <a:ext cx="76676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的人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骑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在</a:t>
            </a: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人民头上</a:t>
            </a: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啊，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我</a:t>
            </a: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多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伟大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的人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俯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下身子</a:t>
            </a: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给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人民</a:t>
            </a: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当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牛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5">
            <a:hlinkClick r:id="" action="ppaction://hlinkshowjump?jump=nextslide"/>
          </p:cNvPr>
          <p:cNvSpPr/>
          <p:nvPr/>
        </p:nvSpPr>
        <p:spPr>
          <a:xfrm>
            <a:off x="7740720" y="537372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6">
            <a:hlinkClick r:id="" action="ppaction://hlinkshowjump?jump=previousslide"/>
          </p:cNvPr>
          <p:cNvSpPr/>
          <p:nvPr/>
        </p:nvSpPr>
        <p:spPr>
          <a:xfrm>
            <a:off x="6588000" y="5373720"/>
            <a:ext cx="936720" cy="9349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42" h="21600">
                <a:moveTo>
                  <a:pt x="0" y="0"/>
                </a:moveTo>
                <a:lnTo>
                  <a:pt x="21642" y="0"/>
                </a:lnTo>
                <a:lnTo>
                  <a:pt x="21642" y="21600"/>
                </a:lnTo>
                <a:lnTo>
                  <a:pt x="0" y="21600"/>
                </a:lnTo>
                <a:close/>
              </a:path>
              <a:path fill="lightenLess" w="21642" h="21600">
                <a:moveTo>
                  <a:pt x="0" y="0"/>
                </a:moveTo>
                <a:lnTo>
                  <a:pt x="21642" y="0"/>
                </a:lnTo>
                <a:lnTo>
                  <a:pt x="20242" y="1400"/>
                </a:lnTo>
                <a:lnTo>
                  <a:pt x="1400" y="1400"/>
                </a:lnTo>
                <a:close/>
              </a:path>
              <a:path fill="darken" w="21642" h="21600">
                <a:moveTo>
                  <a:pt x="21642" y="0"/>
                </a:moveTo>
                <a:lnTo>
                  <a:pt x="21642" y="21600"/>
                </a:lnTo>
                <a:lnTo>
                  <a:pt x="20242" y="20200"/>
                </a:lnTo>
                <a:lnTo>
                  <a:pt x="20242" y="1400"/>
                </a:lnTo>
                <a:close/>
              </a:path>
              <a:path fill="darkenLess" w="21642" h="21600">
                <a:moveTo>
                  <a:pt x="21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2" y="20200"/>
                </a:lnTo>
                <a:close/>
              </a:path>
              <a:path fill="lighten" w="21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2" h="21600">
                <a:moveTo>
                  <a:pt x="3814" y="10800"/>
                </a:moveTo>
                <a:lnTo>
                  <a:pt x="17827" y="3794"/>
                </a:lnTo>
                <a:lnTo>
                  <a:pt x="17827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1"/>
          <p:cNvSpPr/>
          <p:nvPr/>
        </p:nvSpPr>
        <p:spPr>
          <a:xfrm>
            <a:off x="703440" y="6308640"/>
            <a:ext cx="68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609480" y="476280"/>
            <a:ext cx="8283600" cy="69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方正楷体简体"/>
              </a:rPr>
              <a:t>改后的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人死了      他还活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人活着      他已经死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人说：“啊，我多伟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人却给人民当牛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4">
            <a:hlinkClick r:id="" action="ppaction://hlinkshowjump?jump=nextslide"/>
          </p:cNvPr>
          <p:cNvSpPr/>
          <p:nvPr/>
        </p:nvSpPr>
        <p:spPr>
          <a:xfrm>
            <a:off x="7740720" y="537372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">
            <a:hlinkClick r:id="" action="ppaction://hlinkshowjump?jump=previousslide"/>
          </p:cNvPr>
          <p:cNvSpPr/>
          <p:nvPr/>
        </p:nvSpPr>
        <p:spPr>
          <a:xfrm>
            <a:off x="6588000" y="5373720"/>
            <a:ext cx="936720" cy="9349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42" h="21600">
                <a:moveTo>
                  <a:pt x="0" y="0"/>
                </a:moveTo>
                <a:lnTo>
                  <a:pt x="21642" y="0"/>
                </a:lnTo>
                <a:lnTo>
                  <a:pt x="21642" y="21600"/>
                </a:lnTo>
                <a:lnTo>
                  <a:pt x="0" y="21600"/>
                </a:lnTo>
                <a:close/>
              </a:path>
              <a:path fill="lightenLess" w="21642" h="21600">
                <a:moveTo>
                  <a:pt x="0" y="0"/>
                </a:moveTo>
                <a:lnTo>
                  <a:pt x="21642" y="0"/>
                </a:lnTo>
                <a:lnTo>
                  <a:pt x="20242" y="1400"/>
                </a:lnTo>
                <a:lnTo>
                  <a:pt x="1400" y="1400"/>
                </a:lnTo>
                <a:close/>
              </a:path>
              <a:path fill="darken" w="21642" h="21600">
                <a:moveTo>
                  <a:pt x="21642" y="0"/>
                </a:moveTo>
                <a:lnTo>
                  <a:pt x="21642" y="21600"/>
                </a:lnTo>
                <a:lnTo>
                  <a:pt x="20242" y="20200"/>
                </a:lnTo>
                <a:lnTo>
                  <a:pt x="20242" y="1400"/>
                </a:lnTo>
                <a:close/>
              </a:path>
              <a:path fill="darkenLess" w="21642" h="21600">
                <a:moveTo>
                  <a:pt x="21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2" y="20200"/>
                </a:lnTo>
                <a:close/>
              </a:path>
              <a:path fill="lighten" w="21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2" h="21600">
                <a:moveTo>
                  <a:pt x="3814" y="10800"/>
                </a:moveTo>
                <a:lnTo>
                  <a:pt x="17827" y="3794"/>
                </a:lnTo>
                <a:lnTo>
                  <a:pt x="17827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46C5-ECD5-4868-B77B-CD2645542E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44:32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57:20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