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7230-DD53-4ECA-8ECB-774EE5EFE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68EE-902E-44FD-AAF2-5B104FFF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A04F-CCBE-4DA2-B342-C51BB392C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33A3-91AA-4DB5-A5F4-07A2A002F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5D00-7DE9-4142-9FE1-201FFD3A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2E2C-52F6-45EC-A38B-9D8BC488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A355-CB5A-424A-917E-40904983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35F3-E2E5-4B70-9E5E-9E062C527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D02C-66EF-4F2C-A0B3-97382DFE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0D04-BC28-423D-BDA8-78B4C882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BAAD-AD2C-4D5B-9661-A55957E9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3284-CB17-4C9E-A327-20BC8BE4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9FB2-A41E-4D8F-9B7D-75DCD7A1B2C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762120" y="16002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cc"/>
                </a:solidFill>
                <a:latin typeface="Arial"/>
                <a:ea typeface="方正姚体"/>
              </a:rPr>
              <a:t>用计算器探索规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457200" y="68580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990720" y="6094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五年级上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372240" y="635652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22"/>
          <p:cNvSpPr/>
          <p:nvPr/>
        </p:nvSpPr>
        <p:spPr>
          <a:xfrm>
            <a:off x="1981080" y="58579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3753000" y="399960"/>
            <a:ext cx="17524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÷33=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5153040" y="4572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0.0303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5172120" y="1143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0.0606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5210280" y="17812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0.0909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5238720" y="23623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0.1212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5257800" y="29718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0.1515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5267160" y="4221000"/>
            <a:ext cx="281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0.2121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5267160" y="3611520"/>
            <a:ext cx="250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0.1818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5276880" y="4830840"/>
            <a:ext cx="23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0.2424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2"/>
          <p:cNvSpPr/>
          <p:nvPr/>
        </p:nvSpPr>
        <p:spPr>
          <a:xfrm>
            <a:off x="3979080" y="426708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÷33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3"/>
          <p:cNvSpPr/>
          <p:nvPr/>
        </p:nvSpPr>
        <p:spPr>
          <a:xfrm>
            <a:off x="3979080" y="487692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÷33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8"/>
          <p:cNvSpPr/>
          <p:nvPr/>
        </p:nvSpPr>
        <p:spPr>
          <a:xfrm>
            <a:off x="3886200" y="36576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÷33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9"/>
          <p:cNvSpPr/>
          <p:nvPr/>
        </p:nvSpPr>
        <p:spPr>
          <a:xfrm>
            <a:off x="3979080" y="5486400"/>
            <a:ext cx="131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÷33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0"/>
          <p:cNvSpPr/>
          <p:nvPr/>
        </p:nvSpPr>
        <p:spPr>
          <a:xfrm>
            <a:off x="5257800" y="5440320"/>
            <a:ext cx="237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宋体"/>
              </a:rPr>
              <a:t>0.2727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6"/>
          <p:cNvSpPr/>
          <p:nvPr/>
        </p:nvSpPr>
        <p:spPr>
          <a:xfrm>
            <a:off x="3790800" y="1057320"/>
            <a:ext cx="17528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÷33=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7"/>
          <p:cNvSpPr/>
          <p:nvPr/>
        </p:nvSpPr>
        <p:spPr>
          <a:xfrm>
            <a:off x="3800520" y="1695600"/>
            <a:ext cx="17524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÷33=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8"/>
          <p:cNvSpPr/>
          <p:nvPr/>
        </p:nvSpPr>
        <p:spPr>
          <a:xfrm>
            <a:off x="3819600" y="2286000"/>
            <a:ext cx="17524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4÷33=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9"/>
          <p:cNvSpPr/>
          <p:nvPr/>
        </p:nvSpPr>
        <p:spPr>
          <a:xfrm>
            <a:off x="3838680" y="2895480"/>
            <a:ext cx="17524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÷33=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1981080" y="1752480"/>
            <a:ext cx="6019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3.33333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宋体"/>
              </a:rPr>
              <a:t>33333.4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3.333333×333333.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文本框 1"/>
          <p:cNvSpPr/>
          <p:nvPr/>
        </p:nvSpPr>
        <p:spPr>
          <a:xfrm>
            <a:off x="2174760" y="5916600"/>
            <a:ext cx="56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fcae"/>
            </a:gs>
            <a:gs pos="50000">
              <a:srgbClr val="ccff99"/>
            </a:gs>
            <a:gs pos="100000">
              <a:srgbClr val="b4fca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1905120" y="2362320"/>
            <a:ext cx="5790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99"/>
                </a:solidFill>
                <a:latin typeface="Arial"/>
              </a:rPr>
              <a:t>谢谢指导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3DD8-D2CE-4AAC-9E8A-A59900B0B34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8T09:59:1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2:36Z</dcterms:modified>
  <cp:revision>8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1</vt:r8>
  </property>
</Properties>
</file>