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621-4A95-4F22-BEF4-F8983C6F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933-0EDA-40AC-B1AC-463E1D53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00B-3174-4476-806B-EA818F23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852-996C-4F9D-A3D4-E93F61DE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4C0F-5204-47EB-BED2-D0D2490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A264-E012-45C7-A112-DD22403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B399-B1A8-4FA9-91C2-8EC11665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6ED-F6FF-4984-8CBE-A471DFDA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0C3B-2011-422F-B2BE-6608EAC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EE5-2CA9-4617-817C-8973396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9613-C746-481F-AEBD-DFEB81C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B7B-200C-416E-922F-44E539D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CE3-F672-4CD9-97E9-CCB8DFB5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D1E0-F04F-4442-9160-23A1D32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DBE-2515-4544-89B7-219E749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4E6D-DF45-4EF8-9B78-8A8D9831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944-40EC-465F-81A2-7A56FEB8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A99-40D9-4301-AE1C-96DFDAC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FCF-1312-4ED1-8B30-36B255EB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46E-8A1E-42C7-BC3F-F1C9C6E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572-B595-4800-B8A7-9B0E349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080-7168-4E66-9CF5-9D418CA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75F-54E8-44AA-9B78-076B664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DAC-8A43-4E85-A703-759ED63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ABB-3413-4F50-8E3C-2C0B6AC97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6D98-A4AE-45C9-8C6A-A56E18A07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eepp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3419640" y="549360"/>
            <a:ext cx="529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mic Sans MS"/>
                <a:ea typeface="宋体"/>
              </a:rPr>
              <a:t>义务教育课程标准实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Comic Sans MS"/>
                <a:ea typeface="宋体"/>
              </a:rPr>
              <a:t>教科书数学七年级上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WordArt 5" descr=""/>
          <p:cNvPicPr/>
          <p:nvPr/>
        </p:nvPicPr>
        <p:blipFill>
          <a:blip r:embed="rId2"/>
          <a:stretch/>
        </p:blipFill>
        <p:spPr>
          <a:xfrm>
            <a:off x="1482840" y="2697120"/>
            <a:ext cx="6248160" cy="1928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6"/>
          <p:cNvSpPr/>
          <p:nvPr/>
        </p:nvSpPr>
        <p:spPr>
          <a:xfrm>
            <a:off x="70920" y="59612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F66-64FF-4726-AE4E-235342461D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202760" y="548640"/>
            <a:ext cx="22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笔算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Object 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321080" cy="760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1793880" y="2275920"/>
            <a:ext cx="26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用计算器计算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ject 10" descr=""/>
          <p:cNvPicPr/>
          <p:nvPr/>
        </p:nvPicPr>
        <p:blipFill>
          <a:blip r:embed="rId2"/>
          <a:stretch/>
        </p:blipFill>
        <p:spPr>
          <a:xfrm>
            <a:off x="1619280" y="2852640"/>
            <a:ext cx="4535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321920" y="76428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计算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Object 5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1537920" y="119628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计算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Object 5" descr=""/>
          <p:cNvPicPr/>
          <p:nvPr/>
        </p:nvPicPr>
        <p:blipFill>
          <a:blip r:embed="rId1"/>
          <a:stretch/>
        </p:blipFill>
        <p:spPr>
          <a:xfrm>
            <a:off x="1042920" y="1719360"/>
            <a:ext cx="6394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11210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某公司去年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~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月平均每月亏损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~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月平均每月盈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7~1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月平均每月盈利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11~1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月平均每月亏损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这个公司去年总的盈亏情况如何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919160" y="112464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计算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ject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3581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00000" y="64080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探究题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甲、乙、丙、丁四人进行国际象棋比赛，规定胜者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和者各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负者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，由于裁判马虎，积分表中的记录不全，你能根据表中记录情况，把它补全，并能确定四人名次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-1160640" y="201312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77"/>
          <p:cNvSpPr/>
          <p:nvPr/>
        </p:nvSpPr>
        <p:spPr>
          <a:xfrm>
            <a:off x="2705040" y="2162160"/>
            <a:ext cx="46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76"/>
          <p:cNvSpPr/>
          <p:nvPr/>
        </p:nvSpPr>
        <p:spPr>
          <a:xfrm>
            <a:off x="2700360" y="3645000"/>
            <a:ext cx="3672000" cy="26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92360" y="3573360"/>
          <a:ext cx="6624720" cy="2846520"/>
        </p:xfrm>
        <a:graphic>
          <a:graphicData uri="http://schemas.openxmlformats.org/drawingml/2006/table">
            <a:tbl>
              <a:tblPr/>
              <a:tblGrid>
                <a:gridCol w="974880"/>
                <a:gridCol w="742680"/>
                <a:gridCol w="746280"/>
                <a:gridCol w="745920"/>
                <a:gridCol w="746280"/>
                <a:gridCol w="744480"/>
                <a:gridCol w="987480"/>
                <a:gridCol w="936720"/>
              </a:tblGrid>
              <a:tr h="518400">
                <a:tc row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决赛积分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971640" y="1267920"/>
            <a:ext cx="530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互为相反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c,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互为倒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绝对值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3614760" cy="1174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5219640" y="2564640"/>
            <a:ext cx="18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文本框 99"/>
          <p:cNvSpPr/>
          <p:nvPr/>
        </p:nvSpPr>
        <p:spPr>
          <a:xfrm>
            <a:off x="2143080" y="5549760"/>
            <a:ext cx="507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模板下载：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宋体"/>
                <a:hlinkClick r:id="rId2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24000" y="9759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3)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中国民航规定：乘坐飞机经济舱的旅客，一人最多可免费携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克行李，超过部分每千克按飞机票的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%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购买行李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一位乘坐经济舱的旅客付了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元的行李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他所乘航班的机票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这个旅客携带了多少千克的行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3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17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